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848850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A252C6-416D-4BD5-A7A0-891E413E3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y Foilset for 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CD started distributing the Bus Master IDE drivers worldw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on 3-22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Benchmarks show Bus Master improvement over P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Lowers CPU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Increases Video Playbac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rovides Scalability when adding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CD encourages OEMs to validate and ship these driver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maximum system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OEMs should use PCD drivers now and switch to Microsoft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drivers whe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Importance of Bus Master to Pentium(R) Pro processo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should be understood and awareness raised with OEMs.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upcoming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(Rev 2.0) will help with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teral available to O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 3 Drivers (WW12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OEM Foilset (WW12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DCL (WW12) (includes new auto install instructions for Windows 95*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- then, on approximately WW17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Intel 440FX PCIset Performance Brief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ll be availab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l field should continue to use the QA accounts on Notes for Qs &amp; As and working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lease notes supplied with the drivers list 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DDs and CD-ROMs are supported. Above is a par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st summarized from the Windows 95* dri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D tests PIO drive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’s important that OEMs ask for drives that support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le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MA Multiword 1” wit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ference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DMA Multiword 2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rivers support a minimum of DMA Singleword 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word 1 is in the middle (but better than Singleword 2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word 2 is the preferred. These are the bus mastering dr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validate the Bus Master drivers on the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igured systems before shi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magazines are showing benchmarks that Bus Master can help: example s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Magazine*, April 23, 1996, “Hot Home PC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nchmarks listed in this article are  “Frames Dropped” and “CPU Utilization”. These are some of the benchmarks that Bus Master IDE improv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river Version numbers included in this releas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95* Driver - version 2.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Driver - version 1.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 OS/2* Driver       - version 2.0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use these drivers for the platforms no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3.5“ diskette can hold all 3 self extract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 Vendors (HDD and CD-ROM) will be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his latest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new auto install and uninstall work great with Windows 95*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and IBM OS/2* drivers still requir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ual sequences. Instructions are in the driver pack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SHDC.INF file must be modified to add an ex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a in the text string. See Appnote for more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ive to the October ‘95 Bus Master driver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the Intel 430FX PCIset, all three of these new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 CD-R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lease notes supplied with the drivers list 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DDs and CD-ROMs are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data as of 4-10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irst “CD ROM CPU Utilization” number of 45%  is an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generic disk transfers. With PIO the CPU Utilization was 48%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it’s 3%. The improvement is 48-3 = 45%. How to 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Winbench ‘96* ver 1.0, Run -&gt; “Selected Tests” and look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D-ROM/CPU Util T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“play rate” number may not be intuitive. The numb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least 30, as in 30 frames per second (fps) for smooth video.The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ye will percieve interruptions (not enough screen updates)below 30 F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provides headroom in the system for both hard di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CD-ROM configu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D Customer Reference Board --&gt; Intel 430HX PCI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6MHz Pentium(R) processor , 256KB PB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MB --&gt; 60ns 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deo = DS 2020XL*, PCI,  Trio64V+ 2MB 60ns EDO*, Driver rev. 4.02.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M - WD31200* ,  PIO Mode 4, DMA M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 - TEAC  6x Model 102*, PIO Mode 3, DMA M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eative Labs Value SB16*, BM--&gt; 220, Irq--&gt; 9, DMA--&gt; 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data as of 4-10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ease Note: The Pentium(R) Pro processor numbers sh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ve are running on Windows NT*, not Windows 95* a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revious foil.  No direct comparison between the two foil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ied. Code overhead and different revs of OS’s can effect the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PU Utilization explanation see the previous speake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 will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ow the effect of multiple drives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results show PIO performance hitting a brick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just 2 drives in system while overall disk throughput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increases with additional di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40FX PCIset Customer Reference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MHz Pentium(R) Pro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2MB EDO 60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amond Stealth 64 4MB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antum  FB640A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 will also show that MPEG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s with Bus Master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Windows 95* in the June/July timeframe: Microsoft* sh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hipping their own driver enhanced with a “timings.vsd”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m PCD that optimizes timings for Intel’s PCI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not wait to ship these drivers, especiall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driver. There can be a significant time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soft ships their own driver for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hrink Wrap licence supplied with each driver will cover O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R for FAEs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low I/O subsystem can reduce system performance dra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multitasking OSs so prevalent now, bus master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ke Aymar presentation at WinHEC went over well, 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chitectures of the Future”. Mike showed a compelling demo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luded Bus Mastering. A foilset on the Intel web sit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ing Balanced Platforms” shows the platform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ving the CPU  move drive data is not a good idea. New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ologies will continue to depend on DMA fo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448400" y="66600"/>
            <a:ext cx="2124000" cy="3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92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l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47520" y="7077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08000" y="7101000"/>
            <a:ext cx="647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CD Mkt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064360" y="6713640"/>
            <a:ext cx="1432080" cy="569880"/>
            <a:chOff x="8064360" y="6713640"/>
            <a:chExt cx="1432080" cy="569880"/>
          </a:xfrm>
        </p:grpSpPr>
        <p:grpSp>
          <p:nvGrpSpPr>
            <p:cNvPr id="4" name=""/>
            <p:cNvGrpSpPr/>
            <p:nvPr/>
          </p:nvGrpSpPr>
          <p:grpSpPr>
            <a:xfrm>
              <a:off x="8140680" y="6713640"/>
              <a:ext cx="1193760" cy="376200"/>
              <a:chOff x="8140680" y="6713640"/>
              <a:chExt cx="1193760" cy="37620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140680" y="6713640"/>
                <a:ext cx="1179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61200" y="6730920"/>
                <a:ext cx="1173240" cy="3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145360" y="6721560"/>
                <a:ext cx="1177920" cy="35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" name=""/>
            <p:cNvSpPr txBox="1"/>
            <p:nvPr/>
          </p:nvSpPr>
          <p:spPr>
            <a:xfrm>
              <a:off x="8064360" y="7050240"/>
              <a:ext cx="143208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nents Division</a:t>
              </a:r>
              <a:r>
                <a:rPr b="1" i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47520" y="66600"/>
            <a:ext cx="824040" cy="698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279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155520" y="6497640"/>
            <a:ext cx="714240" cy="389160"/>
            <a:chOff x="155520" y="6497640"/>
            <a:chExt cx="714240" cy="389160"/>
          </a:xfrm>
        </p:grpSpPr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155520" y="6497640"/>
              <a:ext cx="5824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708120" y="6699240"/>
              <a:ext cx="55440" cy="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601560" y="6681960"/>
              <a:ext cx="268200" cy="20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 txBox="1"/>
          <p:nvPr/>
        </p:nvSpPr>
        <p:spPr>
          <a:xfrm>
            <a:off x="1123920" y="142920"/>
            <a:ext cx="3191040" cy="3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92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 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 txBox="1"/>
          <p:nvPr/>
        </p:nvSpPr>
        <p:spPr>
          <a:xfrm>
            <a:off x="6661080" y="6775560"/>
            <a:ext cx="1314360" cy="2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-10-96      Page </a:t>
            </a:r>
            <a:fld id="{82D20D02-F6E2-4D46-8AAB-94479802FA6C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946080" y="6831000"/>
            <a:ext cx="44197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1320" y="878040"/>
            <a:ext cx="65311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Intel Bus Master IDE Drivers for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Windows 95*, NT*, and IBM OS/2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28960" y="1971720"/>
            <a:ext cx="7010280" cy="39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R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s Mastering Performance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S Vendo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Trends toward Bus Mast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108320" y="420840"/>
            <a:ext cx="19479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43160" y="981000"/>
            <a:ext cx="777240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ivers Available to OEM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d on 3-22-96, Available through Intel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marks show Bus Master improvement over PIO and throughput gains when drives are add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l encourages OEMs to validate and ship these drivers for maximum system performance and MM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ology Enab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Pentium(R) Pro processor systems using the Intel 440FX PCI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 provides tangible performance gains and lowers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EMs should use Intel Drivers now, then switch to Microsoft* drivers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019240" y="458640"/>
            <a:ext cx="612468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Backup:</a:t>
            </a:r>
            <a:br>
              <a:rPr sz="28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us Mastering Hard Drives and CD-ROMs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pported by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71760" y="2733840"/>
            <a:ext cx="792468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71760" y="4772160"/>
            <a:ext cx="8077320" cy="781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403280" y="4545000"/>
            <a:ext cx="2470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Bus Mastering CD-ROM Driv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2487600"/>
            <a:ext cx="2190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Bus Mastering Hard Driv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90520" y="16668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EM’s should ask for drives that suppo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DMA Multi Word 1”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feren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DMA Multi Word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1000" y="6546960"/>
            <a:ext cx="644508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complete list of both Bus Master and PIO drives tested, refer to the README.TXT included with each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43160" y="5553000"/>
            <a:ext cx="7696080" cy="7621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55920" y="5737320"/>
            <a:ext cx="7356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Significant List of Vendors offering Bus Master Dr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49840" y="420840"/>
            <a:ext cx="246528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90520" y="11336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 #1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marks in this foilset show Bus Master improvement over 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owers CPU Utilization: from 48% to 3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reases Video Playback Performance: better vide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vides Scalability when adding drives: more overall thoughput 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 #2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Pentium(R) Pro processor systems using the Intel 440FX PCI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EMs should use Intel Drivers now, then switch to Microsoft* drivers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4560" y="5477040"/>
            <a:ext cx="8153280" cy="9907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51000" y="5661000"/>
            <a:ext cx="79326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IDE Enhances the I/O Subsystem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of Intel PCIset based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35200" y="573120"/>
            <a:ext cx="29415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O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4560" y="1209600"/>
            <a:ext cx="8229600" cy="52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Inf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Drivers were Released to OEMs on March 22,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Bus Master IDE driv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 95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 NT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BM OS/2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ivers support: Intel 430FX, 430HX, 430VX, 440FX PCI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driver works for both 82371FB PIIX and 82371SB PIIX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EMs can preload with systems or load on their 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OEM ver of Windows 95: “MSHDC.INF” file must be mod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Intel PIIX3 Appnote #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95* Support for PIIX3 IDE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ation is in English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rink Wrap License supplied with each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s OEMs on use and distribu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65680" y="878040"/>
            <a:ext cx="27385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90520" y="189540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 Install/Uninstall for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one-button install for retail and OEM version of Windows 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 version must have MSHDC.INF file modified before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ature Integrated into driver “.EXE”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ructions are also attached to the DC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drivers have Bus Master capability for CD-R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rlier released drivers either ran CD-ROMs in PIO m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id not fully support Bus Master CD-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ivers support a significant list of Bus Mastering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Backup Foil for List of HDD and CD-ROM driv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490840" y="420840"/>
            <a:ext cx="5176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erformance Overview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Pentium(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) processor PCI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90520" y="1362240"/>
            <a:ext cx="7848720" cy="13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vs PIO in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Winbench 96* and Intel 430HX PCIset eval platform w 166 MHz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nchmark and VIDEO player improvements shown bel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49320" y="4200480"/>
            <a:ext cx="4122720" cy="131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68880" y="4181400"/>
            <a:ext cx="455616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43280" y="2479680"/>
            <a:ext cx="6564240" cy="137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317680" y="3803760"/>
            <a:ext cx="5038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: No improvement on Winstone (0 %) since this benchmark is single tas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4560" y="5781600"/>
            <a:ext cx="8153280" cy="68580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27320" y="5965920"/>
            <a:ext cx="78836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Enables Smooth Video for HDD and CD-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46400" y="725400"/>
            <a:ext cx="567072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erformance Overview 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Pentium(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) Pro processor PC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8240" y="1819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vs PIO in Windows 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Winbench 96* and Intel 440FX PCIset eval platfor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27360" y="3975120"/>
            <a:ext cx="4159080" cy="1308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17760" y="2705040"/>
            <a:ext cx="6643800" cy="97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43160" y="5477040"/>
            <a:ext cx="7543800" cy="106668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31880" y="5661000"/>
            <a:ext cx="69390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offers Great Disk Performance, L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     </a:t>
            </a: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CPU Utilization and Enables Smooth Vide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603440" y="687240"/>
            <a:ext cx="711036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Bus Master vs. PIO When Adding Drives: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Impact on Overall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90520" y="494352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forms in PIO: Throughput is basically flat when drives ar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forms in Bus Master: Throughput improves when drives ar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00080" y="1666800"/>
            <a:ext cx="409104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02080" y="1666800"/>
            <a:ext cx="4121280" cy="2733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631880" y="4545000"/>
            <a:ext cx="2573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30HX PCIset bas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899320" y="4545000"/>
            <a:ext cx="25560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40FX PCIset bas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61920" y="5781600"/>
            <a:ext cx="8458200" cy="7621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22400" y="6000840"/>
            <a:ext cx="8313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Bus Master provides your I/O Subsystem with Scalable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95720" y="344520"/>
            <a:ext cx="3776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OS Vendo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66840" y="90504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-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D Driver was submitted to MS for certification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9x OPK2 Release in approx. June/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s should use MS driver in June/July timefr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- Windows 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D Driver was submitted to MS for certification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NT driver avail from MS in approx. Q1 ‘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Because of the extended timeframe above: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EMs should use the Intel Driver now,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then switch to Microsoft driver in Q1 ‘97 timefr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M - OS/2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r source code was submitted to OS/2 Driver Group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/2 (Merlin) Release in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36640" y="5986440"/>
            <a:ext cx="673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Marching toward long term goal of OS vendor ow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and distributing driver in their general OS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6840" y="5857920"/>
            <a:ext cx="7696080" cy="91440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52680" y="878040"/>
            <a:ext cx="7367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System Trends toward Bus Ma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4560" y="1666800"/>
            <a:ext cx="8610480" cy="48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st Subsystems will continue to demand more throughput from the I/O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ing helps I/O to keep up with ever increasing system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Multitasking Benchmarks will indicate capabili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ing is part of MM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ology Ena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WinHEC present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Partitioning the PC to Achieve a Balanced System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L: http://www.intel.com/pc-supp/events/winhec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ing is also a requirement for MPC3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 Drive Technologies will continue to Bus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rive technologies emphasize DMA (not CPU) to move driv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tasking OSs and scalable systems will drive thi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Pat Correia</dc:creator>
  <dc:description>Upgraded foilset w WinHEC andcorrelated benchmarks</dc:description>
  <dc:language>en-US</dc:language>
  <cp:lastModifiedBy>Patrick A. Correia</cp:lastModifiedBy>
  <cp:revision>0</cp:revision>
  <dc:subject>POR and Collateral Update for OEMs</dc:subject>
  <dc:title>Bus Master Driver Update- WW15</dc:title>
</cp:coreProperties>
</file>