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wmf" ContentType="image/x-wmf"/>
  <Override PartName="/ppt/media/image126.wmf" ContentType="image/x-wmf"/>
  <Override PartName="/ppt/media/image1.wmf" ContentType="image/x-wmf"/>
  <Override PartName="/ppt/media/image4.wmf" ContentType="image/x-wmf"/>
  <Override PartName="/ppt/media/image13.wmf" ContentType="image/x-wmf"/>
  <Override PartName="/ppt/media/image81.wmf" ContentType="image/x-wmf"/>
  <Override PartName="/ppt/media/image110.png" ContentType="image/png"/>
  <Override PartName="/ppt/media/image34.wmf" ContentType="image/x-wmf"/>
  <Override PartName="/ppt/media/image5.wmf" ContentType="image/x-wmf"/>
  <Override PartName="/ppt/media/image35.wmf" ContentType="image/x-wmf"/>
  <Override PartName="/ppt/media/image107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9.wmf" ContentType="image/x-wmf"/>
  <Override PartName="/ppt/media/image36.wmf" ContentType="image/x-wmf"/>
  <Override PartName="/ppt/media/image26.png" ContentType="image/png"/>
  <Override PartName="/ppt/media/image108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37.wmf" ContentType="image/x-wmf"/>
  <Override PartName="/ppt/media/image27.png" ContentType="image/png"/>
  <Override PartName="/ppt/media/image25.png" ContentType="image/png"/>
  <Override PartName="/ppt/media/image109.wmf" ContentType="image/x-wmf"/>
  <Override PartName="/ppt/media/image49.wmf" ContentType="image/x-wmf"/>
  <Override PartName="/ppt/media/image100.wmf" ContentType="image/x-wmf"/>
  <Override PartName="/ppt/media/image33.png" ContentType="image/png"/>
  <Override PartName="/ppt/media/image8.wmf" ContentType="image/x-wmf"/>
  <Override PartName="/ppt/media/image17.wmf" ContentType="image/x-wmf"/>
  <Override PartName="/ppt/media/image85.wmf" ContentType="image/x-wmf"/>
  <Override PartName="/ppt/media/image38.wmf" ContentType="image/x-wmf"/>
  <Override PartName="/ppt/media/image50.wmf" ContentType="image/x-wmf"/>
  <Override PartName="/ppt/media/image28.png" ContentType="image/png"/>
  <Override PartName="/ppt/media/image30.png" ContentType="image/png"/>
  <Override PartName="/ppt/media/image98.wmf" ContentType="image/x-wmf"/>
  <Override PartName="/ppt/media/image29.png" ContentType="image/png"/>
  <Override PartName="/ppt/media/image51.wmf" ContentType="image/x-wmf"/>
  <Override PartName="/ppt/media/image31.png" ContentType="image/png"/>
  <Override PartName="/ppt/media/image99.wmf" ContentType="image/x-wmf"/>
  <Override PartName="/ppt/media/image52.wmf" ContentType="image/x-wmf"/>
  <Override PartName="/ppt/media/image32.png" ContentType="image/png"/>
  <Override PartName="/ppt/media/image53.wmf" ContentType="image/x-wmf"/>
  <Override PartName="/ppt/media/image56.wmf" ContentType="image/x-wmf"/>
  <Override PartName="/ppt/media/image57.wmf" ContentType="image/x-wmf"/>
  <Override PartName="/ppt/media/image58.wmf" ContentType="image/x-wmf"/>
  <Override PartName="/ppt/media/image59.wmf" ContentType="image/x-wmf"/>
  <Override PartName="/ppt/media/image54.wmf" ContentType="image/x-wmf"/>
  <Override PartName="/ppt/media/image128.wmf" ContentType="image/x-wmf"/>
  <Override PartName="/ppt/media/image55.wmf" ContentType="image/x-wmf"/>
  <Override PartName="/ppt/media/image129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9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82.wmf" ContentType="image/x-wmf"/>
  <Override PartName="/ppt/media/image14.wmf" ContentType="image/x-wmf"/>
  <Override PartName="/ppt/media/image2.wmf" ContentType="image/x-wmf"/>
  <Override PartName="/ppt/media/image20.png" ContentType="image/png"/>
  <Override PartName="/ppt/media/image88.wmf" ContentType="image/x-wmf"/>
  <Override PartName="/ppt/media/image21.png" ContentType="image/png"/>
  <Override PartName="/ppt/media/image89.wmf" ContentType="image/x-wmf"/>
  <Override PartName="/ppt/media/image22.png" ContentType="image/png"/>
  <Override PartName="/ppt/media/image23.png" ContentType="image/png"/>
  <Override PartName="/ppt/media/image24.png" ContentType="image/png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79.wmf" ContentType="image/x-wmf"/>
  <Override PartName="/ppt/media/image19.wmf" ContentType="image/x-wmf"/>
  <Override PartName="/ppt/media/image87.wmf" ContentType="image/x-wmf"/>
  <Override PartName="/ppt/media/image90.wmf" ContentType="image/x-wmf"/>
  <Override PartName="/ppt/media/image91.wmf" ContentType="image/x-wmf"/>
  <Override PartName="/ppt/media/image92.wmf" ContentType="image/x-wmf"/>
  <Override PartName="/ppt/media/image93.wmf" ContentType="image/x-wmf"/>
  <Override PartName="/ppt/media/image94.wmf" ContentType="image/x-wmf"/>
  <Override PartName="/ppt/media/image95.wmf" ContentType="image/x-wmf"/>
  <Override PartName="/ppt/media/image96.wmf" ContentType="image/x-wmf"/>
  <Override PartName="/ppt/media/image97.wmf" ContentType="image/x-wmf"/>
  <Override PartName="/ppt/media/image101.wmf" ContentType="image/x-wmf"/>
  <Override PartName="/ppt/media/image102.wmf" ContentType="image/x-wmf"/>
  <Override PartName="/ppt/media/image103.wmf" ContentType="image/x-wmf"/>
  <Override PartName="/ppt/media/image104.wmf" ContentType="image/x-wmf"/>
  <Override PartName="/ppt/media/image105.wmf" ContentType="image/x-wmf"/>
  <Override PartName="/ppt/media/image106.wmf" ContentType="image/x-wmf"/>
  <Override PartName="/ppt/media/image111.wmf" ContentType="image/x-wmf"/>
  <Override PartName="/ppt/media/image112.wmf" ContentType="image/x-wmf"/>
  <Override PartName="/ppt/media/image113.wmf" ContentType="image/x-wmf"/>
  <Override PartName="/ppt/media/image114.wmf" ContentType="image/x-wmf"/>
  <Override PartName="/ppt/media/image115.wmf" ContentType="image/x-wmf"/>
  <Override PartName="/ppt/media/image116.wmf" ContentType="image/x-wmf"/>
  <Override PartName="/ppt/media/image117.wmf" ContentType="image/x-wmf"/>
  <Override PartName="/ppt/media/image118.wmf" ContentType="image/x-wmf"/>
  <Override PartName="/ppt/media/image119.wmf" ContentType="image/x-wmf"/>
  <Override PartName="/ppt/media/image121.wmf" ContentType="image/x-wmf"/>
  <Override PartName="/ppt/media/image122.wmf" ContentType="image/x-wmf"/>
  <Override PartName="/ppt/media/image123.wmf" ContentType="image/x-wmf"/>
  <Override PartName="/ppt/media/image124.wmf" ContentType="image/x-wmf"/>
  <Override PartName="/ppt/media/image1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794320" y="870444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d49fff"/>
                </a:solidFill>
                <a:latin typeface="Arial"/>
              </a:rPr>
              <a:t>Page </a:t>
            </a:r>
            <a:fld id="{70F9C4F0-1369-4AB0-A7E9-6130123BD330}" type="slidenum">
              <a:rPr b="0" lang="en-US" sz="1200" spc="-1" strike="noStrike">
                <a:solidFill>
                  <a:srgbClr val="d49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212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3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8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5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252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6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6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3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7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44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1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11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47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5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48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0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308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6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49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7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3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87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6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5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55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61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71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81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91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01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11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21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27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33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39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45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4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142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51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44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57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44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69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45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75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46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81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96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2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3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29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35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8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5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4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550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9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8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6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56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6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9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7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7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8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6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92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8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82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87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0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606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6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9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83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88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1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620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8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3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3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6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4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648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2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7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6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6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662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9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5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7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676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0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5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8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690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4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9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8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0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70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5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0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59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1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718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6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6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3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732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7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4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746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5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760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82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3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7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77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83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8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788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84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4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3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0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802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85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1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816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8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30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9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7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8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18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88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84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57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89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85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89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7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872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90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86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90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9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87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92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9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900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88620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49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0" y="868212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8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90676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d49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d49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wmf"/><Relationship Id="rId8" Type="http://schemas.openxmlformats.org/officeDocument/2006/relationships/image" Target="../media/image49.wmf"/><Relationship Id="rId9" Type="http://schemas.openxmlformats.org/officeDocument/2006/relationships/image" Target="../media/image50.wmf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61.wmf"/><Relationship Id="rId7" Type="http://schemas.openxmlformats.org/officeDocument/2006/relationships/image" Target="../media/image62.wmf"/><Relationship Id="rId8" Type="http://schemas.openxmlformats.org/officeDocument/2006/relationships/image" Target="../media/image63.wmf"/><Relationship Id="rId9" Type="http://schemas.openxmlformats.org/officeDocument/2006/relationships/image" Target="../media/image64.wmf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image" Target="../media/image71.wmf"/><Relationship Id="rId8" Type="http://schemas.openxmlformats.org/officeDocument/2006/relationships/image" Target="../media/image72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image" Target="../media/image71.wmf"/><Relationship Id="rId8" Type="http://schemas.openxmlformats.org/officeDocument/2006/relationships/image" Target="../media/image72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image" Target="../media/image76.wmf"/><Relationship Id="rId5" Type="http://schemas.openxmlformats.org/officeDocument/2006/relationships/image" Target="../media/image77.wmf"/><Relationship Id="rId6" Type="http://schemas.openxmlformats.org/officeDocument/2006/relationships/image" Target="../media/image78.wmf"/><Relationship Id="rId7" Type="http://schemas.openxmlformats.org/officeDocument/2006/relationships/image" Target="../media/image79.wmf"/><Relationship Id="rId8" Type="http://schemas.openxmlformats.org/officeDocument/2006/relationships/image" Target="../media/image80.wmf"/><Relationship Id="rId9" Type="http://schemas.openxmlformats.org/officeDocument/2006/relationships/image" Target="../media/image81.wmf"/><Relationship Id="rId10" Type="http://schemas.openxmlformats.org/officeDocument/2006/relationships/image" Target="../media/image82.wmf"/><Relationship Id="rId11" Type="http://schemas.openxmlformats.org/officeDocument/2006/relationships/image" Target="../media/image83.wmf"/><Relationship Id="rId12" Type="http://schemas.openxmlformats.org/officeDocument/2006/relationships/image" Target="../media/image84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6.wmf"/><Relationship Id="rId3" Type="http://schemas.openxmlformats.org/officeDocument/2006/relationships/image" Target="../media/image87.wmf"/><Relationship Id="rId4" Type="http://schemas.openxmlformats.org/officeDocument/2006/relationships/image" Target="../media/image88.wmf"/><Relationship Id="rId5" Type="http://schemas.openxmlformats.org/officeDocument/2006/relationships/image" Target="../media/image89.wmf"/><Relationship Id="rId6" Type="http://schemas.openxmlformats.org/officeDocument/2006/relationships/image" Target="../media/image90.wmf"/><Relationship Id="rId7" Type="http://schemas.openxmlformats.org/officeDocument/2006/relationships/image" Target="../media/image91.wmf"/><Relationship Id="rId8" Type="http://schemas.openxmlformats.org/officeDocument/2006/relationships/image" Target="../media/image92.wmf"/><Relationship Id="rId9" Type="http://schemas.openxmlformats.org/officeDocument/2006/relationships/image" Target="../media/image93.wmf"/><Relationship Id="rId10" Type="http://schemas.openxmlformats.org/officeDocument/2006/relationships/image" Target="../media/image94.wmf"/><Relationship Id="rId11" Type="http://schemas.openxmlformats.org/officeDocument/2006/relationships/image" Target="../media/image95.wmf"/><Relationship Id="rId12" Type="http://schemas.openxmlformats.org/officeDocument/2006/relationships/image" Target="../media/image96.wmf"/><Relationship Id="rId13" Type="http://schemas.openxmlformats.org/officeDocument/2006/relationships/image" Target="../media/image97.wmf"/><Relationship Id="rId14" Type="http://schemas.openxmlformats.org/officeDocument/2006/relationships/image" Target="../media/image98.wmf"/><Relationship Id="rId15" Type="http://schemas.openxmlformats.org/officeDocument/2006/relationships/image" Target="../media/image99.wmf"/><Relationship Id="rId16" Type="http://schemas.openxmlformats.org/officeDocument/2006/relationships/slideLayout" Target="../slideLayouts/slideLayout3.xml"/><Relationship Id="rId1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0.wmf"/><Relationship Id="rId2" Type="http://schemas.openxmlformats.org/officeDocument/2006/relationships/image" Target="../media/image101.wmf"/><Relationship Id="rId3" Type="http://schemas.openxmlformats.org/officeDocument/2006/relationships/image" Target="../media/image102.wmf"/><Relationship Id="rId4" Type="http://schemas.openxmlformats.org/officeDocument/2006/relationships/image" Target="../media/image103.wmf"/><Relationship Id="rId5" Type="http://schemas.openxmlformats.org/officeDocument/2006/relationships/image" Target="../media/image104.wmf"/><Relationship Id="rId6" Type="http://schemas.openxmlformats.org/officeDocument/2006/relationships/image" Target="../media/image105.wmf"/><Relationship Id="rId7" Type="http://schemas.openxmlformats.org/officeDocument/2006/relationships/image" Target="../media/image106.wmf"/><Relationship Id="rId8" Type="http://schemas.openxmlformats.org/officeDocument/2006/relationships/image" Target="../media/image107.wmf"/><Relationship Id="rId9" Type="http://schemas.openxmlformats.org/officeDocument/2006/relationships/image" Target="../media/image108.wmf"/><Relationship Id="rId10" Type="http://schemas.openxmlformats.org/officeDocument/2006/relationships/image" Target="../media/image10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11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image" Target="../media/image11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image" Target="../media/image115.wmf"/><Relationship Id="rId4" Type="http://schemas.openxmlformats.org/officeDocument/2006/relationships/image" Target="../media/image116.wmf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image" Target="../media/image119.wmf"/><Relationship Id="rId8" Type="http://schemas.openxmlformats.org/officeDocument/2006/relationships/image" Target="../media/image120.wmf"/><Relationship Id="rId9" Type="http://schemas.openxmlformats.org/officeDocument/2006/relationships/image" Target="../media/image121.wmf"/><Relationship Id="rId10" Type="http://schemas.openxmlformats.org/officeDocument/2006/relationships/image" Target="../media/image122.wmf"/><Relationship Id="rId11" Type="http://schemas.openxmlformats.org/officeDocument/2006/relationships/image" Target="../media/image123.wmf"/><Relationship Id="rId12" Type="http://schemas.openxmlformats.org/officeDocument/2006/relationships/image" Target="../media/image124.wmf"/><Relationship Id="rId13" Type="http://schemas.openxmlformats.org/officeDocument/2006/relationships/image" Target="../media/image125.wmf"/><Relationship Id="rId14" Type="http://schemas.openxmlformats.org/officeDocument/2006/relationships/image" Target="../media/image126.wmf"/><Relationship Id="rId15" Type="http://schemas.openxmlformats.org/officeDocument/2006/relationships/image" Target="../media/image127.wmf"/><Relationship Id="rId16" Type="http://schemas.openxmlformats.org/officeDocument/2006/relationships/image" Target="../media/image128.wmf"/><Relationship Id="rId17" Type="http://schemas.openxmlformats.org/officeDocument/2006/relationships/image" Target="../media/image129.wmf"/><Relationship Id="rId18" Type="http://schemas.openxmlformats.org/officeDocument/2006/relationships/slideLayout" Target="../slideLayouts/slideLayout3.xml"/><Relationship Id="rId19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50532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Distributed Processing Technology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 Technical Present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43200" y="1752480"/>
            <a:ext cx="3887640" cy="938160"/>
            <a:chOff x="2743200" y="1752480"/>
            <a:chExt cx="3887640" cy="938160"/>
          </a:xfrm>
        </p:grpSpPr>
        <p:sp>
          <p:nvSpPr>
            <p:cNvPr id="50" name=""/>
            <p:cNvSpPr/>
            <p:nvPr/>
          </p:nvSpPr>
          <p:spPr>
            <a:xfrm>
              <a:off x="4210200" y="1857240"/>
              <a:ext cx="9586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57760" y="1755720"/>
              <a:ext cx="1042920" cy="933480"/>
            </a:xfrm>
            <a:custGeom>
              <a:avLst/>
              <a:gdLst/>
              <a:ahLst/>
              <a:rect l="l" t="t" r="r" b="b"/>
              <a:pathLst>
                <a:path w="657" h="588">
                  <a:moveTo>
                    <a:pt x="655" y="334"/>
                  </a:moveTo>
                  <a:lnTo>
                    <a:pt x="643" y="369"/>
                  </a:lnTo>
                  <a:lnTo>
                    <a:pt x="618" y="418"/>
                  </a:lnTo>
                  <a:lnTo>
                    <a:pt x="585" y="464"/>
                  </a:lnTo>
                  <a:lnTo>
                    <a:pt x="538" y="509"/>
                  </a:lnTo>
                  <a:lnTo>
                    <a:pt x="502" y="533"/>
                  </a:lnTo>
                  <a:lnTo>
                    <a:pt x="480" y="545"/>
                  </a:lnTo>
                  <a:lnTo>
                    <a:pt x="472" y="547"/>
                  </a:lnTo>
                  <a:lnTo>
                    <a:pt x="401" y="568"/>
                  </a:lnTo>
                  <a:lnTo>
                    <a:pt x="187" y="586"/>
                  </a:lnTo>
                  <a:lnTo>
                    <a:pt x="0" y="587"/>
                  </a:lnTo>
                  <a:lnTo>
                    <a:pt x="7" y="545"/>
                  </a:lnTo>
                  <a:lnTo>
                    <a:pt x="72" y="0"/>
                  </a:lnTo>
                  <a:lnTo>
                    <a:pt x="359" y="6"/>
                  </a:lnTo>
                  <a:lnTo>
                    <a:pt x="432" y="16"/>
                  </a:lnTo>
                  <a:lnTo>
                    <a:pt x="499" y="35"/>
                  </a:lnTo>
                  <a:lnTo>
                    <a:pt x="537" y="51"/>
                  </a:lnTo>
                  <a:lnTo>
                    <a:pt x="572" y="73"/>
                  </a:lnTo>
                  <a:lnTo>
                    <a:pt x="588" y="85"/>
                  </a:lnTo>
                  <a:lnTo>
                    <a:pt x="601" y="100"/>
                  </a:lnTo>
                  <a:lnTo>
                    <a:pt x="614" y="116"/>
                  </a:lnTo>
                  <a:lnTo>
                    <a:pt x="625" y="133"/>
                  </a:lnTo>
                  <a:lnTo>
                    <a:pt x="634" y="152"/>
                  </a:lnTo>
                  <a:lnTo>
                    <a:pt x="642" y="173"/>
                  </a:lnTo>
                  <a:lnTo>
                    <a:pt x="648" y="194"/>
                  </a:lnTo>
                  <a:lnTo>
                    <a:pt x="656" y="245"/>
                  </a:lnTo>
                  <a:lnTo>
                    <a:pt x="655" y="3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83040" y="1754280"/>
              <a:ext cx="881280" cy="936360"/>
            </a:xfrm>
            <a:custGeom>
              <a:avLst/>
              <a:gdLst/>
              <a:ahLst/>
              <a:rect l="l" t="t" r="r" b="b"/>
              <a:pathLst>
                <a:path w="555" h="590">
                  <a:moveTo>
                    <a:pt x="508" y="59"/>
                  </a:moveTo>
                  <a:lnTo>
                    <a:pt x="522" y="77"/>
                  </a:lnTo>
                  <a:lnTo>
                    <a:pt x="536" y="98"/>
                  </a:lnTo>
                  <a:lnTo>
                    <a:pt x="548" y="130"/>
                  </a:lnTo>
                  <a:lnTo>
                    <a:pt x="552" y="145"/>
                  </a:lnTo>
                  <a:lnTo>
                    <a:pt x="554" y="175"/>
                  </a:lnTo>
                  <a:lnTo>
                    <a:pt x="553" y="194"/>
                  </a:lnTo>
                  <a:lnTo>
                    <a:pt x="550" y="204"/>
                  </a:lnTo>
                  <a:lnTo>
                    <a:pt x="544" y="225"/>
                  </a:lnTo>
                  <a:lnTo>
                    <a:pt x="537" y="244"/>
                  </a:lnTo>
                  <a:lnTo>
                    <a:pt x="524" y="267"/>
                  </a:lnTo>
                  <a:lnTo>
                    <a:pt x="505" y="290"/>
                  </a:lnTo>
                  <a:lnTo>
                    <a:pt x="479" y="315"/>
                  </a:lnTo>
                  <a:lnTo>
                    <a:pt x="455" y="331"/>
                  </a:lnTo>
                  <a:lnTo>
                    <a:pt x="426" y="345"/>
                  </a:lnTo>
                  <a:lnTo>
                    <a:pt x="390" y="357"/>
                  </a:lnTo>
                  <a:lnTo>
                    <a:pt x="358" y="363"/>
                  </a:lnTo>
                  <a:lnTo>
                    <a:pt x="321" y="366"/>
                  </a:lnTo>
                  <a:lnTo>
                    <a:pt x="295" y="365"/>
                  </a:lnTo>
                  <a:lnTo>
                    <a:pt x="290" y="364"/>
                  </a:lnTo>
                  <a:lnTo>
                    <a:pt x="212" y="241"/>
                  </a:lnTo>
                  <a:lnTo>
                    <a:pt x="172" y="589"/>
                  </a:lnTo>
                  <a:lnTo>
                    <a:pt x="0" y="589"/>
                  </a:lnTo>
                  <a:lnTo>
                    <a:pt x="66" y="66"/>
                  </a:lnTo>
                  <a:lnTo>
                    <a:pt x="70" y="0"/>
                  </a:lnTo>
                  <a:lnTo>
                    <a:pt x="347" y="5"/>
                  </a:lnTo>
                  <a:lnTo>
                    <a:pt x="421" y="16"/>
                  </a:lnTo>
                  <a:lnTo>
                    <a:pt x="452" y="25"/>
                  </a:lnTo>
                  <a:lnTo>
                    <a:pt x="479" y="37"/>
                  </a:lnTo>
                  <a:lnTo>
                    <a:pt x="494" y="47"/>
                  </a:lnTo>
                  <a:lnTo>
                    <a:pt x="508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97440" y="1752480"/>
              <a:ext cx="833400" cy="936720"/>
            </a:xfrm>
            <a:custGeom>
              <a:avLst/>
              <a:gdLst/>
              <a:ahLst/>
              <a:rect l="l" t="t" r="r" b="b"/>
              <a:pathLst>
                <a:path w="525" h="590">
                  <a:moveTo>
                    <a:pt x="15" y="0"/>
                  </a:moveTo>
                  <a:lnTo>
                    <a:pt x="524" y="0"/>
                  </a:lnTo>
                  <a:lnTo>
                    <a:pt x="510" y="126"/>
                  </a:lnTo>
                  <a:lnTo>
                    <a:pt x="338" y="126"/>
                  </a:lnTo>
                  <a:lnTo>
                    <a:pt x="279" y="589"/>
                  </a:lnTo>
                  <a:lnTo>
                    <a:pt x="104" y="589"/>
                  </a:lnTo>
                  <a:lnTo>
                    <a:pt x="161" y="126"/>
                  </a:lnTo>
                  <a:lnTo>
                    <a:pt x="0" y="127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57640" y="1960560"/>
              <a:ext cx="473040" cy="519120"/>
            </a:xfrm>
            <a:custGeom>
              <a:avLst/>
              <a:gdLst/>
              <a:ahLst/>
              <a:rect l="l" t="t" r="r" b="b"/>
              <a:pathLst>
                <a:path w="298" h="327">
                  <a:moveTo>
                    <a:pt x="37" y="0"/>
                  </a:moveTo>
                  <a:lnTo>
                    <a:pt x="130" y="1"/>
                  </a:lnTo>
                  <a:lnTo>
                    <a:pt x="176" y="9"/>
                  </a:lnTo>
                  <a:lnTo>
                    <a:pt x="204" y="18"/>
                  </a:lnTo>
                  <a:lnTo>
                    <a:pt x="224" y="29"/>
                  </a:lnTo>
                  <a:lnTo>
                    <a:pt x="236" y="37"/>
                  </a:lnTo>
                  <a:lnTo>
                    <a:pt x="253" y="51"/>
                  </a:lnTo>
                  <a:lnTo>
                    <a:pt x="264" y="64"/>
                  </a:lnTo>
                  <a:lnTo>
                    <a:pt x="271" y="73"/>
                  </a:lnTo>
                  <a:lnTo>
                    <a:pt x="283" y="94"/>
                  </a:lnTo>
                  <a:lnTo>
                    <a:pt x="293" y="122"/>
                  </a:lnTo>
                  <a:lnTo>
                    <a:pt x="296" y="139"/>
                  </a:lnTo>
                  <a:lnTo>
                    <a:pt x="297" y="155"/>
                  </a:lnTo>
                  <a:lnTo>
                    <a:pt x="296" y="172"/>
                  </a:lnTo>
                  <a:lnTo>
                    <a:pt x="292" y="189"/>
                  </a:lnTo>
                  <a:lnTo>
                    <a:pt x="282" y="215"/>
                  </a:lnTo>
                  <a:lnTo>
                    <a:pt x="271" y="236"/>
                  </a:lnTo>
                  <a:lnTo>
                    <a:pt x="266" y="243"/>
                  </a:lnTo>
                  <a:lnTo>
                    <a:pt x="263" y="247"/>
                  </a:lnTo>
                  <a:lnTo>
                    <a:pt x="250" y="261"/>
                  </a:lnTo>
                  <a:lnTo>
                    <a:pt x="234" y="276"/>
                  </a:lnTo>
                  <a:lnTo>
                    <a:pt x="204" y="297"/>
                  </a:lnTo>
                  <a:lnTo>
                    <a:pt x="199" y="299"/>
                  </a:lnTo>
                  <a:lnTo>
                    <a:pt x="176" y="310"/>
                  </a:lnTo>
                  <a:lnTo>
                    <a:pt x="144" y="319"/>
                  </a:lnTo>
                  <a:lnTo>
                    <a:pt x="107" y="324"/>
                  </a:lnTo>
                  <a:lnTo>
                    <a:pt x="0" y="326"/>
                  </a:lnTo>
                  <a:lnTo>
                    <a:pt x="35" y="0"/>
                  </a:lnTo>
                  <a:lnTo>
                    <a:pt x="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29360" y="1963800"/>
              <a:ext cx="257040" cy="160200"/>
            </a:xfrm>
            <a:custGeom>
              <a:avLst/>
              <a:gdLst/>
              <a:ahLst/>
              <a:rect l="l" t="t" r="r" b="b"/>
              <a:pathLst>
                <a:path w="162" h="101">
                  <a:moveTo>
                    <a:pt x="12" y="0"/>
                  </a:moveTo>
                  <a:lnTo>
                    <a:pt x="116" y="1"/>
                  </a:lnTo>
                  <a:lnTo>
                    <a:pt x="127" y="3"/>
                  </a:lnTo>
                  <a:lnTo>
                    <a:pt x="131" y="5"/>
                  </a:lnTo>
                  <a:lnTo>
                    <a:pt x="139" y="10"/>
                  </a:lnTo>
                  <a:lnTo>
                    <a:pt x="155" y="23"/>
                  </a:lnTo>
                  <a:lnTo>
                    <a:pt x="158" y="29"/>
                  </a:lnTo>
                  <a:lnTo>
                    <a:pt x="160" y="37"/>
                  </a:lnTo>
                  <a:lnTo>
                    <a:pt x="161" y="43"/>
                  </a:lnTo>
                  <a:lnTo>
                    <a:pt x="161" y="52"/>
                  </a:lnTo>
                  <a:lnTo>
                    <a:pt x="160" y="58"/>
                  </a:lnTo>
                  <a:lnTo>
                    <a:pt x="158" y="66"/>
                  </a:lnTo>
                  <a:lnTo>
                    <a:pt x="155" y="73"/>
                  </a:lnTo>
                  <a:lnTo>
                    <a:pt x="149" y="79"/>
                  </a:lnTo>
                  <a:lnTo>
                    <a:pt x="143" y="85"/>
                  </a:lnTo>
                  <a:lnTo>
                    <a:pt x="131" y="92"/>
                  </a:lnTo>
                  <a:lnTo>
                    <a:pt x="120" y="97"/>
                  </a:lnTo>
                  <a:lnTo>
                    <a:pt x="118" y="97"/>
                  </a:lnTo>
                  <a:lnTo>
                    <a:pt x="114" y="99"/>
                  </a:lnTo>
                  <a:lnTo>
                    <a:pt x="107" y="100"/>
                  </a:lnTo>
                  <a:lnTo>
                    <a:pt x="0" y="100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33600" y="1754280"/>
              <a:ext cx="462240" cy="934920"/>
            </a:xfrm>
            <a:custGeom>
              <a:avLst/>
              <a:gdLst/>
              <a:ahLst/>
              <a:rect l="l" t="t" r="r" b="b"/>
              <a:pathLst>
                <a:path w="291" h="589">
                  <a:moveTo>
                    <a:pt x="290" y="0"/>
                  </a:moveTo>
                  <a:lnTo>
                    <a:pt x="290" y="94"/>
                  </a:lnTo>
                  <a:lnTo>
                    <a:pt x="160" y="130"/>
                  </a:lnTo>
                  <a:lnTo>
                    <a:pt x="99" y="154"/>
                  </a:lnTo>
                  <a:lnTo>
                    <a:pt x="68" y="171"/>
                  </a:lnTo>
                  <a:lnTo>
                    <a:pt x="10" y="588"/>
                  </a:lnTo>
                  <a:lnTo>
                    <a:pt x="0" y="588"/>
                  </a:lnTo>
                  <a:lnTo>
                    <a:pt x="61" y="82"/>
                  </a:lnTo>
                  <a:lnTo>
                    <a:pt x="200" y="21"/>
                  </a:lnTo>
                  <a:lnTo>
                    <a:pt x="268" y="4"/>
                  </a:lnTo>
                  <a:lnTo>
                    <a:pt x="290" y="0"/>
                  </a:lnTo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95520" y="1954080"/>
              <a:ext cx="401760" cy="735120"/>
            </a:xfrm>
            <a:custGeom>
              <a:avLst/>
              <a:gdLst/>
              <a:ahLst/>
              <a:rect l="l" t="t" r="r" b="b"/>
              <a:pathLst>
                <a:path w="253" h="463">
                  <a:moveTo>
                    <a:pt x="252" y="0"/>
                  </a:moveTo>
                  <a:lnTo>
                    <a:pt x="251" y="75"/>
                  </a:lnTo>
                  <a:lnTo>
                    <a:pt x="135" y="101"/>
                  </a:lnTo>
                  <a:lnTo>
                    <a:pt x="81" y="120"/>
                  </a:lnTo>
                  <a:lnTo>
                    <a:pt x="59" y="130"/>
                  </a:lnTo>
                  <a:lnTo>
                    <a:pt x="12" y="462"/>
                  </a:lnTo>
                  <a:lnTo>
                    <a:pt x="0" y="462"/>
                  </a:lnTo>
                  <a:lnTo>
                    <a:pt x="52" y="66"/>
                  </a:lnTo>
                  <a:lnTo>
                    <a:pt x="96" y="44"/>
                  </a:lnTo>
                  <a:lnTo>
                    <a:pt x="206" y="9"/>
                  </a:lnTo>
                  <a:lnTo>
                    <a:pt x="252" y="0"/>
                  </a:lnTo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2111400"/>
              <a:ext cx="341280" cy="577800"/>
            </a:xfrm>
            <a:custGeom>
              <a:avLst/>
              <a:gdLst/>
              <a:ahLst/>
              <a:rect l="l" t="t" r="r" b="b"/>
              <a:pathLst>
                <a:path w="215" h="364">
                  <a:moveTo>
                    <a:pt x="214" y="0"/>
                  </a:moveTo>
                  <a:lnTo>
                    <a:pt x="213" y="78"/>
                  </a:lnTo>
                  <a:lnTo>
                    <a:pt x="94" y="105"/>
                  </a:lnTo>
                  <a:lnTo>
                    <a:pt x="50" y="123"/>
                  </a:lnTo>
                  <a:lnTo>
                    <a:pt x="15" y="363"/>
                  </a:lnTo>
                  <a:lnTo>
                    <a:pt x="0" y="363"/>
                  </a:lnTo>
                  <a:lnTo>
                    <a:pt x="47" y="48"/>
                  </a:lnTo>
                  <a:lnTo>
                    <a:pt x="113" y="24"/>
                  </a:lnTo>
                  <a:lnTo>
                    <a:pt x="188" y="5"/>
                  </a:lnTo>
                  <a:lnTo>
                    <a:pt x="214" y="0"/>
                  </a:lnTo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25840" y="2274840"/>
              <a:ext cx="271440" cy="414360"/>
            </a:xfrm>
            <a:custGeom>
              <a:avLst/>
              <a:gdLst/>
              <a:ahLst/>
              <a:rect l="l" t="t" r="r" b="b"/>
              <a:pathLst>
                <a:path w="171" h="261">
                  <a:moveTo>
                    <a:pt x="170" y="0"/>
                  </a:moveTo>
                  <a:lnTo>
                    <a:pt x="169" y="260"/>
                  </a:lnTo>
                  <a:lnTo>
                    <a:pt x="0" y="260"/>
                  </a:lnTo>
                  <a:lnTo>
                    <a:pt x="30" y="39"/>
                  </a:lnTo>
                  <a:lnTo>
                    <a:pt x="42" y="34"/>
                  </a:lnTo>
                  <a:lnTo>
                    <a:pt x="68" y="24"/>
                  </a:lnTo>
                  <a:lnTo>
                    <a:pt x="103" y="14"/>
                  </a:lnTo>
                  <a:lnTo>
                    <a:pt x="170" y="0"/>
                  </a:lnTo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43200" y="1754280"/>
              <a:ext cx="468360" cy="934920"/>
            </a:xfrm>
            <a:custGeom>
              <a:avLst/>
              <a:gdLst/>
              <a:ahLst/>
              <a:rect l="l" t="t" r="r" b="b"/>
              <a:pathLst>
                <a:path w="295" h="589">
                  <a:moveTo>
                    <a:pt x="0" y="0"/>
                  </a:moveTo>
                  <a:lnTo>
                    <a:pt x="0" y="94"/>
                  </a:lnTo>
                  <a:lnTo>
                    <a:pt x="139" y="133"/>
                  </a:lnTo>
                  <a:lnTo>
                    <a:pt x="194" y="154"/>
                  </a:lnTo>
                  <a:lnTo>
                    <a:pt x="226" y="171"/>
                  </a:lnTo>
                  <a:lnTo>
                    <a:pt x="284" y="588"/>
                  </a:lnTo>
                  <a:lnTo>
                    <a:pt x="294" y="588"/>
                  </a:lnTo>
                  <a:lnTo>
                    <a:pt x="232" y="82"/>
                  </a:lnTo>
                  <a:lnTo>
                    <a:pt x="91" y="21"/>
                  </a:lnTo>
                  <a:lnTo>
                    <a:pt x="24" y="4"/>
                  </a:lnTo>
                  <a:lnTo>
                    <a:pt x="0" y="0"/>
                  </a:lnTo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43200" y="1957320"/>
              <a:ext cx="406440" cy="731880"/>
            </a:xfrm>
            <a:custGeom>
              <a:avLst/>
              <a:gdLst/>
              <a:ahLst/>
              <a:rect l="l" t="t" r="r" b="b"/>
              <a:pathLst>
                <a:path w="256" h="461">
                  <a:moveTo>
                    <a:pt x="1" y="0"/>
                  </a:moveTo>
                  <a:lnTo>
                    <a:pt x="0" y="72"/>
                  </a:lnTo>
                  <a:lnTo>
                    <a:pt x="118" y="98"/>
                  </a:lnTo>
                  <a:lnTo>
                    <a:pt x="172" y="118"/>
                  </a:lnTo>
                  <a:lnTo>
                    <a:pt x="195" y="128"/>
                  </a:lnTo>
                  <a:lnTo>
                    <a:pt x="243" y="460"/>
                  </a:lnTo>
                  <a:lnTo>
                    <a:pt x="255" y="460"/>
                  </a:lnTo>
                  <a:lnTo>
                    <a:pt x="203" y="64"/>
                  </a:lnTo>
                  <a:lnTo>
                    <a:pt x="138" y="35"/>
                  </a:lnTo>
                  <a:lnTo>
                    <a:pt x="26" y="6"/>
                  </a:lnTo>
                  <a:lnTo>
                    <a:pt x="1" y="0"/>
                  </a:lnTo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43200" y="2114640"/>
              <a:ext cx="344520" cy="574560"/>
            </a:xfrm>
            <a:custGeom>
              <a:avLst/>
              <a:gdLst/>
              <a:ahLst/>
              <a:rect l="l" t="t" r="r" b="b"/>
              <a:pathLst>
                <a:path w="217" h="362">
                  <a:moveTo>
                    <a:pt x="1" y="0"/>
                  </a:moveTo>
                  <a:lnTo>
                    <a:pt x="0" y="76"/>
                  </a:lnTo>
                  <a:lnTo>
                    <a:pt x="120" y="104"/>
                  </a:lnTo>
                  <a:lnTo>
                    <a:pt x="165" y="121"/>
                  </a:lnTo>
                  <a:lnTo>
                    <a:pt x="200" y="361"/>
                  </a:lnTo>
                  <a:lnTo>
                    <a:pt x="216" y="361"/>
                  </a:lnTo>
                  <a:lnTo>
                    <a:pt x="169" y="47"/>
                  </a:lnTo>
                  <a:lnTo>
                    <a:pt x="70" y="14"/>
                  </a:lnTo>
                  <a:lnTo>
                    <a:pt x="1" y="0"/>
                  </a:lnTo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3200" y="2274840"/>
              <a:ext cx="274680" cy="414360"/>
            </a:xfrm>
            <a:custGeom>
              <a:avLst/>
              <a:gdLst/>
              <a:ahLst/>
              <a:rect l="l" t="t" r="r" b="b"/>
              <a:pathLst>
                <a:path w="173" h="261">
                  <a:moveTo>
                    <a:pt x="0" y="0"/>
                  </a:moveTo>
                  <a:lnTo>
                    <a:pt x="0" y="260"/>
                  </a:lnTo>
                  <a:lnTo>
                    <a:pt x="172" y="260"/>
                  </a:lnTo>
                  <a:lnTo>
                    <a:pt x="141" y="39"/>
                  </a:lnTo>
                  <a:lnTo>
                    <a:pt x="103" y="24"/>
                  </a:lnTo>
                  <a:lnTo>
                    <a:pt x="68" y="14"/>
                  </a:lnTo>
                  <a:lnTo>
                    <a:pt x="0" y="0"/>
                  </a:lnTo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21400" y="5349960"/>
            <a:ext cx="73882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Kearney, Technical Support Manager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07-830-5522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ail: kearney@dpt.com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22560" y="2070000"/>
            <a:ext cx="241200" cy="161316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13000" y="3975120"/>
            <a:ext cx="3861000" cy="27936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37040" y="3670200"/>
            <a:ext cx="4089240" cy="2034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Mixing Wide &amp; Narrow SCSI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240" y="5181480"/>
            <a:ext cx="8913960" cy="1447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88000"/>
          </a:bodyPr>
          <a:p>
            <a:pPr marL="2512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TERNAL DEVICE TERMINATES LOW &amp; HIGH B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12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DEVICE TERMINATES LOWER 8 B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12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ER SET FOR “HIGH ONLY” TO TERMINATE HIGH 8 B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137160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1523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13360" y="1555920"/>
            <a:ext cx="1636920" cy="393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mination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873440" y="3581280"/>
            <a:ext cx="1479240" cy="695520"/>
            <a:chOff x="1873440" y="3581280"/>
            <a:chExt cx="1479240" cy="69552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1976400" y="3581280"/>
              <a:ext cx="1376280" cy="6955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235" name=""/>
            <p:cNvSpPr/>
            <p:nvPr/>
          </p:nvSpPr>
          <p:spPr>
            <a:xfrm>
              <a:off x="1873440" y="3726000"/>
              <a:ext cx="145368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troller</a:t>
              </a:r>
              <a:endParaRPr b="0" lang="en-US" sz="18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2832120" y="1612800"/>
            <a:ext cx="660240" cy="58428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2958840" y="4025520"/>
            <a:ext cx="863640" cy="7873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74200" y="39178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8-BIT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21920" y="2622600"/>
            <a:ext cx="1553040" cy="393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 8-BIT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46920" y="3441600"/>
            <a:ext cx="888840" cy="88920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95840" y="4680000"/>
            <a:ext cx="2031480" cy="393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 DEVICES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0" y="2774880"/>
            <a:ext cx="2374560" cy="393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RROW DEVICE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03920" y="4101840"/>
            <a:ext cx="1346040" cy="7110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155600" y="1968480"/>
            <a:ext cx="1650960" cy="7113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32320" y="3060720"/>
            <a:ext cx="355680" cy="66024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263760" y="3048120"/>
            <a:ext cx="116856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1120" y="2070000"/>
            <a:ext cx="1041480" cy="18036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263760" y="1981080"/>
            <a:ext cx="292104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56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Narrow vs Wide SCSI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800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Width - 8 b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er Rate - 10 M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x. of  7 de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s a 50-pin SCSI C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x. 3 Meters Total Cable Length @ 10 M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um 12” Between De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 Rules of Termination App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114800" cy="44197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Width - 16 b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er Rate - 10 M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x. of 15 De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s a 68-pin SCSI C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x. 3 Meters Total Cable Length @ 10 M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um 12” Between De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 Rules of Termination Appl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56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Fast SCSI 2 vs Ultra SCSI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267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Width - 8 b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er Rate - 10 M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x. of  7 de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s a 50-pin SCSI C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x. 3 Meters Total Cable Length @ 10 M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um 12” Between De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 Rules of Termination App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114800" cy="4800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Width - 16 b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er Rate - 20 M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s a 68-pin SCSI C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x. 4 Devices evenly spaced w/3 Meter Cable Max 8 Devices evenly spaced w/1.5 Meter C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 Rules of Termination Appl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56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067680" cy="91440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SCSI Interface Comparison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09480" y="1295280"/>
          <a:ext cx="8077320" cy="536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077320" cy="5367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232323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7010640" cy="1752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Hardware and Software Caching 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496880" y="520560"/>
          <a:ext cx="628992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20560"/>
                    <a:ext cx="628992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235240" y="1650960"/>
          <a:ext cx="442764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35240" y="1650960"/>
                    <a:ext cx="44276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6493680" y="1631880"/>
            <a:ext cx="9237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CG Times (W1)"/>
              </a:rPr>
              <a:t>IV</a:t>
            </a:r>
            <a:endParaRPr b="0" lang="en-US" sz="6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afd00"/>
                </a:solidFill>
                <a:latin typeface="Arial"/>
              </a:rPr>
              <a:t>Cache Management Algorithms</a:t>
            </a:r>
            <a:endParaRPr b="1" lang="en-US" sz="5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Cach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350080" y="4010040"/>
            <a:ext cx="5841000" cy="1429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le Writes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 % Dirty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HOST’s IRQ Pending Line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33560" y="3259080"/>
            <a:ext cx="4092480" cy="576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Back Cache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13720" y="2590920"/>
            <a:ext cx="4343040" cy="515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ulative Read-Ahead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02200" y="915840"/>
            <a:ext cx="958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3000" y="430200"/>
            <a:ext cx="3091680" cy="15591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i="1" lang="en-US" sz="5000" spc="-1" strike="noStrike">
                <a:solidFill>
                  <a:srgbClr val="fafd00"/>
                </a:solidFill>
                <a:latin typeface="Arial"/>
              </a:rPr>
              <a:t>OS Cache</a:t>
            </a:r>
            <a:endParaRPr b="0" lang="en-US" sz="50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i="1" lang="en-US" sz="5000" spc="-1" strike="noStrike">
                <a:solidFill>
                  <a:srgbClr val="fafd00"/>
                </a:solidFill>
                <a:latin typeface="Arial"/>
              </a:rPr>
              <a:t>Strategy </a:t>
            </a:r>
            <a:endParaRPr b="0" lang="en-US" sz="5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4800" y="2440080"/>
            <a:ext cx="1647720" cy="12682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4280" y="2765520"/>
            <a:ext cx="13359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95320" y="3044880"/>
            <a:ext cx="1015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38680" y="2440080"/>
            <a:ext cx="1649160" cy="12682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57160" y="2765520"/>
            <a:ext cx="4201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93360" y="3044880"/>
            <a:ext cx="7354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969240" y="2440080"/>
            <a:ext cx="1647720" cy="12682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88720" y="2765520"/>
            <a:ext cx="5709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130160" y="3044880"/>
            <a:ext cx="1306800" cy="30996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262240" y="2921040"/>
            <a:ext cx="1673280" cy="0"/>
          </a:xfrm>
          <a:prstGeom prst="line">
            <a:avLst/>
          </a:prstGeom>
          <a:ln w="12708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17680" y="3359160"/>
            <a:ext cx="1417680" cy="0"/>
          </a:xfrm>
          <a:prstGeom prst="line">
            <a:avLst/>
          </a:prstGeom>
          <a:ln w="12708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460480" y="3149640"/>
            <a:ext cx="1600200" cy="0"/>
          </a:xfrm>
          <a:prstGeom prst="line">
            <a:avLst/>
          </a:prstGeom>
          <a:ln w="127080">
            <a:solidFill>
              <a:srgbClr val="00e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361960" y="4362120"/>
            <a:ext cx="4895640" cy="1924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iminate Disk Read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pone Disk Wri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02200" y="915840"/>
            <a:ext cx="958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300640" y="3198960"/>
            <a:ext cx="1625760" cy="3301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173320" y="3198960"/>
            <a:ext cx="1625400" cy="3301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4800" y="2720880"/>
            <a:ext cx="1647720" cy="126864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4280" y="3046320"/>
            <a:ext cx="13359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95320" y="3322800"/>
            <a:ext cx="1015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38680" y="2720880"/>
            <a:ext cx="1649160" cy="126864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57160" y="3046320"/>
            <a:ext cx="4201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93360" y="3322800"/>
            <a:ext cx="7354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69240" y="2720880"/>
            <a:ext cx="1647720" cy="126864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70840" y="3046320"/>
            <a:ext cx="12063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211880" y="3322800"/>
            <a:ext cx="1143720" cy="30996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89200" y="1697040"/>
            <a:ext cx="2387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600" spc="-1" strike="noStrike">
                <a:solidFill>
                  <a:srgbClr val="fcfeb9"/>
                </a:solidFill>
                <a:latin typeface="Arial"/>
              </a:rPr>
              <a:t>Reads : Writes</a:t>
            </a:r>
            <a:endParaRPr b="0" lang="en-US" sz="2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621160" y="2117880"/>
            <a:ext cx="75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3 : 1</a:t>
            </a:r>
            <a:endParaRPr b="0" lang="en-US" sz="2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52960" y="1700280"/>
            <a:ext cx="2387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600" spc="-1" strike="noStrike">
                <a:solidFill>
                  <a:srgbClr val="fcfeb9"/>
                </a:solidFill>
                <a:latin typeface="Arial"/>
              </a:rPr>
              <a:t>Reads : Writes</a:t>
            </a:r>
            <a:endParaRPr b="0" lang="en-US" sz="2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48560" y="2104920"/>
            <a:ext cx="75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1 : 1</a:t>
            </a:r>
            <a:endParaRPr b="0" lang="en-US" sz="2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94000" y="4230720"/>
            <a:ext cx="2978640" cy="538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300" spc="-1" strike="noStrike">
                <a:solidFill>
                  <a:srgbClr val="dc0081"/>
                </a:solidFill>
                <a:latin typeface="Arial"/>
              </a:rPr>
              <a:t>66% Read Hits</a:t>
            </a:r>
            <a:endParaRPr b="0" lang="en-US" sz="33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14560" y="270000"/>
            <a:ext cx="7049520" cy="7059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Arial"/>
              </a:rPr>
              <a:t>OS Cache Reduces Reads</a:t>
            </a:r>
            <a:endParaRPr b="0" lang="en-US" sz="4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800" y="5040360"/>
            <a:ext cx="8276760" cy="9903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i="1" lang="en-US" sz="3300" spc="-1" strike="noStrike">
                <a:solidFill>
                  <a:srgbClr val="fafd00"/>
                </a:solidFill>
                <a:latin typeface="Arial"/>
              </a:rPr>
              <a:t>All Writes Must be Written to Disk </a:t>
            </a:r>
            <a:endParaRPr b="0" lang="en-US" sz="33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i="1" lang="en-US" sz="3300" spc="-1" strike="noStrike">
                <a:solidFill>
                  <a:srgbClr val="fafd00"/>
                </a:solidFill>
                <a:latin typeface="Arial"/>
              </a:rPr>
              <a:t>Before CPU can Process Next Command</a:t>
            </a:r>
            <a:endParaRPr b="0" lang="en-US" sz="33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23280" y="1230480"/>
            <a:ext cx="1707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900 : 300)</a:t>
            </a:r>
            <a:endParaRPr b="0" lang="en-US" sz="2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68320" y="1239840"/>
            <a:ext cx="1707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300 : 300)</a:t>
            </a:r>
            <a:endParaRPr b="0" lang="en-US" sz="26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52680" y="423720"/>
            <a:ext cx="6287400" cy="125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LIGHTLY LOADED</a:t>
            </a:r>
            <a:endParaRPr b="0" lang="en-US" sz="40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SERVER-CLASS SYSTEM</a:t>
            </a:r>
            <a:endParaRPr b="0" lang="en-US" sz="4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25720" y="3470400"/>
            <a:ext cx="5565960" cy="114120"/>
          </a:xfrm>
          <a:prstGeom prst="rect">
            <a:avLst/>
          </a:prstGeom>
          <a:solidFill>
            <a:srgbClr val="dc0081"/>
          </a:solidFill>
          <a:ln w="1260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8800" y="3206880"/>
            <a:ext cx="1582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s activity:</a:t>
            </a:r>
            <a:endParaRPr b="0" lang="en-US" sz="2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94400" y="3297240"/>
            <a:ext cx="1200240" cy="160200"/>
          </a:xfrm>
          <a:prstGeom prst="rect">
            <a:avLst/>
          </a:prstGeom>
          <a:solidFill>
            <a:srgbClr val="8cf4ea"/>
          </a:solidFill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25720" y="3297240"/>
            <a:ext cx="1200240" cy="160200"/>
          </a:xfrm>
          <a:prstGeom prst="rect">
            <a:avLst/>
          </a:prstGeom>
          <a:solidFill>
            <a:srgbClr val="8cf4ea"/>
          </a:solidFill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64520" y="3297240"/>
            <a:ext cx="227160" cy="160200"/>
          </a:xfrm>
          <a:prstGeom prst="rect">
            <a:avLst/>
          </a:prstGeom>
          <a:solidFill>
            <a:srgbClr val="8cf4ea"/>
          </a:solidFill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68600" y="2820960"/>
            <a:ext cx="910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Bus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Idle time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0880" y="2208240"/>
            <a:ext cx="2715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Application programs</a:t>
            </a:r>
            <a:endParaRPr b="0" lang="en-US" sz="2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520" y="2514600"/>
            <a:ext cx="237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write to OS cache:</a:t>
            </a:r>
            <a:endParaRPr b="0" lang="en-US" sz="2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9720" y="3997440"/>
            <a:ext cx="3245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OS cache flushes to disk:</a:t>
            </a:r>
            <a:endParaRPr b="0" lang="en-US" sz="2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96400" y="4305240"/>
            <a:ext cx="2806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(up to 20ms per write)</a:t>
            </a:r>
            <a:endParaRPr b="0" lang="en-US" sz="2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92000" y="2803680"/>
            <a:ext cx="910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Bus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Idle time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008160" y="2158920"/>
            <a:ext cx="1006560" cy="1000080"/>
            <a:chOff x="3008160" y="2158920"/>
            <a:chExt cx="1006560" cy="1000080"/>
          </a:xfrm>
        </p:grpSpPr>
        <p:sp>
          <p:nvSpPr>
            <p:cNvPr id="343" name=""/>
            <p:cNvSpPr/>
            <p:nvPr/>
          </p:nvSpPr>
          <p:spPr>
            <a:xfrm>
              <a:off x="3008160" y="2158920"/>
              <a:ext cx="0" cy="100008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60880" y="2158920"/>
              <a:ext cx="0" cy="100008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11440" y="2158920"/>
              <a:ext cx="0" cy="100008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63800" y="2158920"/>
              <a:ext cx="0" cy="100008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14720" y="2158920"/>
              <a:ext cx="0" cy="100008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703840" y="2193840"/>
            <a:ext cx="1006560" cy="1000080"/>
            <a:chOff x="5703840" y="2193840"/>
            <a:chExt cx="1006560" cy="1000080"/>
          </a:xfrm>
        </p:grpSpPr>
        <p:sp>
          <p:nvSpPr>
            <p:cNvPr id="349" name=""/>
            <p:cNvSpPr/>
            <p:nvPr/>
          </p:nvSpPr>
          <p:spPr>
            <a:xfrm>
              <a:off x="5703840" y="2193840"/>
              <a:ext cx="0" cy="100008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56200" y="2193840"/>
              <a:ext cx="0" cy="100008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07120" y="2193840"/>
              <a:ext cx="0" cy="100008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59480" y="2193840"/>
              <a:ext cx="0" cy="100008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10400" y="2193840"/>
              <a:ext cx="0" cy="100008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321080" y="3787920"/>
            <a:ext cx="1005120" cy="998280"/>
            <a:chOff x="4321080" y="3787920"/>
            <a:chExt cx="1005120" cy="998280"/>
          </a:xfrm>
        </p:grpSpPr>
        <p:sp>
          <p:nvSpPr>
            <p:cNvPr id="355" name=""/>
            <p:cNvSpPr/>
            <p:nvPr/>
          </p:nvSpPr>
          <p:spPr>
            <a:xfrm>
              <a:off x="4321080" y="3787920"/>
              <a:ext cx="0" cy="99828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72000" y="3787920"/>
              <a:ext cx="0" cy="99828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22920" y="3787920"/>
              <a:ext cx="0" cy="99828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75280" y="3787920"/>
              <a:ext cx="0" cy="99828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26200" y="3787920"/>
              <a:ext cx="0" cy="99828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016760" y="3787920"/>
            <a:ext cx="1004760" cy="998280"/>
            <a:chOff x="7016760" y="3787920"/>
            <a:chExt cx="1004760" cy="998280"/>
          </a:xfrm>
        </p:grpSpPr>
        <p:sp>
          <p:nvSpPr>
            <p:cNvPr id="361" name=""/>
            <p:cNvSpPr/>
            <p:nvPr/>
          </p:nvSpPr>
          <p:spPr>
            <a:xfrm>
              <a:off x="7016760" y="3787920"/>
              <a:ext cx="0" cy="99828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67680" y="3787920"/>
              <a:ext cx="0" cy="99828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18240" y="3787920"/>
              <a:ext cx="0" cy="99828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770960" y="3787920"/>
              <a:ext cx="0" cy="99828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021520" y="3787920"/>
              <a:ext cx="0" cy="99828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0200" y="208080"/>
            <a:ext cx="7329960" cy="705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Arial"/>
              </a:rPr>
              <a:t>Larger OS Caches Produce</a:t>
            </a:r>
            <a:endParaRPr b="0" lang="en-US" sz="4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51880" y="955800"/>
            <a:ext cx="6458040" cy="705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More Writes than Reads</a:t>
            </a:r>
            <a:endParaRPr b="0" lang="en-US" sz="4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5291280" y="3895560"/>
            <a:ext cx="1574640" cy="319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876320" y="3895560"/>
            <a:ext cx="1573200" cy="319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376" name=""/>
          <p:cNvSpPr/>
          <p:nvPr/>
        </p:nvSpPr>
        <p:spPr>
          <a:xfrm>
            <a:off x="531720" y="3495600"/>
            <a:ext cx="1660680" cy="110340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8240" y="3776760"/>
            <a:ext cx="13359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46360" y="4019400"/>
            <a:ext cx="1015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71920" y="2787480"/>
            <a:ext cx="2124000" cy="248292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45680" y="3732120"/>
            <a:ext cx="126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28200" y="3975120"/>
            <a:ext cx="88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942240" y="3533760"/>
            <a:ext cx="1658880" cy="110340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6160" y="3776760"/>
            <a:ext cx="12063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188120" y="4019400"/>
            <a:ext cx="11437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38840" y="2214720"/>
            <a:ext cx="28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600" spc="-1" strike="noStrike">
                <a:solidFill>
                  <a:srgbClr val="fcfeb9"/>
                </a:solidFill>
                <a:latin typeface="Arial"/>
              </a:rPr>
              <a:t>READS : WRITES</a:t>
            </a:r>
            <a:endParaRPr b="0" lang="en-US" sz="2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87800" y="2606760"/>
            <a:ext cx="75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3 : 1</a:t>
            </a:r>
            <a:endParaRPr b="0" lang="en-US" sz="2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37480" y="2205000"/>
            <a:ext cx="28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600" spc="-1" strike="noStrike">
                <a:solidFill>
                  <a:srgbClr val="fcfeb9"/>
                </a:solidFill>
                <a:latin typeface="Arial"/>
              </a:rPr>
              <a:t>READS : WRITES</a:t>
            </a:r>
            <a:endParaRPr b="0" lang="en-US" sz="2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18480" y="2587680"/>
            <a:ext cx="75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1 : 3</a:t>
            </a:r>
            <a:endParaRPr b="0" lang="en-US" sz="2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82480" y="5378400"/>
            <a:ext cx="2791440" cy="538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300" spc="-1" strike="noStrike">
                <a:solidFill>
                  <a:srgbClr val="dc0081"/>
                </a:solidFill>
                <a:latin typeface="Arial"/>
              </a:rPr>
              <a:t>90% read hits</a:t>
            </a:r>
            <a:endParaRPr b="0" lang="en-US" sz="33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34560" y="1754280"/>
            <a:ext cx="1707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900 : 300)</a:t>
            </a:r>
            <a:endParaRPr b="0" lang="en-US" sz="2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28680" y="1765440"/>
            <a:ext cx="1523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81 : 300)</a:t>
            </a:r>
            <a:endParaRPr b="0" lang="en-US" sz="26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45600" y="2690640"/>
            <a:ext cx="6581520" cy="523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"DPT is a leading supplier of high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4440" y="4070520"/>
            <a:ext cx="8035560" cy="523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ray solutions and storage management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3080" y="4761000"/>
            <a:ext cx="8232120" cy="523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ftware for the microcomputer industry."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760" y="3394080"/>
            <a:ext cx="7878600" cy="523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 peripheral controllers, disk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743200" y="1219320"/>
            <a:ext cx="3887640" cy="938160"/>
            <a:chOff x="2743200" y="1219320"/>
            <a:chExt cx="3887640" cy="938160"/>
          </a:xfrm>
        </p:grpSpPr>
        <p:sp>
          <p:nvSpPr>
            <p:cNvPr id="76" name=""/>
            <p:cNvSpPr/>
            <p:nvPr/>
          </p:nvSpPr>
          <p:spPr>
            <a:xfrm>
              <a:off x="3857760" y="1222200"/>
              <a:ext cx="1042920" cy="933480"/>
            </a:xfrm>
            <a:custGeom>
              <a:avLst/>
              <a:gdLst/>
              <a:ahLst/>
              <a:rect l="l" t="t" r="r" b="b"/>
              <a:pathLst>
                <a:path w="657" h="588">
                  <a:moveTo>
                    <a:pt x="655" y="334"/>
                  </a:moveTo>
                  <a:lnTo>
                    <a:pt x="643" y="369"/>
                  </a:lnTo>
                  <a:lnTo>
                    <a:pt x="618" y="418"/>
                  </a:lnTo>
                  <a:lnTo>
                    <a:pt x="585" y="464"/>
                  </a:lnTo>
                  <a:lnTo>
                    <a:pt x="538" y="509"/>
                  </a:lnTo>
                  <a:lnTo>
                    <a:pt x="502" y="533"/>
                  </a:lnTo>
                  <a:lnTo>
                    <a:pt x="480" y="545"/>
                  </a:lnTo>
                  <a:lnTo>
                    <a:pt x="472" y="547"/>
                  </a:lnTo>
                  <a:lnTo>
                    <a:pt x="401" y="568"/>
                  </a:lnTo>
                  <a:lnTo>
                    <a:pt x="187" y="586"/>
                  </a:lnTo>
                  <a:lnTo>
                    <a:pt x="0" y="587"/>
                  </a:lnTo>
                  <a:lnTo>
                    <a:pt x="7" y="545"/>
                  </a:lnTo>
                  <a:lnTo>
                    <a:pt x="72" y="0"/>
                  </a:lnTo>
                  <a:lnTo>
                    <a:pt x="359" y="6"/>
                  </a:lnTo>
                  <a:lnTo>
                    <a:pt x="432" y="16"/>
                  </a:lnTo>
                  <a:lnTo>
                    <a:pt x="499" y="35"/>
                  </a:lnTo>
                  <a:lnTo>
                    <a:pt x="537" y="51"/>
                  </a:lnTo>
                  <a:lnTo>
                    <a:pt x="572" y="73"/>
                  </a:lnTo>
                  <a:lnTo>
                    <a:pt x="588" y="85"/>
                  </a:lnTo>
                  <a:lnTo>
                    <a:pt x="601" y="100"/>
                  </a:lnTo>
                  <a:lnTo>
                    <a:pt x="614" y="116"/>
                  </a:lnTo>
                  <a:lnTo>
                    <a:pt x="625" y="133"/>
                  </a:lnTo>
                  <a:lnTo>
                    <a:pt x="634" y="152"/>
                  </a:lnTo>
                  <a:lnTo>
                    <a:pt x="642" y="173"/>
                  </a:lnTo>
                  <a:lnTo>
                    <a:pt x="648" y="194"/>
                  </a:lnTo>
                  <a:lnTo>
                    <a:pt x="656" y="245"/>
                  </a:lnTo>
                  <a:lnTo>
                    <a:pt x="655" y="3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83040" y="1220760"/>
              <a:ext cx="881280" cy="936720"/>
            </a:xfrm>
            <a:custGeom>
              <a:avLst/>
              <a:gdLst/>
              <a:ahLst/>
              <a:rect l="l" t="t" r="r" b="b"/>
              <a:pathLst>
                <a:path w="555" h="590">
                  <a:moveTo>
                    <a:pt x="508" y="59"/>
                  </a:moveTo>
                  <a:lnTo>
                    <a:pt x="522" y="77"/>
                  </a:lnTo>
                  <a:lnTo>
                    <a:pt x="536" y="98"/>
                  </a:lnTo>
                  <a:lnTo>
                    <a:pt x="548" y="130"/>
                  </a:lnTo>
                  <a:lnTo>
                    <a:pt x="552" y="145"/>
                  </a:lnTo>
                  <a:lnTo>
                    <a:pt x="554" y="175"/>
                  </a:lnTo>
                  <a:lnTo>
                    <a:pt x="553" y="194"/>
                  </a:lnTo>
                  <a:lnTo>
                    <a:pt x="550" y="204"/>
                  </a:lnTo>
                  <a:lnTo>
                    <a:pt x="544" y="225"/>
                  </a:lnTo>
                  <a:lnTo>
                    <a:pt x="537" y="244"/>
                  </a:lnTo>
                  <a:lnTo>
                    <a:pt x="524" y="267"/>
                  </a:lnTo>
                  <a:lnTo>
                    <a:pt x="505" y="290"/>
                  </a:lnTo>
                  <a:lnTo>
                    <a:pt x="479" y="315"/>
                  </a:lnTo>
                  <a:lnTo>
                    <a:pt x="455" y="331"/>
                  </a:lnTo>
                  <a:lnTo>
                    <a:pt x="426" y="345"/>
                  </a:lnTo>
                  <a:lnTo>
                    <a:pt x="390" y="357"/>
                  </a:lnTo>
                  <a:lnTo>
                    <a:pt x="358" y="363"/>
                  </a:lnTo>
                  <a:lnTo>
                    <a:pt x="321" y="366"/>
                  </a:lnTo>
                  <a:lnTo>
                    <a:pt x="295" y="365"/>
                  </a:lnTo>
                  <a:lnTo>
                    <a:pt x="290" y="364"/>
                  </a:lnTo>
                  <a:lnTo>
                    <a:pt x="212" y="241"/>
                  </a:lnTo>
                  <a:lnTo>
                    <a:pt x="172" y="589"/>
                  </a:lnTo>
                  <a:lnTo>
                    <a:pt x="0" y="589"/>
                  </a:lnTo>
                  <a:lnTo>
                    <a:pt x="66" y="66"/>
                  </a:lnTo>
                  <a:lnTo>
                    <a:pt x="70" y="0"/>
                  </a:lnTo>
                  <a:lnTo>
                    <a:pt x="347" y="5"/>
                  </a:lnTo>
                  <a:lnTo>
                    <a:pt x="421" y="16"/>
                  </a:lnTo>
                  <a:lnTo>
                    <a:pt x="452" y="25"/>
                  </a:lnTo>
                  <a:lnTo>
                    <a:pt x="479" y="37"/>
                  </a:lnTo>
                  <a:lnTo>
                    <a:pt x="494" y="47"/>
                  </a:lnTo>
                  <a:lnTo>
                    <a:pt x="508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97440" y="1219320"/>
              <a:ext cx="833400" cy="936360"/>
            </a:xfrm>
            <a:custGeom>
              <a:avLst/>
              <a:gdLst/>
              <a:ahLst/>
              <a:rect l="l" t="t" r="r" b="b"/>
              <a:pathLst>
                <a:path w="525" h="590">
                  <a:moveTo>
                    <a:pt x="15" y="0"/>
                  </a:moveTo>
                  <a:lnTo>
                    <a:pt x="524" y="0"/>
                  </a:lnTo>
                  <a:lnTo>
                    <a:pt x="510" y="126"/>
                  </a:lnTo>
                  <a:lnTo>
                    <a:pt x="338" y="126"/>
                  </a:lnTo>
                  <a:lnTo>
                    <a:pt x="279" y="589"/>
                  </a:lnTo>
                  <a:lnTo>
                    <a:pt x="104" y="589"/>
                  </a:lnTo>
                  <a:lnTo>
                    <a:pt x="161" y="126"/>
                  </a:lnTo>
                  <a:lnTo>
                    <a:pt x="0" y="127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57640" y="1427040"/>
              <a:ext cx="473040" cy="519120"/>
            </a:xfrm>
            <a:custGeom>
              <a:avLst/>
              <a:gdLst/>
              <a:ahLst/>
              <a:rect l="l" t="t" r="r" b="b"/>
              <a:pathLst>
                <a:path w="298" h="327">
                  <a:moveTo>
                    <a:pt x="37" y="0"/>
                  </a:moveTo>
                  <a:lnTo>
                    <a:pt x="130" y="1"/>
                  </a:lnTo>
                  <a:lnTo>
                    <a:pt x="176" y="9"/>
                  </a:lnTo>
                  <a:lnTo>
                    <a:pt x="204" y="18"/>
                  </a:lnTo>
                  <a:lnTo>
                    <a:pt x="224" y="29"/>
                  </a:lnTo>
                  <a:lnTo>
                    <a:pt x="236" y="37"/>
                  </a:lnTo>
                  <a:lnTo>
                    <a:pt x="253" y="51"/>
                  </a:lnTo>
                  <a:lnTo>
                    <a:pt x="264" y="64"/>
                  </a:lnTo>
                  <a:lnTo>
                    <a:pt x="271" y="73"/>
                  </a:lnTo>
                  <a:lnTo>
                    <a:pt x="283" y="94"/>
                  </a:lnTo>
                  <a:lnTo>
                    <a:pt x="293" y="122"/>
                  </a:lnTo>
                  <a:lnTo>
                    <a:pt x="296" y="139"/>
                  </a:lnTo>
                  <a:lnTo>
                    <a:pt x="297" y="155"/>
                  </a:lnTo>
                  <a:lnTo>
                    <a:pt x="296" y="172"/>
                  </a:lnTo>
                  <a:lnTo>
                    <a:pt x="292" y="189"/>
                  </a:lnTo>
                  <a:lnTo>
                    <a:pt x="282" y="215"/>
                  </a:lnTo>
                  <a:lnTo>
                    <a:pt x="271" y="236"/>
                  </a:lnTo>
                  <a:lnTo>
                    <a:pt x="266" y="243"/>
                  </a:lnTo>
                  <a:lnTo>
                    <a:pt x="263" y="247"/>
                  </a:lnTo>
                  <a:lnTo>
                    <a:pt x="250" y="261"/>
                  </a:lnTo>
                  <a:lnTo>
                    <a:pt x="234" y="276"/>
                  </a:lnTo>
                  <a:lnTo>
                    <a:pt x="204" y="297"/>
                  </a:lnTo>
                  <a:lnTo>
                    <a:pt x="199" y="299"/>
                  </a:lnTo>
                  <a:lnTo>
                    <a:pt x="176" y="310"/>
                  </a:lnTo>
                  <a:lnTo>
                    <a:pt x="144" y="319"/>
                  </a:lnTo>
                  <a:lnTo>
                    <a:pt x="107" y="324"/>
                  </a:lnTo>
                  <a:lnTo>
                    <a:pt x="0" y="326"/>
                  </a:lnTo>
                  <a:lnTo>
                    <a:pt x="35" y="0"/>
                  </a:lnTo>
                  <a:lnTo>
                    <a:pt x="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29360" y="1430280"/>
              <a:ext cx="257040" cy="160560"/>
            </a:xfrm>
            <a:custGeom>
              <a:avLst/>
              <a:gdLst/>
              <a:ahLst/>
              <a:rect l="l" t="t" r="r" b="b"/>
              <a:pathLst>
                <a:path w="162" h="101">
                  <a:moveTo>
                    <a:pt x="12" y="0"/>
                  </a:moveTo>
                  <a:lnTo>
                    <a:pt x="116" y="1"/>
                  </a:lnTo>
                  <a:lnTo>
                    <a:pt x="127" y="3"/>
                  </a:lnTo>
                  <a:lnTo>
                    <a:pt x="131" y="5"/>
                  </a:lnTo>
                  <a:lnTo>
                    <a:pt x="139" y="10"/>
                  </a:lnTo>
                  <a:lnTo>
                    <a:pt x="155" y="23"/>
                  </a:lnTo>
                  <a:lnTo>
                    <a:pt x="158" y="29"/>
                  </a:lnTo>
                  <a:lnTo>
                    <a:pt x="160" y="37"/>
                  </a:lnTo>
                  <a:lnTo>
                    <a:pt x="161" y="43"/>
                  </a:lnTo>
                  <a:lnTo>
                    <a:pt x="161" y="52"/>
                  </a:lnTo>
                  <a:lnTo>
                    <a:pt x="160" y="58"/>
                  </a:lnTo>
                  <a:lnTo>
                    <a:pt x="158" y="66"/>
                  </a:lnTo>
                  <a:lnTo>
                    <a:pt x="155" y="73"/>
                  </a:lnTo>
                  <a:lnTo>
                    <a:pt x="149" y="79"/>
                  </a:lnTo>
                  <a:lnTo>
                    <a:pt x="143" y="85"/>
                  </a:lnTo>
                  <a:lnTo>
                    <a:pt x="131" y="92"/>
                  </a:lnTo>
                  <a:lnTo>
                    <a:pt x="120" y="97"/>
                  </a:lnTo>
                  <a:lnTo>
                    <a:pt x="118" y="97"/>
                  </a:lnTo>
                  <a:lnTo>
                    <a:pt x="114" y="99"/>
                  </a:lnTo>
                  <a:lnTo>
                    <a:pt x="107" y="100"/>
                  </a:lnTo>
                  <a:lnTo>
                    <a:pt x="0" y="100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33600" y="1220760"/>
              <a:ext cx="462240" cy="934920"/>
            </a:xfrm>
            <a:custGeom>
              <a:avLst/>
              <a:gdLst/>
              <a:ahLst/>
              <a:rect l="l" t="t" r="r" b="b"/>
              <a:pathLst>
                <a:path w="291" h="589">
                  <a:moveTo>
                    <a:pt x="290" y="0"/>
                  </a:moveTo>
                  <a:lnTo>
                    <a:pt x="290" y="94"/>
                  </a:lnTo>
                  <a:lnTo>
                    <a:pt x="160" y="130"/>
                  </a:lnTo>
                  <a:lnTo>
                    <a:pt x="99" y="154"/>
                  </a:lnTo>
                  <a:lnTo>
                    <a:pt x="68" y="171"/>
                  </a:lnTo>
                  <a:lnTo>
                    <a:pt x="10" y="588"/>
                  </a:lnTo>
                  <a:lnTo>
                    <a:pt x="0" y="588"/>
                  </a:lnTo>
                  <a:lnTo>
                    <a:pt x="61" y="82"/>
                  </a:lnTo>
                  <a:lnTo>
                    <a:pt x="200" y="21"/>
                  </a:lnTo>
                  <a:lnTo>
                    <a:pt x="268" y="4"/>
                  </a:lnTo>
                  <a:lnTo>
                    <a:pt x="290" y="0"/>
                  </a:lnTo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95520" y="1420920"/>
              <a:ext cx="401760" cy="734760"/>
            </a:xfrm>
            <a:custGeom>
              <a:avLst/>
              <a:gdLst/>
              <a:ahLst/>
              <a:rect l="l" t="t" r="r" b="b"/>
              <a:pathLst>
                <a:path w="253" h="463">
                  <a:moveTo>
                    <a:pt x="252" y="0"/>
                  </a:moveTo>
                  <a:lnTo>
                    <a:pt x="251" y="75"/>
                  </a:lnTo>
                  <a:lnTo>
                    <a:pt x="135" y="101"/>
                  </a:lnTo>
                  <a:lnTo>
                    <a:pt x="81" y="120"/>
                  </a:lnTo>
                  <a:lnTo>
                    <a:pt x="59" y="130"/>
                  </a:lnTo>
                  <a:lnTo>
                    <a:pt x="12" y="462"/>
                  </a:lnTo>
                  <a:lnTo>
                    <a:pt x="0" y="462"/>
                  </a:lnTo>
                  <a:lnTo>
                    <a:pt x="52" y="66"/>
                  </a:lnTo>
                  <a:lnTo>
                    <a:pt x="96" y="44"/>
                  </a:lnTo>
                  <a:lnTo>
                    <a:pt x="206" y="9"/>
                  </a:lnTo>
                  <a:lnTo>
                    <a:pt x="252" y="0"/>
                  </a:lnTo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56000" y="1577880"/>
              <a:ext cx="341280" cy="577800"/>
            </a:xfrm>
            <a:custGeom>
              <a:avLst/>
              <a:gdLst/>
              <a:ahLst/>
              <a:rect l="l" t="t" r="r" b="b"/>
              <a:pathLst>
                <a:path w="215" h="364">
                  <a:moveTo>
                    <a:pt x="214" y="0"/>
                  </a:moveTo>
                  <a:lnTo>
                    <a:pt x="213" y="78"/>
                  </a:lnTo>
                  <a:lnTo>
                    <a:pt x="94" y="105"/>
                  </a:lnTo>
                  <a:lnTo>
                    <a:pt x="50" y="123"/>
                  </a:lnTo>
                  <a:lnTo>
                    <a:pt x="15" y="363"/>
                  </a:lnTo>
                  <a:lnTo>
                    <a:pt x="0" y="363"/>
                  </a:lnTo>
                  <a:lnTo>
                    <a:pt x="47" y="48"/>
                  </a:lnTo>
                  <a:lnTo>
                    <a:pt x="113" y="24"/>
                  </a:lnTo>
                  <a:lnTo>
                    <a:pt x="188" y="5"/>
                  </a:lnTo>
                  <a:lnTo>
                    <a:pt x="214" y="0"/>
                  </a:lnTo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5840" y="1741320"/>
              <a:ext cx="271440" cy="414360"/>
            </a:xfrm>
            <a:custGeom>
              <a:avLst/>
              <a:gdLst/>
              <a:ahLst/>
              <a:rect l="l" t="t" r="r" b="b"/>
              <a:pathLst>
                <a:path w="171" h="261">
                  <a:moveTo>
                    <a:pt x="170" y="0"/>
                  </a:moveTo>
                  <a:lnTo>
                    <a:pt x="169" y="260"/>
                  </a:lnTo>
                  <a:lnTo>
                    <a:pt x="0" y="260"/>
                  </a:lnTo>
                  <a:lnTo>
                    <a:pt x="30" y="39"/>
                  </a:lnTo>
                  <a:lnTo>
                    <a:pt x="42" y="34"/>
                  </a:lnTo>
                  <a:lnTo>
                    <a:pt x="68" y="24"/>
                  </a:lnTo>
                  <a:lnTo>
                    <a:pt x="103" y="14"/>
                  </a:lnTo>
                  <a:lnTo>
                    <a:pt x="170" y="0"/>
                  </a:lnTo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3200" y="1220760"/>
              <a:ext cx="468360" cy="934920"/>
            </a:xfrm>
            <a:custGeom>
              <a:avLst/>
              <a:gdLst/>
              <a:ahLst/>
              <a:rect l="l" t="t" r="r" b="b"/>
              <a:pathLst>
                <a:path w="295" h="589">
                  <a:moveTo>
                    <a:pt x="0" y="0"/>
                  </a:moveTo>
                  <a:lnTo>
                    <a:pt x="0" y="94"/>
                  </a:lnTo>
                  <a:lnTo>
                    <a:pt x="139" y="133"/>
                  </a:lnTo>
                  <a:lnTo>
                    <a:pt x="194" y="154"/>
                  </a:lnTo>
                  <a:lnTo>
                    <a:pt x="226" y="171"/>
                  </a:lnTo>
                  <a:lnTo>
                    <a:pt x="284" y="588"/>
                  </a:lnTo>
                  <a:lnTo>
                    <a:pt x="294" y="588"/>
                  </a:lnTo>
                  <a:lnTo>
                    <a:pt x="232" y="82"/>
                  </a:lnTo>
                  <a:lnTo>
                    <a:pt x="91" y="21"/>
                  </a:lnTo>
                  <a:lnTo>
                    <a:pt x="24" y="4"/>
                  </a:lnTo>
                  <a:lnTo>
                    <a:pt x="0" y="0"/>
                  </a:lnTo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43200" y="1424160"/>
              <a:ext cx="406440" cy="731520"/>
            </a:xfrm>
            <a:custGeom>
              <a:avLst/>
              <a:gdLst/>
              <a:ahLst/>
              <a:rect l="l" t="t" r="r" b="b"/>
              <a:pathLst>
                <a:path w="256" h="461">
                  <a:moveTo>
                    <a:pt x="1" y="0"/>
                  </a:moveTo>
                  <a:lnTo>
                    <a:pt x="0" y="72"/>
                  </a:lnTo>
                  <a:lnTo>
                    <a:pt x="118" y="98"/>
                  </a:lnTo>
                  <a:lnTo>
                    <a:pt x="172" y="118"/>
                  </a:lnTo>
                  <a:lnTo>
                    <a:pt x="195" y="128"/>
                  </a:lnTo>
                  <a:lnTo>
                    <a:pt x="243" y="460"/>
                  </a:lnTo>
                  <a:lnTo>
                    <a:pt x="255" y="460"/>
                  </a:lnTo>
                  <a:lnTo>
                    <a:pt x="203" y="64"/>
                  </a:lnTo>
                  <a:lnTo>
                    <a:pt x="138" y="35"/>
                  </a:lnTo>
                  <a:lnTo>
                    <a:pt x="26" y="6"/>
                  </a:lnTo>
                  <a:lnTo>
                    <a:pt x="1" y="0"/>
                  </a:lnTo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43200" y="1581120"/>
              <a:ext cx="344520" cy="574560"/>
            </a:xfrm>
            <a:custGeom>
              <a:avLst/>
              <a:gdLst/>
              <a:ahLst/>
              <a:rect l="l" t="t" r="r" b="b"/>
              <a:pathLst>
                <a:path w="217" h="362">
                  <a:moveTo>
                    <a:pt x="1" y="0"/>
                  </a:moveTo>
                  <a:lnTo>
                    <a:pt x="0" y="76"/>
                  </a:lnTo>
                  <a:lnTo>
                    <a:pt x="120" y="104"/>
                  </a:lnTo>
                  <a:lnTo>
                    <a:pt x="165" y="121"/>
                  </a:lnTo>
                  <a:lnTo>
                    <a:pt x="200" y="361"/>
                  </a:lnTo>
                  <a:lnTo>
                    <a:pt x="216" y="361"/>
                  </a:lnTo>
                  <a:lnTo>
                    <a:pt x="169" y="47"/>
                  </a:lnTo>
                  <a:lnTo>
                    <a:pt x="70" y="14"/>
                  </a:lnTo>
                  <a:lnTo>
                    <a:pt x="1" y="0"/>
                  </a:lnTo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3200" y="1741320"/>
              <a:ext cx="274680" cy="414360"/>
            </a:xfrm>
            <a:custGeom>
              <a:avLst/>
              <a:gdLst/>
              <a:ahLst/>
              <a:rect l="l" t="t" r="r" b="b"/>
              <a:pathLst>
                <a:path w="173" h="261">
                  <a:moveTo>
                    <a:pt x="0" y="0"/>
                  </a:moveTo>
                  <a:lnTo>
                    <a:pt x="0" y="260"/>
                  </a:lnTo>
                  <a:lnTo>
                    <a:pt x="172" y="260"/>
                  </a:lnTo>
                  <a:lnTo>
                    <a:pt x="141" y="39"/>
                  </a:lnTo>
                  <a:lnTo>
                    <a:pt x="103" y="24"/>
                  </a:lnTo>
                  <a:lnTo>
                    <a:pt x="68" y="14"/>
                  </a:lnTo>
                  <a:lnTo>
                    <a:pt x="0" y="0"/>
                  </a:lnTo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355760" y="257040"/>
            <a:ext cx="6284520" cy="641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SERVER-CLASS SYSTEM</a:t>
            </a:r>
            <a:endParaRPr b="0" lang="en-US" sz="4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55000" y="938160"/>
            <a:ext cx="7547760" cy="641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WITHOUT HARDWARE CACHE</a:t>
            </a:r>
            <a:endParaRPr b="0" lang="en-US" sz="4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52840" y="3967200"/>
            <a:ext cx="5991120" cy="119160"/>
          </a:xfrm>
          <a:prstGeom prst="rect">
            <a:avLst/>
          </a:prstGeom>
          <a:solidFill>
            <a:srgbClr val="dc0081"/>
          </a:solidFill>
          <a:ln w="1260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2720" y="3732120"/>
            <a:ext cx="15145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s activity:</a:t>
            </a:r>
            <a:endParaRPr b="0" lang="en-US" sz="21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22760" y="3751200"/>
            <a:ext cx="2395800" cy="203400"/>
          </a:xfrm>
          <a:prstGeom prst="rect">
            <a:avLst/>
          </a:prstGeom>
          <a:solidFill>
            <a:srgbClr val="8cf4ea"/>
          </a:solidFill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396280" y="3751200"/>
            <a:ext cx="247680" cy="203400"/>
          </a:xfrm>
          <a:prstGeom prst="rect">
            <a:avLst/>
          </a:prstGeom>
          <a:solidFill>
            <a:srgbClr val="8cf4ea"/>
          </a:solidFill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08760" y="2976480"/>
            <a:ext cx="4352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Idle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75640" y="3214800"/>
            <a:ext cx="5025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8600" y="1857240"/>
            <a:ext cx="259020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100" spc="-1" strike="noStrike">
                <a:solidFill>
                  <a:srgbClr val="fcfeb9"/>
                </a:solidFill>
                <a:latin typeface="Arial"/>
              </a:rPr>
              <a:t>Application programs</a:t>
            </a:r>
            <a:endParaRPr b="0" lang="en-US" sz="21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5200" y="2124000"/>
            <a:ext cx="22672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100" spc="-1" strike="noStrike">
                <a:solidFill>
                  <a:srgbClr val="fcfeb9"/>
                </a:solidFill>
                <a:latin typeface="Arial"/>
              </a:rPr>
              <a:t>write to OS cache:</a:t>
            </a:r>
            <a:endParaRPr b="0" lang="en-US" sz="21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012160" y="3135240"/>
            <a:ext cx="4352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Idle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980840" y="3375000"/>
            <a:ext cx="5025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35600" y="4543560"/>
            <a:ext cx="31010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100" spc="-1" strike="noStrike">
                <a:solidFill>
                  <a:srgbClr val="fcfeb9"/>
                </a:solidFill>
                <a:latin typeface="Arial"/>
              </a:rPr>
              <a:t>OS cache flushes to disk:</a:t>
            </a:r>
            <a:endParaRPr b="0" lang="en-US" sz="21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79560" y="4808520"/>
            <a:ext cx="20113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100" spc="-1" strike="noStrike">
                <a:solidFill>
                  <a:srgbClr val="fcfeb9"/>
                </a:solidFill>
                <a:latin typeface="Arial"/>
              </a:rPr>
              <a:t>(20ms per write)</a:t>
            </a:r>
            <a:endParaRPr b="0" lang="en-US" sz="2100" spc="-1" strike="noStrike">
              <a:solidFill>
                <a:srgbClr val="d49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5810400" y="2435400"/>
            <a:ext cx="1866600" cy="1022040"/>
            <a:chOff x="5810400" y="2435400"/>
            <a:chExt cx="1866600" cy="1022040"/>
          </a:xfrm>
        </p:grpSpPr>
        <p:sp>
          <p:nvSpPr>
            <p:cNvPr id="407" name=""/>
            <p:cNvSpPr/>
            <p:nvPr/>
          </p:nvSpPr>
          <p:spPr>
            <a:xfrm>
              <a:off x="5810400" y="2435400"/>
              <a:ext cx="0" cy="102204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76800" y="2435400"/>
              <a:ext cx="0" cy="102204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43560" y="2435400"/>
              <a:ext cx="0" cy="102204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10320" y="2435400"/>
              <a:ext cx="0" cy="102204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77080" y="2435400"/>
              <a:ext cx="0" cy="102204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43840" y="2435400"/>
              <a:ext cx="0" cy="102204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10600" y="2435400"/>
              <a:ext cx="0" cy="102204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77000" y="2435400"/>
              <a:ext cx="0" cy="102204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876400" y="2471760"/>
            <a:ext cx="1866960" cy="1020600"/>
            <a:chOff x="2876400" y="2471760"/>
            <a:chExt cx="1866960" cy="1020600"/>
          </a:xfrm>
        </p:grpSpPr>
        <p:sp>
          <p:nvSpPr>
            <p:cNvPr id="416" name=""/>
            <p:cNvSpPr/>
            <p:nvPr/>
          </p:nvSpPr>
          <p:spPr>
            <a:xfrm>
              <a:off x="2876400" y="2471760"/>
              <a:ext cx="0" cy="10206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43160" y="2471760"/>
              <a:ext cx="0" cy="10206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09920" y="2471760"/>
              <a:ext cx="0" cy="10206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76680" y="2471760"/>
              <a:ext cx="0" cy="10206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943440" y="2471760"/>
              <a:ext cx="0" cy="10206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10200" y="2471760"/>
              <a:ext cx="0" cy="10206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76600" y="2471760"/>
              <a:ext cx="0" cy="10206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43360" y="2471760"/>
              <a:ext cx="0" cy="10206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703600" y="3751200"/>
            <a:ext cx="2395440" cy="203400"/>
          </a:xfrm>
          <a:prstGeom prst="rect">
            <a:avLst/>
          </a:prstGeom>
          <a:solidFill>
            <a:srgbClr val="8cf4ea"/>
          </a:solidFill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4311720"/>
            <a:ext cx="0" cy="102060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153280" y="4311720"/>
            <a:ext cx="0" cy="102060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473480" y="112680"/>
            <a:ext cx="6284520" cy="641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SERVER-CLASS SYSTEM</a:t>
            </a:r>
            <a:endParaRPr b="0" lang="en-US" sz="4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70240" y="798480"/>
            <a:ext cx="6478200" cy="641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WITH HARDWARE CACHE</a:t>
            </a:r>
            <a:endParaRPr b="0" lang="en-US" sz="4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39880" y="2894040"/>
            <a:ext cx="5764320" cy="115920"/>
          </a:xfrm>
          <a:prstGeom prst="rect">
            <a:avLst/>
          </a:prstGeom>
          <a:solidFill>
            <a:srgbClr val="dc0081"/>
          </a:solidFill>
          <a:ln w="1260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65400" y="4475160"/>
            <a:ext cx="5511960" cy="115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37400" y="2665440"/>
            <a:ext cx="199584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ystem bus activity:</a:t>
            </a:r>
            <a:endParaRPr b="0" lang="en-US" sz="17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5280" y="4411800"/>
            <a:ext cx="164844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DPT’s IOP bus:</a:t>
            </a:r>
            <a:endParaRPr b="0" lang="en-US" sz="17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905440" y="2714760"/>
            <a:ext cx="1617840" cy="166680"/>
          </a:xfrm>
          <a:prstGeom prst="rect">
            <a:avLst/>
          </a:prstGeom>
          <a:solidFill>
            <a:srgbClr val="8cf4ea"/>
          </a:solidFill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639880" y="2714760"/>
            <a:ext cx="2373480" cy="166680"/>
          </a:xfrm>
          <a:prstGeom prst="rect">
            <a:avLst/>
          </a:prstGeom>
          <a:solidFill>
            <a:srgbClr val="8cf4ea"/>
          </a:solidFill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164440" y="2714760"/>
            <a:ext cx="239760" cy="166680"/>
          </a:xfrm>
          <a:prstGeom prst="rect">
            <a:avLst/>
          </a:prstGeom>
          <a:solidFill>
            <a:srgbClr val="8cf4ea"/>
          </a:solidFill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32240" y="2197080"/>
            <a:ext cx="4352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Idle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99480" y="2455920"/>
            <a:ext cx="5025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2960" y="1671480"/>
            <a:ext cx="211932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1700" spc="-1" strike="noStrike">
                <a:solidFill>
                  <a:srgbClr val="fcfeb9"/>
                </a:solidFill>
                <a:latin typeface="Arial"/>
              </a:rPr>
              <a:t>Application programs</a:t>
            </a:r>
            <a:endParaRPr b="0" lang="en-US" sz="17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5800" y="1928880"/>
            <a:ext cx="185112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1700" spc="-1" strike="noStrike">
                <a:solidFill>
                  <a:srgbClr val="fcfeb9"/>
                </a:solidFill>
                <a:latin typeface="Arial"/>
              </a:rPr>
              <a:t>write to OS cache:</a:t>
            </a:r>
            <a:endParaRPr b="0" lang="en-US" sz="17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85120" y="3378240"/>
            <a:ext cx="34164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1700" spc="-1" strike="noStrike">
                <a:solidFill>
                  <a:srgbClr val="fcfeb9"/>
                </a:solidFill>
                <a:latin typeface="Arial"/>
              </a:rPr>
              <a:t>OS cache flushes to DPT’s Cache:</a:t>
            </a:r>
            <a:endParaRPr b="0" lang="en-US" sz="17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009160" y="3638520"/>
            <a:ext cx="152676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1700" spc="-1" strike="noStrike">
                <a:solidFill>
                  <a:srgbClr val="fcfeb9"/>
                </a:solidFill>
                <a:latin typeface="Arial"/>
              </a:rPr>
              <a:t>(1ms per write)</a:t>
            </a:r>
            <a:endParaRPr b="0" lang="en-US" sz="17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10600" y="4998960"/>
            <a:ext cx="322128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1700" spc="-1" strike="noStrike">
                <a:solidFill>
                  <a:srgbClr val="fcfeb9"/>
                </a:solidFill>
                <a:latin typeface="Arial"/>
              </a:rPr>
              <a:t>Elevator-sorted writes go to disk:</a:t>
            </a:r>
            <a:endParaRPr b="0" lang="en-US" sz="17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677960" y="5257800"/>
            <a:ext cx="183888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1700" spc="-1" strike="noStrike">
                <a:solidFill>
                  <a:srgbClr val="fcfeb9"/>
                </a:solidFill>
                <a:latin typeface="Arial"/>
              </a:rPr>
              <a:t>(1-10ms per write)</a:t>
            </a:r>
            <a:endParaRPr b="0" lang="en-US" sz="17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42080" y="2197080"/>
            <a:ext cx="4352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Idle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10760" y="2455920"/>
            <a:ext cx="5025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2857680" y="1525680"/>
            <a:ext cx="1866600" cy="1020600"/>
            <a:chOff x="2857680" y="1525680"/>
            <a:chExt cx="1866600" cy="1020600"/>
          </a:xfrm>
        </p:grpSpPr>
        <p:sp>
          <p:nvSpPr>
            <p:cNvPr id="447" name=""/>
            <p:cNvSpPr/>
            <p:nvPr/>
          </p:nvSpPr>
          <p:spPr>
            <a:xfrm>
              <a:off x="2857680" y="1525680"/>
              <a:ext cx="0" cy="10206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24080" y="1525680"/>
              <a:ext cx="0" cy="10206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390840" y="1525680"/>
              <a:ext cx="0" cy="10206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57600" y="1525680"/>
              <a:ext cx="0" cy="10206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24360" y="1525680"/>
              <a:ext cx="0" cy="10206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91120" y="1525680"/>
              <a:ext cx="0" cy="10206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57880" y="1525680"/>
              <a:ext cx="0" cy="10206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24280" y="1525680"/>
              <a:ext cx="0" cy="10206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81480" y="3240000"/>
            <a:ext cx="0" cy="102096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48240" y="3240000"/>
            <a:ext cx="0" cy="102096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15000" y="3240000"/>
            <a:ext cx="0" cy="102096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81960" y="3294000"/>
            <a:ext cx="0" cy="102096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848720" y="3294000"/>
            <a:ext cx="0" cy="102096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115480" y="3294000"/>
            <a:ext cx="0" cy="102096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6019920" y="1525680"/>
            <a:ext cx="1333440" cy="1020600"/>
            <a:chOff x="6019920" y="1525680"/>
            <a:chExt cx="1333440" cy="1020600"/>
          </a:xfrm>
        </p:grpSpPr>
        <p:sp>
          <p:nvSpPr>
            <p:cNvPr id="462" name=""/>
            <p:cNvSpPr/>
            <p:nvPr/>
          </p:nvSpPr>
          <p:spPr>
            <a:xfrm>
              <a:off x="6019920" y="1525680"/>
              <a:ext cx="0" cy="10206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286680" y="1525680"/>
              <a:ext cx="0" cy="10206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53080" y="1525680"/>
              <a:ext cx="0" cy="10206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19840" y="1525680"/>
              <a:ext cx="0" cy="10206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86600" y="1525680"/>
              <a:ext cx="0" cy="10206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53360" y="1525680"/>
              <a:ext cx="0" cy="10206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924520" y="4757760"/>
            <a:ext cx="1600200" cy="1020600"/>
            <a:chOff x="5924520" y="4757760"/>
            <a:chExt cx="1600200" cy="1020600"/>
          </a:xfrm>
        </p:grpSpPr>
        <p:sp>
          <p:nvSpPr>
            <p:cNvPr id="469" name=""/>
            <p:cNvSpPr/>
            <p:nvPr/>
          </p:nvSpPr>
          <p:spPr>
            <a:xfrm>
              <a:off x="5924520" y="4757760"/>
              <a:ext cx="0" cy="10206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91280" y="4757760"/>
              <a:ext cx="0" cy="10206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458040" y="4757760"/>
              <a:ext cx="0" cy="10206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24800" y="4757760"/>
              <a:ext cx="0" cy="10206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991200" y="4757760"/>
              <a:ext cx="0" cy="10206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57960" y="4757760"/>
              <a:ext cx="0" cy="10206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757760"/>
              <a:ext cx="0" cy="10206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07120" y="328680"/>
            <a:ext cx="7718760" cy="1559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i="1" lang="en-US" sz="5000" spc="-1" strike="noStrike">
                <a:solidFill>
                  <a:srgbClr val="fafd00"/>
                </a:solidFill>
                <a:latin typeface="Arial"/>
              </a:rPr>
              <a:t>DPT’s</a:t>
            </a:r>
            <a:endParaRPr b="0" lang="en-US" sz="50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i="1" lang="en-US" sz="5000" spc="-1" strike="noStrike">
                <a:solidFill>
                  <a:srgbClr val="fafd00"/>
                </a:solidFill>
                <a:latin typeface="Arial"/>
              </a:rPr>
              <a:t>Intelligent I/O Processing</a:t>
            </a:r>
            <a:endParaRPr b="0" lang="en-US" sz="5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971640" y="2247840"/>
            <a:ext cx="716256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bines I/O Reques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033560" y="2955960"/>
            <a:ext cx="5159160" cy="637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ts I/O Requests </a:t>
            </a:r>
            <a:endParaRPr b="0" lang="en-US" sz="3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36080" y="3753000"/>
            <a:ext cx="6590880" cy="637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vator Sorts Cached Writes</a:t>
            </a:r>
            <a:endParaRPr b="0" lang="en-US" sz="36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89520" y="336600"/>
            <a:ext cx="3404160" cy="2835360"/>
            <a:chOff x="389520" y="336600"/>
            <a:chExt cx="3404160" cy="2835360"/>
          </a:xfrm>
        </p:grpSpPr>
        <p:sp>
          <p:nvSpPr>
            <p:cNvPr id="493" name=""/>
            <p:cNvSpPr/>
            <p:nvPr/>
          </p:nvSpPr>
          <p:spPr>
            <a:xfrm>
              <a:off x="389520" y="336600"/>
              <a:ext cx="3404160" cy="7668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17640" bIns="1764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08200"/>
                  <a:tab algn="l" pos="1616040"/>
                  <a:tab algn="l" pos="2424240"/>
                  <a:tab algn="l" pos="3232080"/>
                  <a:tab algn="l" pos="4040280"/>
                  <a:tab algn="l" pos="4848120"/>
                  <a:tab algn="l" pos="5656320"/>
                  <a:tab algn="l" pos="6464160"/>
                  <a:tab algn="l" pos="7272360"/>
                  <a:tab algn="l" pos="8080200"/>
                  <a:tab algn="l" pos="8888400"/>
                  <a:tab algn="l" pos="9696600"/>
                  <a:tab algn="l" pos="10504440"/>
                </a:tabLst>
              </a:pPr>
              <a:r>
                <a:rPr b="1" lang="en-US" sz="4800" spc="-1" strike="noStrike">
                  <a:solidFill>
                    <a:srgbClr val="fafd00"/>
                  </a:solidFill>
                  <a:latin typeface="Arial"/>
                </a:rPr>
                <a:t>Disk Writes</a:t>
              </a:r>
              <a:endParaRPr b="0" lang="en-US" sz="48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3440" y="1054080"/>
              <a:ext cx="2352600" cy="7668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17640" bIns="1764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08200"/>
                  <a:tab algn="l" pos="1616040"/>
                  <a:tab algn="l" pos="2424240"/>
                  <a:tab algn="l" pos="3232080"/>
                  <a:tab algn="l" pos="4040280"/>
                  <a:tab algn="l" pos="4848120"/>
                  <a:tab algn="l" pos="5656320"/>
                  <a:tab algn="l" pos="6464160"/>
                  <a:tab algn="l" pos="7272360"/>
                  <a:tab algn="l" pos="8080200"/>
                  <a:tab algn="l" pos="8888400"/>
                  <a:tab algn="l" pos="9696600"/>
                  <a:tab algn="l" pos="10504440"/>
                </a:tabLst>
              </a:pPr>
              <a:r>
                <a:rPr b="1" lang="en-US" sz="4800" spc="-1" strike="noStrike">
                  <a:solidFill>
                    <a:srgbClr val="fafd00"/>
                  </a:solidFill>
                  <a:latin typeface="Arial"/>
                </a:rPr>
                <a:t>Without</a:t>
              </a:r>
              <a:endParaRPr b="0" lang="en-US" sz="48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920" y="1730520"/>
              <a:ext cx="2489760" cy="7668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17640" bIns="1764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08200"/>
                  <a:tab algn="l" pos="1616040"/>
                  <a:tab algn="l" pos="2424240"/>
                  <a:tab algn="l" pos="3232080"/>
                  <a:tab algn="l" pos="4040280"/>
                  <a:tab algn="l" pos="4848120"/>
                  <a:tab algn="l" pos="5656320"/>
                  <a:tab algn="l" pos="6464160"/>
                  <a:tab algn="l" pos="7272360"/>
                  <a:tab algn="l" pos="8080200"/>
                  <a:tab algn="l" pos="8888400"/>
                  <a:tab algn="l" pos="9696600"/>
                  <a:tab algn="l" pos="10504440"/>
                </a:tabLst>
              </a:pPr>
              <a:r>
                <a:rPr b="1" lang="en-US" sz="4800" spc="-1" strike="noStrike">
                  <a:solidFill>
                    <a:srgbClr val="fafd00"/>
                  </a:solidFill>
                  <a:latin typeface="Arial"/>
                </a:rPr>
                <a:t>Elevator</a:t>
              </a:r>
              <a:endParaRPr b="0" lang="en-US" sz="48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5400" y="2405160"/>
              <a:ext cx="2421000" cy="7668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17640" bIns="1764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08200"/>
                  <a:tab algn="l" pos="1616040"/>
                  <a:tab algn="l" pos="2424240"/>
                  <a:tab algn="l" pos="3232080"/>
                  <a:tab algn="l" pos="4040280"/>
                  <a:tab algn="l" pos="4848120"/>
                  <a:tab algn="l" pos="5656320"/>
                  <a:tab algn="l" pos="6464160"/>
                  <a:tab algn="l" pos="7272360"/>
                  <a:tab algn="l" pos="8080200"/>
                  <a:tab algn="l" pos="8888400"/>
                  <a:tab algn="l" pos="9696600"/>
                  <a:tab algn="l" pos="10504440"/>
                </a:tabLst>
              </a:pPr>
              <a:r>
                <a:rPr b="1" lang="en-US" sz="4800" spc="-1" strike="noStrike">
                  <a:solidFill>
                    <a:srgbClr val="fafd00"/>
                  </a:solidFill>
                  <a:latin typeface="Arial"/>
                </a:rPr>
                <a:t>Sorting:</a:t>
              </a:r>
              <a:endParaRPr b="0" lang="en-US" sz="48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203760" y="4027320"/>
            <a:ext cx="27550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5-20ms average</a:t>
            </a:r>
            <a:endParaRPr b="0" lang="en-US" sz="27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0800" y="4432320"/>
            <a:ext cx="1517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isk write</a:t>
            </a:r>
            <a:endParaRPr b="0" lang="en-US" sz="27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392640" y="231840"/>
            <a:ext cx="5655960" cy="5526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99080" y="846000"/>
            <a:ext cx="403200" cy="39384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81840" y="712800"/>
            <a:ext cx="401760" cy="39060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396200" y="3683160"/>
            <a:ext cx="403200" cy="39528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08600" y="1657440"/>
            <a:ext cx="401760" cy="39348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92800" y="4494240"/>
            <a:ext cx="403200" cy="39204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77000" y="3819600"/>
            <a:ext cx="401400" cy="39204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43600" y="4898880"/>
            <a:ext cx="403200" cy="39384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5918040" y="1368360"/>
            <a:ext cx="1673280" cy="230040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5286240" y="2131920"/>
            <a:ext cx="1924200" cy="154944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4457880" y="2154240"/>
            <a:ext cx="439560" cy="226044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4"/>
          <a:stretch/>
        </p:blipFill>
        <p:spPr>
          <a:xfrm>
            <a:off x="4883040" y="1251000"/>
            <a:ext cx="1925640" cy="31845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5"/>
          <a:stretch/>
        </p:blipFill>
        <p:spPr>
          <a:xfrm>
            <a:off x="6175440" y="1251000"/>
            <a:ext cx="1049400" cy="254304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6"/>
          <a:stretch/>
        </p:blipFill>
        <p:spPr>
          <a:xfrm>
            <a:off x="6161040" y="4148280"/>
            <a:ext cx="531720" cy="6555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5643360" y="905040"/>
            <a:ext cx="3121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13120" y="3720960"/>
            <a:ext cx="3121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912920" y="1703520"/>
            <a:ext cx="3121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3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14400" y="4541760"/>
            <a:ext cx="3121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037280" y="762120"/>
            <a:ext cx="199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86000" y="3871800"/>
            <a:ext cx="3121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9080" y="4952880"/>
            <a:ext cx="3121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314840" y="1512720"/>
            <a:ext cx="583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ms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534080" y="2874960"/>
            <a:ext cx="583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s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616440" y="3552840"/>
            <a:ext cx="583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ms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010200" y="4578480"/>
            <a:ext cx="583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ms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155920" y="2832120"/>
            <a:ext cx="583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ms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176360" y="2421000"/>
            <a:ext cx="583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ms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584520" y="592200"/>
            <a:ext cx="5202360" cy="50814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78360" y="353880"/>
            <a:ext cx="3404160" cy="766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Disk Writes</a:t>
            </a:r>
            <a:endParaRPr b="0" lang="en-US" sz="4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66560" y="1123920"/>
            <a:ext cx="3301920" cy="766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With DPT’s</a:t>
            </a:r>
            <a:endParaRPr b="0" lang="en-US" sz="4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83200" y="1870200"/>
            <a:ext cx="2489760" cy="766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Elevator</a:t>
            </a:r>
            <a:endParaRPr b="0" lang="en-US" sz="4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12800" y="2633760"/>
            <a:ext cx="2421000" cy="766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Sorting:</a:t>
            </a:r>
            <a:endParaRPr b="0" lang="en-US" sz="4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9520" y="4027320"/>
            <a:ext cx="23738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-6ms average</a:t>
            </a:r>
            <a:endParaRPr b="0" lang="en-US" sz="27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20800" y="4432320"/>
            <a:ext cx="15174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isk write</a:t>
            </a:r>
            <a:endParaRPr b="0" lang="en-US" sz="27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313760" y="1531800"/>
            <a:ext cx="403200" cy="39384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394320" y="1098720"/>
            <a:ext cx="403200" cy="39348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31120" y="3154320"/>
            <a:ext cx="401760" cy="39060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99560" y="2266920"/>
            <a:ext cx="401400" cy="39204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28960" y="2743200"/>
            <a:ext cx="403200" cy="39204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467480" y="4762440"/>
            <a:ext cx="401760" cy="39204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16640" y="5226120"/>
            <a:ext cx="399960" cy="39060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6810480" y="1263600"/>
            <a:ext cx="487080" cy="2509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7550280" y="1946160"/>
            <a:ext cx="361800" cy="3715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8048520" y="2736720"/>
            <a:ext cx="225360" cy="4194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6495840" y="1149480"/>
            <a:ext cx="199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422840" y="1582560"/>
            <a:ext cx="199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097480" y="2316240"/>
            <a:ext cx="199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427600" y="3203640"/>
            <a:ext cx="199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524360" y="4816440"/>
            <a:ext cx="3121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53000" y="5278320"/>
            <a:ext cx="3301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71440" y="2792520"/>
            <a:ext cx="3121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61000" y="1495440"/>
            <a:ext cx="6397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3ms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202520" y="1981080"/>
            <a:ext cx="6397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3ms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34160" y="2770200"/>
            <a:ext cx="6397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3ms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616520" y="3956040"/>
            <a:ext cx="4705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ms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248160" y="4986360"/>
            <a:ext cx="4705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ms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203360" y="4400640"/>
            <a:ext cx="4705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ms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4"/>
          <a:stretch/>
        </p:blipFill>
        <p:spPr>
          <a:xfrm>
            <a:off x="3987720" y="3114720"/>
            <a:ext cx="1486080" cy="224928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5"/>
          <a:stretch/>
        </p:blipFill>
        <p:spPr>
          <a:xfrm>
            <a:off x="7688160" y="3541680"/>
            <a:ext cx="588960" cy="11797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5915160" y="5043600"/>
            <a:ext cx="1568160" cy="554040"/>
          </a:xfrm>
          <a:custGeom>
            <a:avLst/>
            <a:gdLst/>
            <a:ahLst/>
            <a:rect l="l" t="t" r="r" b="b"/>
            <a:pathLst>
              <a:path w="988" h="349">
                <a:moveTo>
                  <a:pt x="0" y="340"/>
                </a:moveTo>
                <a:lnTo>
                  <a:pt x="71" y="348"/>
                </a:lnTo>
                <a:lnTo>
                  <a:pt x="65" y="328"/>
                </a:lnTo>
                <a:lnTo>
                  <a:pt x="987" y="20"/>
                </a:lnTo>
                <a:lnTo>
                  <a:pt x="980" y="0"/>
                </a:lnTo>
                <a:lnTo>
                  <a:pt x="57" y="309"/>
                </a:lnTo>
                <a:lnTo>
                  <a:pt x="51" y="289"/>
                </a:lnTo>
                <a:lnTo>
                  <a:pt x="0" y="34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02200" y="915840"/>
            <a:ext cx="958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20440" y="585720"/>
            <a:ext cx="2322000" cy="824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i="1" lang="en-US" sz="5200" spc="-1" strike="noStrike">
                <a:solidFill>
                  <a:srgbClr val="fafd00"/>
                </a:solidFill>
                <a:latin typeface="Arial"/>
              </a:rPr>
              <a:t>Result:</a:t>
            </a:r>
            <a:endParaRPr b="0" lang="en-US" sz="5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4960" y="2011320"/>
            <a:ext cx="8621280" cy="2904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700" spc="-1" strike="noStrike">
                <a:solidFill>
                  <a:srgbClr val="fc0128"/>
                </a:solidFill>
                <a:latin typeface="Arial"/>
              </a:rPr>
              <a:t>OS Cache:</a:t>
            </a:r>
            <a:endParaRPr b="0" lang="en-US" sz="37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700" spc="-1" strike="noStrike">
                <a:solidFill>
                  <a:srgbClr val="fcfeb9"/>
                </a:solidFill>
                <a:latin typeface="Arial"/>
              </a:rPr>
              <a:t>Best For Improved Read Performance</a:t>
            </a:r>
            <a:endParaRPr b="0" lang="en-US" sz="37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7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700" spc="-1" strike="noStrike">
                <a:solidFill>
                  <a:srgbClr val="fc0128"/>
                </a:solidFill>
                <a:latin typeface="Arial"/>
              </a:rPr>
              <a:t>DPT Cache:</a:t>
            </a:r>
            <a:endParaRPr b="0" lang="en-US" sz="37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700" spc="-1" strike="noStrike">
                <a:solidFill>
                  <a:srgbClr val="fcfeb9"/>
                </a:solidFill>
                <a:latin typeface="Arial"/>
              </a:rPr>
              <a:t>Best For Improved Write Performance</a:t>
            </a:r>
            <a:endParaRPr b="0" lang="en-US" sz="37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95880" y="289080"/>
            <a:ext cx="7936560" cy="717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i="1" lang="en-US" sz="4500" spc="-1" strike="noStrike">
                <a:solidFill>
                  <a:srgbClr val="fafd00"/>
                </a:solidFill>
                <a:latin typeface="Arial"/>
              </a:rPr>
              <a:t>Hardware vs. Software RAID </a:t>
            </a:r>
            <a:endParaRPr b="0" lang="en-US" sz="4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17000" y="1066680"/>
            <a:ext cx="5113080" cy="847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Arial"/>
              </a:rPr>
              <a:t>Software RAID...</a:t>
            </a:r>
            <a:endParaRPr b="0" lang="en-US" sz="5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1504440" y="2247840"/>
            <a:ext cx="7067880" cy="3943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eals CPU cycl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S dependent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y not be bootabl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es additional I/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8560" y="3584520"/>
            <a:ext cx="8039160" cy="9907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99800" y="3548160"/>
            <a:ext cx="5733360" cy="75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CSI Host Bus Adapters</a:t>
            </a:r>
            <a:endParaRPr b="0" lang="en-US" sz="4400" spc="-1" strike="noStrike">
              <a:solidFill>
                <a:srgbClr val="d49fff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287360" y="1660680"/>
          <a:ext cx="702648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1660680"/>
                    <a:ext cx="702648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-3240" y="5873760"/>
            <a:ext cx="913788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Upgradable adapters with ‘Grow-as-you-Go’ architecture </a:t>
            </a:r>
            <a:endParaRPr b="0" lang="en-US" sz="22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for increased scalability and ease of use</a:t>
            </a:r>
            <a:endParaRPr b="0" lang="en-US" sz="2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386080" y="1042920"/>
            <a:ext cx="4794120" cy="439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300" spc="-1" strike="noStrike">
                <a:solidFill>
                  <a:srgbClr val="00ff00"/>
                </a:solidFill>
                <a:latin typeface="Arial"/>
              </a:rPr>
              <a:t>Upgradable SCSI Adapters</a:t>
            </a:r>
            <a:endParaRPr b="0" lang="en-US" sz="23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1714680" y="1447920"/>
            <a:ext cx="5829120" cy="43686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851480" y="3436920"/>
            <a:ext cx="2908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PCI, EISA, ISA Adapters</a:t>
            </a:r>
            <a:endParaRPr b="0" lang="en-US" sz="1900" spc="-1" strike="noStrike">
              <a:solidFill>
                <a:srgbClr val="d49fff"/>
              </a:solidFill>
              <a:latin typeface="Times New Roman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2435400" y="228600"/>
          <a:ext cx="503208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5400" y="228600"/>
                    <a:ext cx="5032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DPT Product Number Structure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1920" y="1539720"/>
            <a:ext cx="7947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PM - Processing Module, Controller Card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RC - RAID/Caching Module, Adds RAID &amp; Cache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SM - SIMM Memory Module, ECC Cache RAM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50000" y="2987640"/>
            <a:ext cx="2539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  b  c  d  /  e  f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195640" y="3749760"/>
            <a:ext cx="473364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- Controller’s Cache Status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- Controller’s CPU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- Controller Architechure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- Host Bus Interface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- Device Interface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- Controller Floppy Option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How To Contac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DPT Technical Support</a:t>
            </a:r>
            <a:endParaRPr b="1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019560" cy="4876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AM - 6PM  Monday-Friday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MT -05:0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7-830-5522 tel.  -  407-260-5366 fa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 - “support@dpt.com”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- www.dpt.co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nymous ftp - ftp.dpt.com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350496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08240" y="6230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36960" y="2930400"/>
            <a:ext cx="181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104920" y="189000"/>
          <a:ext cx="514188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4920" y="189000"/>
                    <a:ext cx="51418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"/>
          <p:cNvSpPr/>
          <p:nvPr/>
        </p:nvSpPr>
        <p:spPr>
          <a:xfrm>
            <a:off x="701640" y="1393920"/>
            <a:ext cx="262548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afd00"/>
                </a:solidFill>
                <a:uFillTx/>
                <a:latin typeface="Arial"/>
              </a:rPr>
              <a:t>PCI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M2044U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M2044W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M2044UW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M2144W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M2144UW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11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411880" y="1373040"/>
            <a:ext cx="24699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afd00"/>
                </a:solidFill>
                <a:uFillTx/>
                <a:latin typeface="Arial"/>
              </a:rPr>
              <a:t>EISA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M2042W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M2142W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472360" y="3324240"/>
            <a:ext cx="2331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afd00"/>
                </a:solidFill>
                <a:uFillTx/>
                <a:latin typeface="Arial"/>
              </a:rPr>
              <a:t>ISA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M2041W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1840" y="4664160"/>
            <a:ext cx="7912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All SmartCache IV are Cache/RAID Upgradeable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38240" y="5121360"/>
            <a:ext cx="8434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Processor is Either 68000 or 68020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Last Number in Part Number Indicates Bus Interface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4 = PCI, 2 = EISA, 1 = ISA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108240" y="6230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36960" y="2930400"/>
            <a:ext cx="181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104480" y="5702400"/>
            <a:ext cx="454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mware: One EPROM - 2 MB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19240" y="6189840"/>
            <a:ext cx="694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SI BIOS ROM: Embedded in firmware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802600" y="2298600"/>
            <a:ext cx="6337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s up to 40 MB/s SCSI Bus Transfers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836800" y="2646360"/>
            <a:ext cx="560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SI connectors: 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932200" y="2994120"/>
            <a:ext cx="55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ternal 50-pin Berg header &amp; 68-pin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01840" y="3355920"/>
            <a:ext cx="359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density connector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069920" y="4176720"/>
            <a:ext cx="594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up to 15 SCSI devices per HBA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111320" y="5235480"/>
            <a:ext cx="56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 cache and RAID upgradable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927160" y="3805200"/>
            <a:ext cx="555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xternal 68-pin high density connector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41120" y="1893960"/>
            <a:ext cx="508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ola 68000/20 MHz Processor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87840" y="1503360"/>
            <a:ext cx="565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2 MB/s PCI Bus Mastering Transfers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091520" y="4746600"/>
            <a:ext cx="411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gradable Half slot design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2257560" y="189000"/>
          <a:ext cx="514188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7560" y="189000"/>
                    <a:ext cx="51418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76320" y="2106720"/>
            <a:ext cx="2752560" cy="194472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311040" y="169920"/>
            <a:ext cx="1982880" cy="1881000"/>
          </a:xfrm>
          <a:custGeom>
            <a:avLst/>
            <a:gdLst>
              <a:gd name="textAreaLeft" fmla="*/ 452520 w 1982880"/>
              <a:gd name="textAreaRight" fmla="*/ 1530360 w 1982880"/>
              <a:gd name="textAreaTop" fmla="*/ 429480 h 1881000"/>
              <a:gd name="textAreaBottom" fmla="*/ 1451520 h 188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d49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/WIDE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SI-3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77840" y="1012680"/>
            <a:ext cx="327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M2044U/W/UW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11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36960" y="2930400"/>
            <a:ext cx="181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24920" y="5769000"/>
            <a:ext cx="454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mware: One EPROM - 2 MB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027080" y="6242040"/>
            <a:ext cx="725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SI BIOS ROM: Embedded in firmware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068480" y="4726080"/>
            <a:ext cx="731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performance upgradable half slot design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785680" y="2282760"/>
            <a:ext cx="62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s up to 40 MB/s SCSI BusTransfers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20960" y="2629080"/>
            <a:ext cx="560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SI connectors: 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81440" y="2976480"/>
            <a:ext cx="55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ternal 50-pin Berg header &amp; 68-pin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100320" y="3355920"/>
            <a:ext cx="359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density connector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069920" y="4192560"/>
            <a:ext cx="586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up to 15 SCSI devices per HBA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49400" y="5235480"/>
            <a:ext cx="56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 cache and RAID upgradable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909520" y="3754440"/>
            <a:ext cx="555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xternal 68-pin high density connector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04760" y="1928880"/>
            <a:ext cx="508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ola 68020/20 MHz Processor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770200" y="1554120"/>
            <a:ext cx="565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2 MB/s PCI Bus Mastering Transfers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2308320" y="138240"/>
          <a:ext cx="514188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8320" y="138240"/>
                    <a:ext cx="51418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76320" y="2106720"/>
            <a:ext cx="2752560" cy="194472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311040" y="169920"/>
            <a:ext cx="1982880" cy="1881000"/>
          </a:xfrm>
          <a:custGeom>
            <a:avLst/>
            <a:gdLst>
              <a:gd name="textAreaLeft" fmla="*/ 452520 w 1982880"/>
              <a:gd name="textAreaRight" fmla="*/ 1530360 w 1982880"/>
              <a:gd name="textAreaTop" fmla="*/ 429480 h 1881000"/>
              <a:gd name="textAreaBottom" fmla="*/ 1451520 h 188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d49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/WIDE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SI-3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653800" y="1012680"/>
            <a:ext cx="298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M2144/W/UW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11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036960" y="2930400"/>
            <a:ext cx="181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71040" y="5624640"/>
            <a:ext cx="454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mware: One EPROM - 2 MB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73200" y="6097680"/>
            <a:ext cx="354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SI BIOS ROM: 256K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9040" y="4726080"/>
            <a:ext cx="447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gradable half slot design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786760" y="2265480"/>
            <a:ext cx="623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s up to 20 MB/s SCSI Bus Tansfers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03680" y="2679840"/>
            <a:ext cx="560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SI connectors: 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1600" y="3095640"/>
            <a:ext cx="55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ternal 50-pin Berg header &amp; 68-pin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16160" y="3424320"/>
            <a:ext cx="359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density connector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7240" y="4268880"/>
            <a:ext cx="8190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up to 15 SCSI devices per HBA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78240" y="5167440"/>
            <a:ext cx="56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 cache and RAID upgradable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944440" y="3840120"/>
            <a:ext cx="555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xternal 68-pin high density connector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06200" y="1825560"/>
            <a:ext cx="508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ola 68000/20 MHz Processor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769480" y="1469880"/>
            <a:ext cx="567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3 MB/s EISA Bus Mastering Transfers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2324160" y="189000"/>
          <a:ext cx="514188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4160" y="189000"/>
                    <a:ext cx="51418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>
            <a:off x="311040" y="169920"/>
            <a:ext cx="1982880" cy="1881000"/>
          </a:xfrm>
          <a:custGeom>
            <a:avLst/>
            <a:gdLst>
              <a:gd name="textAreaLeft" fmla="*/ 452520 w 1982880"/>
              <a:gd name="textAreaRight" fmla="*/ 1530360 w 1982880"/>
              <a:gd name="textAreaTop" fmla="*/ 429480 h 1881000"/>
              <a:gd name="textAreaBottom" fmla="*/ 1451520 h 188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d49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/WIDE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SI-3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0" y="2136600"/>
            <a:ext cx="2819520" cy="210996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5671800" y="912960"/>
            <a:ext cx="2190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M2042/W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90956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11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36960" y="2930400"/>
            <a:ext cx="181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975600" y="5853240"/>
            <a:ext cx="454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mware: One EPROM - 2 MB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977760" y="6326280"/>
            <a:ext cx="354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SI BIOS ROM: 256K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011240" y="4844880"/>
            <a:ext cx="453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gradable half slot design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802600" y="2232000"/>
            <a:ext cx="6337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s up to 20 MB/s SCSI Bus Transfers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786040" y="2611440"/>
            <a:ext cx="560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SI connectors: 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862360" y="2976480"/>
            <a:ext cx="55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ternal 50-pin Berg header &amp; 68-pin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236760" y="3322800"/>
            <a:ext cx="359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density connector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952560" y="4321080"/>
            <a:ext cx="659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up to 15 SCSI devices per HBA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982800" y="5319720"/>
            <a:ext cx="56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 cache and RAID upgradable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977920" y="3770280"/>
            <a:ext cx="555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xternal 68-pin high density connector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22040" y="1825560"/>
            <a:ext cx="508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ola 68020/20 MHz Processor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802960" y="1419120"/>
            <a:ext cx="567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3 MB/s EISA Bus Mastering Transfers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2341440" y="120600"/>
          <a:ext cx="514188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1440" y="120600"/>
                    <a:ext cx="51418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"/>
          <p:cNvSpPr/>
          <p:nvPr/>
        </p:nvSpPr>
        <p:spPr>
          <a:xfrm>
            <a:off x="311040" y="169920"/>
            <a:ext cx="1982880" cy="1881000"/>
          </a:xfrm>
          <a:custGeom>
            <a:avLst/>
            <a:gdLst>
              <a:gd name="textAreaLeft" fmla="*/ 452520 w 1982880"/>
              <a:gd name="textAreaRight" fmla="*/ 1530360 w 1982880"/>
              <a:gd name="textAreaTop" fmla="*/ 429480 h 1881000"/>
              <a:gd name="textAreaBottom" fmla="*/ 1451520 h 188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d49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/WIDE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SI-3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0" y="2138400"/>
            <a:ext cx="2817720" cy="196992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5671800" y="912960"/>
            <a:ext cx="2190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M2142/W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11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36960" y="2930400"/>
            <a:ext cx="181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661400" y="5700600"/>
            <a:ext cx="454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mware: One EPROM - 2 MB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63560" y="6249960"/>
            <a:ext cx="354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SI BIOS ROM: 256K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79400" y="4726080"/>
            <a:ext cx="4185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gradable half slot design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01880" y="2316240"/>
            <a:ext cx="6423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s up to 20 MB/s SCSI Bus Transfers 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38600" y="2662200"/>
            <a:ext cx="560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SI connectors: 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846520" y="3044880"/>
            <a:ext cx="55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ternal 50-pin Berg header &amp; 68-pin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092400" y="3373560"/>
            <a:ext cx="3672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density connector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77960" y="4176720"/>
            <a:ext cx="7462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up to 15 SCSI devices per HBA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668600" y="5167440"/>
            <a:ext cx="56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 cache and RAID upgradable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892240" y="3754440"/>
            <a:ext cx="555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xternal 68-pin high density connector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806200" y="1893960"/>
            <a:ext cx="508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ola 68000/20 MHz Processor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86760" y="1487520"/>
            <a:ext cx="5473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A 10 MB/s Bus Mastering Transfers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2341440" y="155520"/>
          <a:ext cx="514188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1440" y="155520"/>
                    <a:ext cx="51418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"/>
          <p:cNvSpPr/>
          <p:nvPr/>
        </p:nvSpPr>
        <p:spPr>
          <a:xfrm>
            <a:off x="311040" y="169920"/>
            <a:ext cx="1982880" cy="1881000"/>
          </a:xfrm>
          <a:custGeom>
            <a:avLst/>
            <a:gdLst>
              <a:gd name="textAreaLeft" fmla="*/ 452520 w 1982880"/>
              <a:gd name="textAreaRight" fmla="*/ 1530360 w 1982880"/>
              <a:gd name="textAreaTop" fmla="*/ 429480 h 1881000"/>
              <a:gd name="textAreaBottom" fmla="*/ 1451520 h 188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d49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/WIDE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SI-3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3"/>
          <a:stretch/>
        </p:blipFill>
        <p:spPr>
          <a:xfrm>
            <a:off x="0" y="2124000"/>
            <a:ext cx="2836800" cy="192096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5673240" y="912960"/>
            <a:ext cx="2190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M2041/W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985520" y="635652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11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28560" y="3584520"/>
            <a:ext cx="8039160" cy="9907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765880" y="2986200"/>
            <a:ext cx="38376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ption Modules</a:t>
            </a:r>
            <a:endParaRPr b="0" lang="en-US" sz="4400" spc="-1" strike="noStrike">
              <a:solidFill>
                <a:srgbClr val="d49fff"/>
              </a:solidFill>
              <a:latin typeface="Times New Roman"/>
            </a:endParaRPr>
          </a:p>
        </p:txBody>
      </p:sp>
      <p:graphicFrame>
        <p:nvGraphicFramePr>
          <p:cNvPr id="754" name=""/>
          <p:cNvGraphicFramePr/>
          <p:nvPr/>
        </p:nvGraphicFramePr>
        <p:xfrm>
          <a:off x="1254240" y="1487520"/>
          <a:ext cx="702612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4240" y="1487520"/>
                    <a:ext cx="702612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046160" y="5832360"/>
            <a:ext cx="1917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49320" y="3191040"/>
            <a:ext cx="3566880" cy="3315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0" name=""/>
          <p:cNvGraphicFramePr/>
          <p:nvPr/>
        </p:nvGraphicFramePr>
        <p:xfrm>
          <a:off x="2435400" y="228600"/>
          <a:ext cx="503208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5400" y="228600"/>
                    <a:ext cx="5032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"/>
          <p:cNvSpPr/>
          <p:nvPr/>
        </p:nvSpPr>
        <p:spPr>
          <a:xfrm>
            <a:off x="1433520" y="2273400"/>
            <a:ext cx="7480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add-on Cache &amp; RAID module attaches  directly to the end of your SmartCache IV adapter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644640" y="3767040"/>
            <a:ext cx="25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73720" y="3035160"/>
            <a:ext cx="4304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on-board SIMM sockets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578400" y="3508200"/>
            <a:ext cx="564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s up to 64 MB hardware cac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593880" y="4041720"/>
            <a:ext cx="504720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DPT ECC SIMMs or Standar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Ms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 36-bit, or 32-bit  72-pin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gle sided, low-profile SIMMs may be used.)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617640" y="5202360"/>
            <a:ext cx="5138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t in suppor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RAID 0, 1 and 5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424160" y="1390680"/>
            <a:ext cx="6669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C4040 RAID/Caching Module</a:t>
            </a:r>
            <a:endParaRPr b="0" lang="en-US" sz="3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39960" y="5700600"/>
            <a:ext cx="535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l first &amp; largest SIMM in Slot # 1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11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046160" y="5832360"/>
            <a:ext cx="1917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2054160" y="228600"/>
          <a:ext cx="50324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228600"/>
                    <a:ext cx="5032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8" name=""/>
          <p:cNvSpPr/>
          <p:nvPr/>
        </p:nvSpPr>
        <p:spPr>
          <a:xfrm>
            <a:off x="458640" y="1739880"/>
            <a:ext cx="8455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add-on Cache &amp; RAID module attaches directly to the end of SmartCache IV adapter, in a half-slot design 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644640" y="3767040"/>
            <a:ext cx="25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58640" y="2502000"/>
            <a:ext cx="7621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on-board DIMM sockets, supports up to 32 MB hardware cache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69800" y="3279600"/>
            <a:ext cx="80629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DPT ECC DIMMs or Standard DIMMs 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 32-bit, 72-pin, single sided, low-profile.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183280" y="3906720"/>
            <a:ext cx="3773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t in suppor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RAID 0, 1 and 5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24160" y="1162080"/>
            <a:ext cx="6669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C4041 RAID/Caching Module</a:t>
            </a:r>
            <a:endParaRPr b="0" lang="en-US" sz="3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183280" y="4862520"/>
            <a:ext cx="3887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l first &amp; largest DIMM in Slot # 1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3"/>
          <a:stretch/>
        </p:blipFill>
        <p:spPr>
          <a:xfrm>
            <a:off x="266760" y="4086360"/>
            <a:ext cx="4790880" cy="248580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11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166680" y="1641600"/>
            <a:ext cx="4513320" cy="348768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251280" y="378000"/>
            <a:ext cx="8020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DPT Error Correction Code SIMMs</a:t>
            </a:r>
            <a:endParaRPr b="0" lang="en-US" sz="4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588280" y="1357200"/>
            <a:ext cx="2520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SM4000/4</a:t>
            </a:r>
            <a:endParaRPr b="0" lang="en-US" sz="36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SM4000/16</a:t>
            </a:r>
            <a:endParaRPr b="0" lang="en-US" sz="3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3520" y="5354640"/>
            <a:ext cx="7927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 SM4000 SIMM is installed, the advanced ECC 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orithm will protect the entire data path through the 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er cache and other adapter hardwar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804200" y="2822400"/>
            <a:ext cx="4247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PT ECC SIMMs are 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in a 4 MB or 16 MB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12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Arial"/>
              </a:rPr>
              <a:t>General SCSI Guidelines</a:t>
            </a:r>
            <a:endParaRPr b="1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03400" y="2913120"/>
            <a:ext cx="6819840" cy="3790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Maximum Cable Length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 3 Meters (10 feet) @ 10M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Stub Spac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 Minimum 12 inches between connect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que SCSI ID for each dev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end of the Bus requires termin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terminated device to supply term pow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31920" y="1384200"/>
            <a:ext cx="6680160" cy="279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1384200"/>
            <a:ext cx="0" cy="279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13716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72400" y="1384200"/>
            <a:ext cx="0" cy="279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384200"/>
            <a:ext cx="0" cy="279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1384200"/>
            <a:ext cx="0" cy="279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08240" y="1689120"/>
            <a:ext cx="3022560" cy="66024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330440" y="1689120"/>
            <a:ext cx="3530520" cy="66024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77080" y="234936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46720" y="1689120"/>
            <a:ext cx="1422360" cy="66024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769080" y="1689120"/>
            <a:ext cx="1092240" cy="66024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30840" y="2355840"/>
            <a:ext cx="378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55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28560" y="3584520"/>
            <a:ext cx="8039160" cy="9907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00880" y="3548160"/>
            <a:ext cx="5529240" cy="75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CSI RAID Controllers</a:t>
            </a:r>
            <a:endParaRPr b="0" lang="en-US" sz="4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976320" y="1144440"/>
            <a:ext cx="6489720" cy="1307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G Times (W1)"/>
              </a:rPr>
              <a:t>SMART</a:t>
            </a:r>
            <a:r>
              <a:rPr b="1" lang="en-US" sz="8000" spc="-1" strike="noStrike">
                <a:solidFill>
                  <a:srgbClr val="fc0128"/>
                </a:solidFill>
                <a:latin typeface="CG Times (W1)"/>
              </a:rPr>
              <a:t>RAID</a:t>
            </a:r>
            <a:endParaRPr b="0" lang="en-US" sz="8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935760" y="1257480"/>
            <a:ext cx="113976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CG Times (W1)"/>
              </a:rPr>
              <a:t>IV</a:t>
            </a:r>
            <a:endParaRPr b="0" lang="en-US" sz="66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graphicFrame>
        <p:nvGraphicFramePr>
          <p:cNvPr id="811" name=""/>
          <p:cNvGraphicFramePr/>
          <p:nvPr/>
        </p:nvGraphicFramePr>
        <p:xfrm>
          <a:off x="1906560" y="203040"/>
          <a:ext cx="4427640" cy="8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6560" y="203040"/>
                    <a:ext cx="442764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19000" y="1913040"/>
            <a:ext cx="2625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afd00"/>
                </a:solidFill>
                <a:uFillTx/>
                <a:latin typeface="Arial"/>
              </a:rPr>
              <a:t>PCI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M3334UW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191280" y="38160"/>
            <a:ext cx="99828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CG Times (W1)"/>
              </a:rPr>
              <a:t>IV</a:t>
            </a:r>
            <a:endParaRPr b="0" lang="en-US" sz="6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15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19720" y="1876320"/>
            <a:ext cx="2625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afd00"/>
                </a:solidFill>
                <a:uFillTx/>
                <a:latin typeface="Arial"/>
              </a:rPr>
              <a:t>EISA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M3332UW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282680" y="3902040"/>
            <a:ext cx="655164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Cache &amp; Hardware RAID Ready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68040 Processor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Multi-Channel Upgradeable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Monitors Temperature &amp; Voltage of Host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17680" y="479520"/>
            <a:ext cx="1676160" cy="1633320"/>
          </a:xfrm>
          <a:custGeom>
            <a:avLst/>
            <a:gdLst>
              <a:gd name="textAreaLeft" fmla="*/ 382680 w 1676160"/>
              <a:gd name="textAreaRight" fmla="*/ 1293480 w 1676160"/>
              <a:gd name="textAreaTop" fmla="*/ 372600 h 1633320"/>
              <a:gd name="textAreaBottom" fmla="*/ 1260720 h 1633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d49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ra Wide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2135160" y="203040"/>
          <a:ext cx="4427640" cy="8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5160" y="203040"/>
                    <a:ext cx="442764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7" name="" descr=""/>
          <p:cNvPicPr/>
          <p:nvPr/>
        </p:nvPicPr>
        <p:blipFill>
          <a:blip r:embed="rId3"/>
          <a:stretch/>
        </p:blipFill>
        <p:spPr>
          <a:xfrm>
            <a:off x="341280" y="2308320"/>
            <a:ext cx="2820960" cy="196200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3416040" y="2197080"/>
            <a:ext cx="508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ola 68040/40 MHz Processor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390840" y="1663560"/>
            <a:ext cx="565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2 MB/s PCI Bus Mastering Transfers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320" y="5853240"/>
            <a:ext cx="2593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mware: Flash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3360" y="6400800"/>
            <a:ext cx="366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SI BIOS ROM: Flash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338640" y="4344840"/>
            <a:ext cx="549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 cache &amp; RAID ready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440160" y="2654280"/>
            <a:ext cx="486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s up to 40 MB/s SCSI 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 Transfers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352680" y="3506760"/>
            <a:ext cx="50961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s up to 15 SCSI devices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 channel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40" y="4940280"/>
            <a:ext cx="913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s temperature and voltage of Server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240" y="5351400"/>
            <a:ext cx="913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gradable to support two or three channels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771520" y="115092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M3334UW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419880" y="38160"/>
            <a:ext cx="99828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CG Times (W1)"/>
              </a:rPr>
              <a:t>IV</a:t>
            </a:r>
            <a:endParaRPr b="0" lang="en-US" sz="6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15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17680" y="479520"/>
            <a:ext cx="1676160" cy="1633320"/>
          </a:xfrm>
          <a:custGeom>
            <a:avLst/>
            <a:gdLst>
              <a:gd name="textAreaLeft" fmla="*/ 382680 w 1676160"/>
              <a:gd name="textAreaRight" fmla="*/ 1293480 w 1676160"/>
              <a:gd name="textAreaTop" fmla="*/ 372600 h 1633320"/>
              <a:gd name="textAreaBottom" fmla="*/ 1260720 h 1633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d49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ra Wide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graphicFrame>
        <p:nvGraphicFramePr>
          <p:cNvPr id="847" name=""/>
          <p:cNvGraphicFramePr/>
          <p:nvPr/>
        </p:nvGraphicFramePr>
        <p:xfrm>
          <a:off x="2201760" y="195120"/>
          <a:ext cx="4427640" cy="8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1760" y="195120"/>
                    <a:ext cx="442764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"/>
          <p:cNvSpPr/>
          <p:nvPr/>
        </p:nvSpPr>
        <p:spPr>
          <a:xfrm>
            <a:off x="3330360" y="2233440"/>
            <a:ext cx="508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ola 68040/40 MHz Processor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338640" y="1774800"/>
            <a:ext cx="5673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3 MB/s EISA Bus Mastering Transfers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320" y="5929200"/>
            <a:ext cx="252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mware: Flash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240" y="6400800"/>
            <a:ext cx="555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SI BIOS ROM: One  EPROM 256K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303720" y="2698920"/>
            <a:ext cx="486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s up to 40 MB/s SCSI 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 Tansfers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359160" y="3483000"/>
            <a:ext cx="5103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DE adapter model supports up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15 SCSI devices per HBA.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240" y="4788000"/>
            <a:ext cx="9139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s temperature and voltage of Server and SmartRAID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-system.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40" y="5504040"/>
            <a:ext cx="913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gradable to support two or three  channe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3"/>
          <a:stretch/>
        </p:blipFill>
        <p:spPr>
          <a:xfrm>
            <a:off x="68400" y="2262240"/>
            <a:ext cx="3267000" cy="227016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3517920" y="4309920"/>
            <a:ext cx="203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338640" y="4344840"/>
            <a:ext cx="549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 cache &amp; RAID ready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771520" y="115092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M3332UW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462720" y="38160"/>
            <a:ext cx="107964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CG Times (W1)"/>
              </a:rPr>
              <a:t>IV</a:t>
            </a:r>
            <a:endParaRPr b="0" lang="en-US" sz="6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15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595680" y="1824120"/>
            <a:ext cx="546408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Arial"/>
              </a:rPr>
              <a:t>Upgrades SmartRAID controllers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Arial"/>
              </a:rPr>
              <a:t>to 2 or 3 Ultra Wide SCSI channels</a:t>
            </a:r>
            <a:br>
              <a:rPr sz="2400"/>
            </a:b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Arial"/>
              </a:rPr>
              <a:t>Self-configuring, no switches or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Arial"/>
              </a:rPr>
              <a:t>jumpers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Arial"/>
              </a:rPr>
              <a:t>Used with PM3334 or PM3332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23280" y="1779480"/>
            <a:ext cx="3124080" cy="25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i="1" lang="en-US" sz="3200" spc="-1" strike="noStrike" u="sng">
                <a:solidFill>
                  <a:srgbClr val="fafd00"/>
                </a:solidFill>
                <a:uFillTx/>
                <a:latin typeface="Arial"/>
              </a:rPr>
              <a:t>Channel Module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X4030/1UW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X4030/2UW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  <p:graphicFrame>
        <p:nvGraphicFramePr>
          <p:cNvPr id="871" name=""/>
          <p:cNvGraphicFramePr/>
          <p:nvPr/>
        </p:nvGraphicFramePr>
        <p:xfrm>
          <a:off x="2117880" y="201600"/>
          <a:ext cx="4427280" cy="8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7880" y="201600"/>
                    <a:ext cx="442728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3" name=""/>
          <p:cNvSpPr/>
          <p:nvPr/>
        </p:nvSpPr>
        <p:spPr>
          <a:xfrm>
            <a:off x="6419880" y="38160"/>
            <a:ext cx="99828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CG Times (W1)"/>
              </a:rPr>
              <a:t>IV</a:t>
            </a:r>
            <a:endParaRPr b="0" lang="en-US" sz="6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15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166680" y="1641600"/>
            <a:ext cx="4513320" cy="348768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251280" y="378000"/>
            <a:ext cx="8020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DPT Error Correction Code SIMMs</a:t>
            </a:r>
            <a:endParaRPr b="0" lang="en-US" sz="4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588280" y="1357200"/>
            <a:ext cx="2520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SM4000/4</a:t>
            </a:r>
            <a:endParaRPr b="0" lang="en-US" sz="36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SM4000/16</a:t>
            </a:r>
            <a:endParaRPr b="0" lang="en-US" sz="3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4600" y="5354640"/>
            <a:ext cx="7878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 SM4000 SIMM is installed, the advanced ECC 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orithm will protect the entire data path through the 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er cache and other adapter hardwar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804200" y="2822400"/>
            <a:ext cx="4247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PT ECC SIMMs are 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in a 4 MB or 16 MB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12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Adapter Troubleshooting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echnique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4724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SI BIOS 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tain Peripheral Inventory Li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ify HBA’s Firmware &amp; BIOS ROM Ver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ify HBA I/O Port &amp; IRQ Val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ify a Peripheral’s SCSI ID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BA’s 10 Segment LED Ban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LINKLED Patterns (Occur During HBA Initializatio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 Operation Definition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moval of Attached Mod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C4040 or RC4041 (SmartCache I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X4030 (SmartRAID IV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2560" cy="76212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CSI BIOS ROM MESSAG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495680" cy="12189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PT  SCSI BIO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x.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ed Processing Technolo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© Copyright 1990-199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1295280"/>
            <a:ext cx="9067680" cy="129564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 rot="16200000">
            <a:off x="2551320" y="1333440"/>
            <a:ext cx="533520" cy="152280"/>
          </a:xfrm>
          <a:prstGeom prst="rightArrow">
            <a:avLst>
              <a:gd name="adj1" fmla="val 50000"/>
              <a:gd name="adj2" fmla="val 175193"/>
            </a:avLst>
          </a:prstGeom>
          <a:solidFill>
            <a:srgbClr val="fc0128"/>
          </a:solidFill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286000" y="1066680"/>
            <a:ext cx="304920" cy="457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52280" y="411480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ler: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xxx    -R    W /UW    v0xx     4.0MB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OR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:xxxx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RQ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:xx 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80880" y="2971800"/>
            <a:ext cx="5105520" cy="457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CTRL-D&gt; for DPT Configuration Utility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6320" y="4724280"/>
            <a:ext cx="8839080" cy="1828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SCSI BIOS ROM (SmartROM) Version 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Installed Cache Amount 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Controller Model Number                     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I/O Adddress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RAID Enabled                                         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IRQ Setting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Wide/Ultra Wide SCSI Capable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Controller Firmware Version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 rot="16200000">
            <a:off x="1484640" y="3771720"/>
            <a:ext cx="533520" cy="152280"/>
          </a:xfrm>
          <a:prstGeom prst="rightArrow">
            <a:avLst>
              <a:gd name="adj1" fmla="val 50000"/>
              <a:gd name="adj2" fmla="val 175193"/>
            </a:avLst>
          </a:prstGeom>
          <a:solidFill>
            <a:srgbClr val="fc0128"/>
          </a:solidFill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 rot="16200000">
            <a:off x="2247840" y="3695400"/>
            <a:ext cx="533160" cy="152640"/>
          </a:xfrm>
          <a:prstGeom prst="rightArrow">
            <a:avLst>
              <a:gd name="adj1" fmla="val 50000"/>
              <a:gd name="adj2" fmla="val 174662"/>
            </a:avLst>
          </a:prstGeom>
          <a:solidFill>
            <a:srgbClr val="fc0128"/>
          </a:solidFill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rot="16200000">
            <a:off x="3085200" y="3695760"/>
            <a:ext cx="533160" cy="152280"/>
          </a:xfrm>
          <a:prstGeom prst="rightArrow">
            <a:avLst>
              <a:gd name="adj1" fmla="val 50000"/>
              <a:gd name="adj2" fmla="val 175075"/>
            </a:avLst>
          </a:prstGeom>
          <a:solidFill>
            <a:srgbClr val="fc0128"/>
          </a:solidFill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 rot="16200000">
            <a:off x="3923280" y="3695760"/>
            <a:ext cx="533160" cy="152280"/>
          </a:xfrm>
          <a:prstGeom prst="rightArrow">
            <a:avLst>
              <a:gd name="adj1" fmla="val 50000"/>
              <a:gd name="adj2" fmla="val 175075"/>
            </a:avLst>
          </a:prstGeom>
          <a:solidFill>
            <a:srgbClr val="fc0128"/>
          </a:solidFill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 rot="16200000">
            <a:off x="4914000" y="3695760"/>
            <a:ext cx="533160" cy="152280"/>
          </a:xfrm>
          <a:prstGeom prst="rightArrow">
            <a:avLst>
              <a:gd name="adj1" fmla="val 50000"/>
              <a:gd name="adj2" fmla="val 175075"/>
            </a:avLst>
          </a:prstGeom>
          <a:solidFill>
            <a:srgbClr val="fc0128"/>
          </a:solidFill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 rot="16200000">
            <a:off x="5980320" y="3771720"/>
            <a:ext cx="533520" cy="152280"/>
          </a:xfrm>
          <a:prstGeom prst="rightArrow">
            <a:avLst>
              <a:gd name="adj1" fmla="val 50000"/>
              <a:gd name="adj2" fmla="val 175193"/>
            </a:avLst>
          </a:prstGeom>
          <a:solidFill>
            <a:srgbClr val="fc0128"/>
          </a:solidFill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 rot="16200000">
            <a:off x="7351920" y="3771720"/>
            <a:ext cx="533520" cy="152280"/>
          </a:xfrm>
          <a:prstGeom prst="rightArrow">
            <a:avLst>
              <a:gd name="adj1" fmla="val 50000"/>
              <a:gd name="adj2" fmla="val 175193"/>
            </a:avLst>
          </a:prstGeom>
          <a:solidFill>
            <a:srgbClr val="fc0128"/>
          </a:solidFill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295280" y="3429000"/>
            <a:ext cx="304920" cy="457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981080" y="3429000"/>
            <a:ext cx="304920" cy="457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819520" y="3429000"/>
            <a:ext cx="304560" cy="457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809880" y="3429000"/>
            <a:ext cx="304920" cy="457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724280" y="3429000"/>
            <a:ext cx="304920" cy="457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791320" y="3429000"/>
            <a:ext cx="304560" cy="457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086600" y="3429000"/>
            <a:ext cx="304920" cy="457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57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LED BLINKLED Patter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94960" y="2476440"/>
            <a:ext cx="716292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87520" y="1816200"/>
            <a:ext cx="4140360" cy="730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762280" y="181620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43160" y="181620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524400" y="183528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943440" y="183528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362480" y="183528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425680" y="1854360"/>
            <a:ext cx="29196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781520" y="183528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219640" y="1816200"/>
            <a:ext cx="0" cy="73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657760" y="181620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076800" y="181620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06560" y="1854360"/>
            <a:ext cx="29232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87800" y="1854360"/>
            <a:ext cx="29196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568680" y="1854360"/>
            <a:ext cx="33012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87720" y="1854360"/>
            <a:ext cx="33012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406760" y="1854360"/>
            <a:ext cx="33048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826160" y="1854360"/>
            <a:ext cx="33012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64280" y="1854360"/>
            <a:ext cx="33012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702400" y="1854360"/>
            <a:ext cx="33012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140520" y="1854360"/>
            <a:ext cx="33012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445840" y="1387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808000" y="1387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207960" y="1387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607920" y="1387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008240" y="1387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43120" y="140652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862160" y="140652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281200" y="14256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738400" y="14256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081120" y="142560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498760" y="2639880"/>
            <a:ext cx="32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98720" y="2620800"/>
            <a:ext cx="32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387520" y="2749680"/>
            <a:ext cx="1530360" cy="50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    2    4   8 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865600" y="3270240"/>
            <a:ext cx="69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SB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968640" y="2730600"/>
            <a:ext cx="1702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005360" y="2805120"/>
            <a:ext cx="1727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    2    4    8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21160" y="3289320"/>
            <a:ext cx="911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SB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147680" y="3700440"/>
            <a:ext cx="6771240" cy="3015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1 - LUNTBL’s Overlap System Stack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2 - SIMM #1 Too Small For Buffers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 - SIMM #1 Is Missing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4 - SIMM #1 Is Parity w/ECC in 2,3, or 4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5 - Load CP DMA Swapped Words of CP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6 - EPROM Checksum Failure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7 - Memory Size Mismatch w/Hardware ID Bits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 - SCSI Bus Reset Stuck More Than 1 Second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60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LED BLINKLED Pattern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(CONT)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94960" y="2476440"/>
            <a:ext cx="716292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387520" y="1816200"/>
            <a:ext cx="4140360" cy="730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762280" y="181620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143160" y="181620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524400" y="183528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943440" y="183528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362480" y="183528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425680" y="1854360"/>
            <a:ext cx="29196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781520" y="183528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219640" y="1816200"/>
            <a:ext cx="0" cy="73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657760" y="181620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076800" y="181620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806560" y="1854360"/>
            <a:ext cx="29232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187800" y="1854360"/>
            <a:ext cx="29196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568680" y="1854360"/>
            <a:ext cx="33012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987720" y="1854360"/>
            <a:ext cx="33012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406760" y="1854360"/>
            <a:ext cx="33048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826160" y="1854360"/>
            <a:ext cx="33012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264280" y="1854360"/>
            <a:ext cx="33012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702400" y="1854360"/>
            <a:ext cx="33012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140520" y="1854360"/>
            <a:ext cx="33012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445840" y="1387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808000" y="1387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207960" y="1387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607920" y="1387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008240" y="1387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443120" y="140652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862160" y="140652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281200" y="14256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738400" y="14256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081120" y="142560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498760" y="2639880"/>
            <a:ext cx="32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898720" y="2620800"/>
            <a:ext cx="32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387520" y="2749680"/>
            <a:ext cx="1530360" cy="50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    2    4   8 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865600" y="3270240"/>
            <a:ext cx="69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SB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968640" y="2730600"/>
            <a:ext cx="1702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005360" y="2805120"/>
            <a:ext cx="1727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    2    4    8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421160" y="3289320"/>
            <a:ext cx="911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SB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372320" y="3871800"/>
            <a:ext cx="6436080" cy="264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9 - PCI MATO (Master Timeout Abort)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A - Fatal SRAM Subordinate Master Abort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B - Fatal SRAM Dominate Master Abort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C - V2 RCTBL Internal Error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D - SmartROM Image Is Missing or Corrupt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E - NVRAM Has Been Erased*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F - Mixture Of Parity &amp; ECC SIMMs Detected</a:t>
            </a:r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60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ypes of Termination</a:t>
            </a:r>
            <a:br>
              <a:rPr sz="4400"/>
            </a:b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960" y="2361960"/>
            <a:ext cx="8839080" cy="4190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ssive Termina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0-ohm Pull Up Resistor from TERMPWR &amp; Signal Lin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30-ohm Pull Down Resistor from GND &amp; Signal Lin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2-ohm Resultant Impedanc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ive Termina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tage Regulator (2.85v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0-ohm Resistor on each Signal Lin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ced Perfect Termination (FPT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nsates for Impedance Variations via Diode Switching and Bia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7920" y="1006560"/>
            <a:ext cx="8522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inition: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pedance Matching Circuit Designed to 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event Signal Reflections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LED Display Quick Referen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94960" y="2476440"/>
            <a:ext cx="716292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387520" y="1816200"/>
            <a:ext cx="4140360" cy="730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762280" y="181620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143160" y="181620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524400" y="183528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943440" y="183528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362480" y="183528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425680" y="1854360"/>
            <a:ext cx="29196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781520" y="183528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219640" y="1816200"/>
            <a:ext cx="0" cy="73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657760" y="181620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076800" y="181620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806560" y="1854360"/>
            <a:ext cx="29232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187800" y="1854360"/>
            <a:ext cx="29196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568680" y="1854360"/>
            <a:ext cx="33012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987720" y="1854360"/>
            <a:ext cx="33012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406760" y="1854360"/>
            <a:ext cx="33048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26160" y="1854360"/>
            <a:ext cx="33012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264280" y="1854360"/>
            <a:ext cx="33012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02400" y="1854360"/>
            <a:ext cx="33012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140520" y="1854360"/>
            <a:ext cx="330120" cy="634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445840" y="1387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808000" y="1387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207960" y="1387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607920" y="1387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008240" y="1387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443120" y="140652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862160" y="140652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281200" y="14256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738400" y="14256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081120" y="142560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498760" y="2639880"/>
            <a:ext cx="32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575240" y="2697120"/>
            <a:ext cx="32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605600" y="2557440"/>
            <a:ext cx="6333840" cy="43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- Busy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- Computer Bus Xfer to Adapter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- Computer Bus Xfer From Adapter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- Cache Hit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- Disk Read Ahead Active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- Disk Read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- Disk Write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- Adapter Reset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 - Adapter IRQ Pending to Computer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- DRQ Asserted to Computer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19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28560" y="3584520"/>
            <a:ext cx="8039160" cy="9907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000520" y="3548160"/>
            <a:ext cx="5469840" cy="75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SI Storage Solutions</a:t>
            </a:r>
            <a:endParaRPr b="0" lang="en-US" sz="4400" spc="-1" strike="noStrike">
              <a:solidFill>
                <a:srgbClr val="d49fff"/>
              </a:solidFill>
              <a:latin typeface="Times New Roman"/>
            </a:endParaRPr>
          </a:p>
        </p:txBody>
      </p:sp>
      <p:graphicFrame>
        <p:nvGraphicFramePr>
          <p:cNvPr id="1056" name=""/>
          <p:cNvGraphicFramePr/>
          <p:nvPr/>
        </p:nvGraphicFramePr>
        <p:xfrm>
          <a:off x="1668600" y="1281240"/>
          <a:ext cx="552600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8600" y="1281240"/>
                    <a:ext cx="552600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8" name=""/>
          <p:cNvSpPr/>
          <p:nvPr/>
        </p:nvSpPr>
        <p:spPr>
          <a:xfrm>
            <a:off x="7033320" y="1190520"/>
            <a:ext cx="1071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CG Times (W1)"/>
              </a:rPr>
              <a:t>IV</a:t>
            </a:r>
            <a:endParaRPr b="0" lang="en-US" sz="72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102200" y="915840"/>
            <a:ext cx="958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945080" y="1179360"/>
            <a:ext cx="5299920" cy="4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i="1" lang="en-US" sz="2900" spc="-1" strike="noStrike">
                <a:solidFill>
                  <a:srgbClr val="00e600"/>
                </a:solidFill>
                <a:latin typeface="Arial"/>
              </a:rPr>
              <a:t>Flexible 'RAID-Ready' Solutions</a:t>
            </a:r>
            <a:endParaRPr b="0" lang="en-US" sz="29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390560" y="6383160"/>
            <a:ext cx="4169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orage Management Software</a:t>
            </a:r>
            <a:endParaRPr b="0" lang="en-US" sz="2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902480" y="4226040"/>
            <a:ext cx="3128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martRAID Controllers</a:t>
            </a:r>
            <a:endParaRPr b="0" lang="en-US" sz="2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16640" y="6058080"/>
            <a:ext cx="406080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martRAID Intelligent Cabinet</a:t>
            </a:r>
            <a:endParaRPr b="0" lang="en-US" sz="22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Hot-Swappable Drives</a:t>
            </a:r>
            <a:endParaRPr b="0" lang="en-US" sz="22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1"/>
          <a:stretch/>
        </p:blipFill>
        <p:spPr>
          <a:xfrm>
            <a:off x="1008000" y="2266920"/>
            <a:ext cx="2129040" cy="3557520"/>
          </a:xfrm>
          <a:prstGeom prst="rect">
            <a:avLst/>
          </a:prstGeom>
          <a:ln w="0">
            <a:noFill/>
          </a:ln>
        </p:spPr>
      </p:pic>
      <p:pic>
        <p:nvPicPr>
          <p:cNvPr id="1069" name="" descr=""/>
          <p:cNvPicPr/>
          <p:nvPr/>
        </p:nvPicPr>
        <p:blipFill>
          <a:blip r:embed="rId2"/>
          <a:stretch/>
        </p:blipFill>
        <p:spPr>
          <a:xfrm>
            <a:off x="5005440" y="1844640"/>
            <a:ext cx="3027240" cy="226224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3"/>
          <a:stretch/>
        </p:blipFill>
        <p:spPr>
          <a:xfrm>
            <a:off x="4986360" y="4726080"/>
            <a:ext cx="3022560" cy="159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1" name=""/>
          <p:cNvGraphicFramePr/>
          <p:nvPr/>
        </p:nvGraphicFramePr>
        <p:xfrm>
          <a:off x="2049480" y="228600"/>
          <a:ext cx="4427640" cy="83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49480" y="228600"/>
                    <a:ext cx="442764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3" name=""/>
          <p:cNvSpPr/>
          <p:nvPr/>
        </p:nvSpPr>
        <p:spPr>
          <a:xfrm>
            <a:off x="6343920" y="114480"/>
            <a:ext cx="99828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CG Times (W1)"/>
              </a:rPr>
              <a:t>IV</a:t>
            </a:r>
            <a:endParaRPr b="0" lang="en-US" sz="66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inet Temperature Statu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inet Power Statu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D Array Statu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matic Drive Removal/Insertion Detec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utomatic RAID Rebuil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sual Cabinet Status Indicator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e Termina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1973160" y="380880"/>
          <a:ext cx="4427640" cy="8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3160" y="380880"/>
                    <a:ext cx="442764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7" name=""/>
          <p:cNvSpPr/>
          <p:nvPr/>
        </p:nvSpPr>
        <p:spPr>
          <a:xfrm>
            <a:off x="6191280" y="266760"/>
            <a:ext cx="99828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CG Times (W1)"/>
              </a:rPr>
              <a:t>IV</a:t>
            </a:r>
            <a:endParaRPr b="0" lang="en-US" sz="6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69080" y="1266840"/>
            <a:ext cx="4448520" cy="576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Sub-System Features 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RAID Station 3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752120" y="3047760"/>
            <a:ext cx="7162920" cy="2895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te RAID K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Hot Swap Locking Drive Bay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wer Enclos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ltra Narrow  or Ultra Wide PCI HB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ID/Caching Modu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 MB of Cache (Expandable to 64 MB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Meter External SCSI C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 RAID Level 0, 1, 5, 0/1 &amp; 0/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64960" y="1109520"/>
            <a:ext cx="1982880" cy="1825920"/>
          </a:xfrm>
          <a:custGeom>
            <a:avLst/>
            <a:gdLst>
              <a:gd name="textAreaLeft" fmla="*/ 452520 w 1982880"/>
              <a:gd name="textAreaRight" fmla="*/ 1530360 w 1982880"/>
              <a:gd name="textAreaTop" fmla="*/ 416880 h 1825920"/>
              <a:gd name="textAreaBottom" fmla="*/ 1409040 h 1825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d49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ra Narrow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ra Wide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16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570840" y="1246320"/>
            <a:ext cx="4399200" cy="538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i="1" lang="en-US" sz="3300" spc="-1" strike="noStrike">
                <a:solidFill>
                  <a:srgbClr val="fafd00"/>
                </a:solidFill>
                <a:latin typeface="Arial"/>
              </a:rPr>
              <a:t>Tower Storage Cabinet</a:t>
            </a:r>
            <a:endParaRPr b="0" lang="en-US" sz="33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/>
          </p:nvPr>
        </p:nvSpPr>
        <p:spPr>
          <a:xfrm>
            <a:off x="2774520" y="1953720"/>
            <a:ext cx="6280200" cy="4172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s up to 9 SCSI Devic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lit Bus Architecture Support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uplexin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undant Power/Fans unit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SI Carrier Devices and Power/Fan units are Hot  Swappabl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orts Environmental Stat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0" name=""/>
          <p:cNvGraphicFramePr/>
          <p:nvPr/>
        </p:nvGraphicFramePr>
        <p:xfrm>
          <a:off x="3581280" y="411120"/>
          <a:ext cx="390060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411120"/>
                    <a:ext cx="39006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2" name="" descr=""/>
          <p:cNvPicPr/>
          <p:nvPr/>
        </p:nvPicPr>
        <p:blipFill>
          <a:blip r:embed="rId3"/>
          <a:stretch/>
        </p:blipFill>
        <p:spPr>
          <a:xfrm>
            <a:off x="217440" y="619200"/>
            <a:ext cx="2465280" cy="533700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/>
          <p:nvPr/>
        </p:nvSpPr>
        <p:spPr>
          <a:xfrm>
            <a:off x="7255800" y="336600"/>
            <a:ext cx="9237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CG Times (W1)"/>
              </a:rPr>
              <a:t>IV</a:t>
            </a:r>
            <a:endParaRPr b="0" lang="en-US" sz="6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17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80120" y="1246320"/>
            <a:ext cx="5727960" cy="538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i="1" lang="en-US" sz="3300" spc="-1" strike="noStrike">
                <a:solidFill>
                  <a:srgbClr val="fafd00"/>
                </a:solidFill>
                <a:latin typeface="Arial"/>
              </a:rPr>
              <a:t>Intelligent “Hot-Swap” Devices</a:t>
            </a:r>
            <a:endParaRPr b="0" lang="en-US" sz="3300" spc="-1" strike="noStrike">
              <a:solidFill>
                <a:srgbClr val="d49fff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249120" y="2521080"/>
            <a:ext cx="2799000" cy="1341360"/>
            <a:chOff x="249120" y="2521080"/>
            <a:chExt cx="2799000" cy="1341360"/>
          </a:xfrm>
        </p:grpSpPr>
        <p:sp>
          <p:nvSpPr>
            <p:cNvPr id="1102" name=""/>
            <p:cNvSpPr/>
            <p:nvPr/>
          </p:nvSpPr>
          <p:spPr>
            <a:xfrm>
              <a:off x="249120" y="2887560"/>
              <a:ext cx="2301840" cy="960480"/>
            </a:xfrm>
            <a:prstGeom prst="rect">
              <a:avLst/>
            </a:prstGeom>
            <a:solidFill>
              <a:srgbClr val="a8a8a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pic>
          <p:nvPicPr>
            <p:cNvPr id="1103" name="" descr=""/>
            <p:cNvPicPr/>
            <p:nvPr/>
          </p:nvPicPr>
          <p:blipFill>
            <a:blip r:embed="rId1"/>
            <a:stretch/>
          </p:blipFill>
          <p:spPr>
            <a:xfrm>
              <a:off x="264960" y="2820960"/>
              <a:ext cx="2325960" cy="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" descr=""/>
            <p:cNvPicPr/>
            <p:nvPr/>
          </p:nvPicPr>
          <p:blipFill>
            <a:blip r:embed="rId2"/>
            <a:stretch/>
          </p:blipFill>
          <p:spPr>
            <a:xfrm>
              <a:off x="2549520" y="2820960"/>
              <a:ext cx="6984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" descr=""/>
            <p:cNvPicPr/>
            <p:nvPr/>
          </p:nvPicPr>
          <p:blipFill>
            <a:blip r:embed="rId3"/>
            <a:stretch/>
          </p:blipFill>
          <p:spPr>
            <a:xfrm>
              <a:off x="582480" y="2521080"/>
              <a:ext cx="244188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" descr=""/>
            <p:cNvPicPr/>
            <p:nvPr/>
          </p:nvPicPr>
          <p:blipFill>
            <a:blip r:embed="rId4"/>
            <a:stretch/>
          </p:blipFill>
          <p:spPr>
            <a:xfrm>
              <a:off x="2611440" y="2521080"/>
              <a:ext cx="4366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7" name=""/>
            <p:cNvSpPr/>
            <p:nvPr/>
          </p:nvSpPr>
          <p:spPr>
            <a:xfrm>
              <a:off x="2844720" y="321300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881440" y="315756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925720" y="310356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973240" y="3049560"/>
              <a:ext cx="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73200" y="3403440"/>
              <a:ext cx="88920" cy="225720"/>
            </a:xfrm>
            <a:prstGeom prst="rect">
              <a:avLst/>
            </a:prstGeom>
            <a:solidFill>
              <a:srgbClr val="ffa800"/>
            </a:solidFill>
            <a:ln w="12600">
              <a:solidFill>
                <a:srgbClr val="ffa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pic>
          <p:nvPicPr>
            <p:cNvPr id="1112" name="" descr=""/>
            <p:cNvPicPr/>
            <p:nvPr/>
          </p:nvPicPr>
          <p:blipFill>
            <a:blip r:embed="rId5"/>
            <a:stretch/>
          </p:blipFill>
          <p:spPr>
            <a:xfrm>
              <a:off x="401760" y="2959200"/>
              <a:ext cx="2000160" cy="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" descr=""/>
            <p:cNvPicPr/>
            <p:nvPr/>
          </p:nvPicPr>
          <p:blipFill>
            <a:blip r:embed="rId6"/>
            <a:stretch/>
          </p:blipFill>
          <p:spPr>
            <a:xfrm>
              <a:off x="376200" y="3044880"/>
              <a:ext cx="2050920" cy="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4" name="" descr=""/>
            <p:cNvPicPr/>
            <p:nvPr/>
          </p:nvPicPr>
          <p:blipFill>
            <a:blip r:embed="rId7"/>
            <a:stretch/>
          </p:blipFill>
          <p:spPr>
            <a:xfrm>
              <a:off x="401760" y="3693960"/>
              <a:ext cx="2000160" cy="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5" name="" descr=""/>
            <p:cNvPicPr/>
            <p:nvPr/>
          </p:nvPicPr>
          <p:blipFill>
            <a:blip r:embed="rId8"/>
            <a:stretch/>
          </p:blipFill>
          <p:spPr>
            <a:xfrm>
              <a:off x="401760" y="3770280"/>
              <a:ext cx="200016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399960" y="3403440"/>
              <a:ext cx="90720" cy="225720"/>
            </a:xfrm>
            <a:prstGeom prst="rect">
              <a:avLst/>
            </a:prstGeom>
            <a:solidFill>
              <a:srgbClr val="00e600"/>
            </a:solidFill>
            <a:ln w="12600">
              <a:solidFill>
                <a:srgbClr val="00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  <p:sp>
        <p:nvSpPr>
          <p:cNvPr id="1117" name="PlaceHolder 1"/>
          <p:cNvSpPr>
            <a:spLocks noGrp="1"/>
          </p:cNvSpPr>
          <p:nvPr>
            <p:ph/>
          </p:nvPr>
        </p:nvSpPr>
        <p:spPr>
          <a:xfrm>
            <a:off x="3181320" y="2209680"/>
            <a:ext cx="5810400" cy="2895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SI ID’s Auto Configurable Per Slo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 Terminatin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B &amp; 9GB Hard Drives (W &amp; UW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/4GB &amp; 4/8GB DAT Dr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8" name=""/>
          <p:cNvGraphicFramePr/>
          <p:nvPr/>
        </p:nvGraphicFramePr>
        <p:xfrm>
          <a:off x="2057400" y="258840"/>
          <a:ext cx="3900600" cy="731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258840"/>
                    <a:ext cx="39006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0" name=""/>
          <p:cNvSpPr/>
          <p:nvPr/>
        </p:nvSpPr>
        <p:spPr>
          <a:xfrm>
            <a:off x="5807880" y="184320"/>
            <a:ext cx="9237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CG Times (W1)"/>
              </a:rPr>
              <a:t>IV</a:t>
            </a:r>
            <a:endParaRPr b="0" lang="en-US" sz="6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17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/>
          </p:nvPr>
        </p:nvSpPr>
        <p:spPr>
          <a:xfrm>
            <a:off x="971280" y="1390680"/>
            <a:ext cx="7181640" cy="4705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i="1" lang="en-US" sz="3300" spc="-1" strike="noStrike">
                <a:solidFill>
                  <a:srgbClr val="fafd00"/>
                </a:solidFill>
                <a:latin typeface="Arial"/>
              </a:rPr>
              <a:t>Hot-Swap” Carrier Desig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190600" y="2825640"/>
            <a:ext cx="0" cy="2635200"/>
          </a:xfrm>
          <a:prstGeom prst="line">
            <a:avLst/>
          </a:prstGeom>
          <a:ln w="507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197080" y="2819520"/>
            <a:ext cx="2882880" cy="0"/>
          </a:xfrm>
          <a:prstGeom prst="line">
            <a:avLst/>
          </a:prstGeom>
          <a:ln w="507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216160" y="5486400"/>
            <a:ext cx="2921040" cy="0"/>
          </a:xfrm>
          <a:prstGeom prst="line">
            <a:avLst/>
          </a:prstGeom>
          <a:ln w="507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216160" y="318132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235240" y="3505320"/>
            <a:ext cx="153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216160" y="3886200"/>
            <a:ext cx="13590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254320" y="426708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16160" y="4552920"/>
            <a:ext cx="153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16160" y="4838760"/>
            <a:ext cx="13590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736600" y="2930400"/>
            <a:ext cx="1031760" cy="393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Ground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3853800" y="4425840"/>
            <a:ext cx="654120" cy="235080"/>
          </a:xfrm>
          <a:prstGeom prst="rightArrow">
            <a:avLst>
              <a:gd name="adj1" fmla="val 50000"/>
              <a:gd name="adj2" fmla="val 139140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708800" y="4375080"/>
            <a:ext cx="1002960" cy="393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4558680" y="3073320"/>
            <a:ext cx="654120" cy="235080"/>
          </a:xfrm>
          <a:prstGeom prst="rightArrow">
            <a:avLst>
              <a:gd name="adj1" fmla="val 50000"/>
              <a:gd name="adj2" fmla="val 139140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3739320" y="3759120"/>
            <a:ext cx="654120" cy="235080"/>
          </a:xfrm>
          <a:prstGeom prst="rightArrow">
            <a:avLst>
              <a:gd name="adj1" fmla="val 50000"/>
              <a:gd name="adj2" fmla="val 139140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95040" y="3670200"/>
            <a:ext cx="719280" cy="393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graphicFrame>
        <p:nvGraphicFramePr>
          <p:cNvPr id="1144" name=""/>
          <p:cNvGraphicFramePr/>
          <p:nvPr/>
        </p:nvGraphicFramePr>
        <p:xfrm>
          <a:off x="2438280" y="258840"/>
          <a:ext cx="390060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58840"/>
                    <a:ext cx="39006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6" name=""/>
          <p:cNvSpPr/>
          <p:nvPr/>
        </p:nvSpPr>
        <p:spPr>
          <a:xfrm>
            <a:off x="6188760" y="108000"/>
            <a:ext cx="9237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CG Times (W1)"/>
              </a:rPr>
              <a:t>IV</a:t>
            </a:r>
            <a:endParaRPr b="0" lang="en-US" sz="6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062240" y="3559320"/>
            <a:ext cx="117648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992400" y="5019840"/>
            <a:ext cx="12319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5234040" y="2727360"/>
            <a:ext cx="993600" cy="3068640"/>
            <a:chOff x="5234040" y="2727360"/>
            <a:chExt cx="993600" cy="3068640"/>
          </a:xfrm>
        </p:grpSpPr>
        <p:sp>
          <p:nvSpPr>
            <p:cNvPr id="1156" name=""/>
            <p:cNvSpPr/>
            <p:nvPr/>
          </p:nvSpPr>
          <p:spPr>
            <a:xfrm>
              <a:off x="5234040" y="2727360"/>
              <a:ext cx="993600" cy="3068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grpSp>
          <p:nvGrpSpPr>
            <p:cNvPr id="1157" name=""/>
            <p:cNvGrpSpPr/>
            <p:nvPr/>
          </p:nvGrpSpPr>
          <p:grpSpPr>
            <a:xfrm>
              <a:off x="5378400" y="2867040"/>
              <a:ext cx="706320" cy="338040"/>
              <a:chOff x="5378400" y="2867040"/>
              <a:chExt cx="706320" cy="33804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78400" y="2867040"/>
                <a:ext cx="706320" cy="338040"/>
              </a:xfrm>
              <a:prstGeom prst="rect">
                <a:avLst/>
              </a:prstGeom>
              <a:solidFill>
                <a:srgbClr val="a8a8a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442120" y="2949480"/>
                <a:ext cx="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031080" y="2952720"/>
                <a:ext cx="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454720" y="2911320"/>
                <a:ext cx="555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454720" y="3170160"/>
                <a:ext cx="555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484960" y="2995560"/>
                <a:ext cx="33120" cy="87480"/>
              </a:xfrm>
              <a:prstGeom prst="rect">
                <a:avLst/>
              </a:prstGeom>
              <a:solidFill>
                <a:srgbClr val="00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557680" y="2997360"/>
                <a:ext cx="32040" cy="87120"/>
              </a:xfrm>
              <a:prstGeom prst="rect">
                <a:avLst/>
              </a:prstGeom>
              <a:solidFill>
                <a:srgbClr val="ff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5378400" y="3357720"/>
              <a:ext cx="706320" cy="338040"/>
              <a:chOff x="5378400" y="3357720"/>
              <a:chExt cx="706320" cy="3380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78400" y="3357720"/>
                <a:ext cx="706320" cy="338040"/>
              </a:xfrm>
              <a:prstGeom prst="rect">
                <a:avLst/>
              </a:prstGeom>
              <a:solidFill>
                <a:srgbClr val="a8a8a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442120" y="3440160"/>
                <a:ext cx="0" cy="17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031080" y="3443400"/>
                <a:ext cx="0" cy="17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454720" y="3402000"/>
                <a:ext cx="555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454720" y="3660840"/>
                <a:ext cx="555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484960" y="3486240"/>
                <a:ext cx="33120" cy="87120"/>
              </a:xfrm>
              <a:prstGeom prst="rect">
                <a:avLst/>
              </a:prstGeom>
              <a:solidFill>
                <a:srgbClr val="00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557680" y="3487680"/>
                <a:ext cx="32040" cy="87480"/>
              </a:xfrm>
              <a:prstGeom prst="rect">
                <a:avLst/>
              </a:prstGeom>
              <a:solidFill>
                <a:srgbClr val="ff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5378400" y="3848040"/>
              <a:ext cx="706320" cy="338040"/>
              <a:chOff x="5378400" y="3848040"/>
              <a:chExt cx="706320" cy="3380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78400" y="3848040"/>
                <a:ext cx="706320" cy="338040"/>
              </a:xfrm>
              <a:prstGeom prst="rect">
                <a:avLst/>
              </a:prstGeom>
              <a:solidFill>
                <a:srgbClr val="a8a8a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442120" y="3930480"/>
                <a:ext cx="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031080" y="393228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454720" y="3890880"/>
                <a:ext cx="555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454720" y="4151160"/>
                <a:ext cx="555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484960" y="3976560"/>
                <a:ext cx="33120" cy="87480"/>
              </a:xfrm>
              <a:prstGeom prst="rect">
                <a:avLst/>
              </a:prstGeom>
              <a:solidFill>
                <a:srgbClr val="00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557680" y="3978360"/>
                <a:ext cx="32040" cy="87120"/>
              </a:xfrm>
              <a:prstGeom prst="rect">
                <a:avLst/>
              </a:prstGeom>
              <a:solidFill>
                <a:srgbClr val="ff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5378400" y="4338720"/>
              <a:ext cx="706320" cy="338040"/>
              <a:chOff x="5378400" y="4338720"/>
              <a:chExt cx="706320" cy="338040"/>
            </a:xfrm>
          </p:grpSpPr>
          <p:sp>
            <p:nvSpPr>
              <p:cNvPr id="1182" name=""/>
              <p:cNvSpPr/>
              <p:nvPr/>
            </p:nvSpPr>
            <p:spPr>
              <a:xfrm>
                <a:off x="5378400" y="4338720"/>
                <a:ext cx="706320" cy="338040"/>
              </a:xfrm>
              <a:prstGeom prst="rect">
                <a:avLst/>
              </a:prstGeom>
              <a:solidFill>
                <a:srgbClr val="a8a8a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442120" y="441972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031080" y="442260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454720" y="4381560"/>
                <a:ext cx="555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454720" y="4641840"/>
                <a:ext cx="555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484960" y="4467240"/>
                <a:ext cx="33120" cy="87120"/>
              </a:xfrm>
              <a:prstGeom prst="rect">
                <a:avLst/>
              </a:prstGeom>
              <a:solidFill>
                <a:srgbClr val="00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557680" y="4467240"/>
                <a:ext cx="32040" cy="88920"/>
              </a:xfrm>
              <a:prstGeom prst="rect">
                <a:avLst/>
              </a:prstGeom>
              <a:solidFill>
                <a:srgbClr val="ff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5378400" y="4829040"/>
              <a:ext cx="706320" cy="336600"/>
              <a:chOff x="5378400" y="4829040"/>
              <a:chExt cx="706320" cy="336600"/>
            </a:xfrm>
          </p:grpSpPr>
          <p:sp>
            <p:nvSpPr>
              <p:cNvPr id="1190" name=""/>
              <p:cNvSpPr/>
              <p:nvPr/>
            </p:nvSpPr>
            <p:spPr>
              <a:xfrm>
                <a:off x="5378400" y="4829040"/>
                <a:ext cx="706320" cy="336600"/>
              </a:xfrm>
              <a:prstGeom prst="rect">
                <a:avLst/>
              </a:prstGeom>
              <a:solidFill>
                <a:srgbClr val="a8a8a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442120" y="491004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031080" y="491328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454720" y="4871880"/>
                <a:ext cx="555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454720" y="5132520"/>
                <a:ext cx="555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484960" y="4956120"/>
                <a:ext cx="33120" cy="87480"/>
              </a:xfrm>
              <a:prstGeom prst="rect">
                <a:avLst/>
              </a:prstGeom>
              <a:solidFill>
                <a:srgbClr val="00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557680" y="4957920"/>
                <a:ext cx="32040" cy="87120"/>
              </a:xfrm>
              <a:prstGeom prst="rect">
                <a:avLst/>
              </a:prstGeom>
              <a:solidFill>
                <a:srgbClr val="ff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5378400" y="5319720"/>
              <a:ext cx="706320" cy="336600"/>
              <a:chOff x="5378400" y="5319720"/>
              <a:chExt cx="706320" cy="336600"/>
            </a:xfrm>
          </p:grpSpPr>
          <p:sp>
            <p:nvSpPr>
              <p:cNvPr id="1198" name=""/>
              <p:cNvSpPr/>
              <p:nvPr/>
            </p:nvSpPr>
            <p:spPr>
              <a:xfrm>
                <a:off x="5378400" y="5319720"/>
                <a:ext cx="706320" cy="336600"/>
              </a:xfrm>
              <a:prstGeom prst="rect">
                <a:avLst/>
              </a:prstGeom>
              <a:solidFill>
                <a:srgbClr val="a8a8a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442120" y="540072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031080" y="5403960"/>
                <a:ext cx="0" cy="17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454720" y="5362560"/>
                <a:ext cx="555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454720" y="5621400"/>
                <a:ext cx="555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484960" y="5446800"/>
                <a:ext cx="33120" cy="87120"/>
              </a:xfrm>
              <a:prstGeom prst="rect">
                <a:avLst/>
              </a:prstGeom>
              <a:solidFill>
                <a:srgbClr val="00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557680" y="5448240"/>
                <a:ext cx="32040" cy="87480"/>
              </a:xfrm>
              <a:prstGeom prst="rect">
                <a:avLst/>
              </a:prstGeom>
              <a:solidFill>
                <a:srgbClr val="ff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5" name=""/>
          <p:cNvGrpSpPr/>
          <p:nvPr/>
        </p:nvGrpSpPr>
        <p:grpSpPr>
          <a:xfrm>
            <a:off x="2560680" y="4726080"/>
            <a:ext cx="1324440" cy="536400"/>
            <a:chOff x="2560680" y="4726080"/>
            <a:chExt cx="1324440" cy="536400"/>
          </a:xfrm>
        </p:grpSpPr>
        <p:pic>
          <p:nvPicPr>
            <p:cNvPr id="1206" name="" descr=""/>
            <p:cNvPicPr/>
            <p:nvPr/>
          </p:nvPicPr>
          <p:blipFill>
            <a:blip r:embed="rId1"/>
            <a:stretch/>
          </p:blipFill>
          <p:spPr>
            <a:xfrm>
              <a:off x="2643120" y="4726080"/>
              <a:ext cx="1144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7" name=""/>
            <p:cNvSpPr/>
            <p:nvPr/>
          </p:nvSpPr>
          <p:spPr>
            <a:xfrm>
              <a:off x="2560680" y="4836960"/>
              <a:ext cx="132444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martRAID</a:t>
              </a:r>
              <a:endParaRPr b="0" lang="en-US" sz="18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  <p:sp>
        <p:nvSpPr>
          <p:cNvPr id="1208" name=""/>
          <p:cNvSpPr/>
          <p:nvPr/>
        </p:nvSpPr>
        <p:spPr>
          <a:xfrm>
            <a:off x="2824560" y="1301760"/>
            <a:ext cx="3349080" cy="599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i="1" lang="en-US" sz="3700" spc="-1" strike="noStrike">
                <a:solidFill>
                  <a:srgbClr val="fafd00"/>
                </a:solidFill>
                <a:latin typeface="Arial"/>
              </a:rPr>
              <a:t>Split SCSI Bus</a:t>
            </a:r>
            <a:endParaRPr b="0" lang="en-US" sz="37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5200" y="1827360"/>
            <a:ext cx="8958960" cy="599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i="1" lang="en-US" sz="3700" spc="-1" strike="noStrike">
                <a:solidFill>
                  <a:srgbClr val="fafd00"/>
                </a:solidFill>
                <a:latin typeface="Arial"/>
              </a:rPr>
              <a:t>Allows Duplexing Within Single Cabinet</a:t>
            </a:r>
            <a:endParaRPr b="0" lang="en-US" sz="3700" spc="-1" strike="noStrike">
              <a:solidFill>
                <a:srgbClr val="d49fff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2562120" y="3282840"/>
            <a:ext cx="1324440" cy="536760"/>
            <a:chOff x="2562120" y="3282840"/>
            <a:chExt cx="1324440" cy="536760"/>
          </a:xfrm>
        </p:grpSpPr>
        <p:pic>
          <p:nvPicPr>
            <p:cNvPr id="1211" name="" descr=""/>
            <p:cNvPicPr/>
            <p:nvPr/>
          </p:nvPicPr>
          <p:blipFill>
            <a:blip r:embed="rId2"/>
            <a:stretch/>
          </p:blipFill>
          <p:spPr>
            <a:xfrm>
              <a:off x="2644920" y="3282840"/>
              <a:ext cx="11444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"/>
            <p:cNvSpPr/>
            <p:nvPr/>
          </p:nvSpPr>
          <p:spPr>
            <a:xfrm>
              <a:off x="2562120" y="3394080"/>
              <a:ext cx="132444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martRAID</a:t>
              </a:r>
              <a:endParaRPr b="0" lang="en-US" sz="18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  <p:sp>
        <p:nvSpPr>
          <p:cNvPr id="1213" name=""/>
          <p:cNvSpPr/>
          <p:nvPr/>
        </p:nvSpPr>
        <p:spPr>
          <a:xfrm>
            <a:off x="6813720" y="3308400"/>
            <a:ext cx="125424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600" spc="-1" strike="noStrike">
                <a:solidFill>
                  <a:srgbClr val="fcfeb9"/>
                </a:solidFill>
                <a:latin typeface="Arial"/>
              </a:rPr>
              <a:t>RAID-0</a:t>
            </a:r>
            <a:endParaRPr b="0" lang="en-US" sz="2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622920" y="2855880"/>
            <a:ext cx="0" cy="12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6461280" y="2849400"/>
            <a:ext cx="15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6461280" y="4179960"/>
            <a:ext cx="15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813720" y="4791240"/>
            <a:ext cx="125424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600" spc="-1" strike="noStrike">
                <a:solidFill>
                  <a:srgbClr val="fcfeb9"/>
                </a:solidFill>
                <a:latin typeface="Arial"/>
              </a:rPr>
              <a:t>RAID-0</a:t>
            </a:r>
            <a:endParaRPr b="0" lang="en-US" sz="2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622920" y="4338720"/>
            <a:ext cx="0" cy="12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6461280" y="4332240"/>
            <a:ext cx="15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6461280" y="5662440"/>
            <a:ext cx="15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80880" y="3691080"/>
            <a:ext cx="20574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Netware/</a:t>
            </a:r>
            <a:endParaRPr b="0" lang="en-US" sz="22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Windows NT Duplexed</a:t>
            </a:r>
            <a:endParaRPr b="0" lang="en-US" sz="2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209680" y="3589200"/>
            <a:ext cx="0" cy="12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2200320" y="3583080"/>
            <a:ext cx="15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2200320" y="4913280"/>
            <a:ext cx="15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graphicFrame>
        <p:nvGraphicFramePr>
          <p:cNvPr id="1225" name=""/>
          <p:cNvGraphicFramePr/>
          <p:nvPr/>
        </p:nvGraphicFramePr>
        <p:xfrm>
          <a:off x="1924200" y="258840"/>
          <a:ext cx="471960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4200" y="258840"/>
                    <a:ext cx="471960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7" name=""/>
          <p:cNvSpPr/>
          <p:nvPr/>
        </p:nvSpPr>
        <p:spPr>
          <a:xfrm>
            <a:off x="6496200" y="190440"/>
            <a:ext cx="99828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CG Times (W1)"/>
              </a:rPr>
              <a:t>IV</a:t>
            </a:r>
            <a:endParaRPr b="0" lang="en-US" sz="66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412000" y="85680"/>
            <a:ext cx="399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5700" spc="-1" strike="noStrike">
                <a:solidFill>
                  <a:srgbClr val="fafd00"/>
                </a:solidFill>
                <a:latin typeface="Book Antiqua"/>
              </a:rPr>
              <a:t>Scalability </a:t>
            </a:r>
            <a:endParaRPr b="0" lang="en-US" sz="57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92120" y="987480"/>
            <a:ext cx="80280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Add more disks to balance CPU </a:t>
            </a:r>
            <a:br>
              <a:rPr sz="2900"/>
            </a:b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and I/O performance</a:t>
            </a:r>
            <a:endParaRPr b="0" lang="en-US" sz="2900" spc="-1" strike="noStrike">
              <a:solidFill>
                <a:srgbClr val="d49fff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455040" y="2284560"/>
            <a:ext cx="8406000" cy="3456000"/>
            <a:chOff x="455040" y="2284560"/>
            <a:chExt cx="8406000" cy="3456000"/>
          </a:xfrm>
        </p:grpSpPr>
        <p:sp>
          <p:nvSpPr>
            <p:cNvPr id="1237" name=""/>
            <p:cNvSpPr/>
            <p:nvPr/>
          </p:nvSpPr>
          <p:spPr>
            <a:xfrm>
              <a:off x="2382840" y="2535120"/>
              <a:ext cx="384480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706840" y="2971800"/>
              <a:ext cx="198108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871640" y="3214800"/>
              <a:ext cx="42696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878120" y="3517920"/>
              <a:ext cx="117936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887480" y="3365640"/>
              <a:ext cx="74952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grpSp>
          <p:nvGrpSpPr>
            <p:cNvPr id="1242" name=""/>
            <p:cNvGrpSpPr/>
            <p:nvPr/>
          </p:nvGrpSpPr>
          <p:grpSpPr>
            <a:xfrm>
              <a:off x="455040" y="3090960"/>
              <a:ext cx="1393200" cy="542880"/>
              <a:chOff x="455040" y="3090960"/>
              <a:chExt cx="1393200" cy="542880"/>
            </a:xfrm>
          </p:grpSpPr>
          <p:pic>
            <p:nvPicPr>
              <p:cNvPr id="1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0280" y="3090960"/>
                <a:ext cx="115740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>
                <a:off x="455040" y="3201840"/>
                <a:ext cx="139320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66880"/>
                    <a:tab algn="l" pos="1733400"/>
                    <a:tab algn="l" pos="2600280"/>
                    <a:tab algn="l" pos="3467160"/>
                    <a:tab algn="l" pos="4334040"/>
                    <a:tab algn="l" pos="5200560"/>
                    <a:tab algn="l" pos="6067440"/>
                    <a:tab algn="l" pos="6934320"/>
                    <a:tab algn="l" pos="7800840"/>
                    <a:tab algn="l" pos="8667720"/>
                    <a:tab algn="l" pos="9534600"/>
                    <a:tab algn="l" pos="104014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SmartRAID</a:t>
                </a:r>
                <a:endParaRPr b="0" lang="en-US" sz="19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6245280" y="2284560"/>
              <a:ext cx="793800" cy="2452680"/>
              <a:chOff x="6245280" y="2284560"/>
              <a:chExt cx="793800" cy="24526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245280" y="2284560"/>
                <a:ext cx="793800" cy="24526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362640" y="2397240"/>
                <a:ext cx="561960" cy="266760"/>
                <a:chOff x="6362640" y="2397240"/>
                <a:chExt cx="561960" cy="26676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362640" y="2397240"/>
                  <a:ext cx="561960" cy="266760"/>
                </a:xfrm>
                <a:prstGeom prst="rect">
                  <a:avLst/>
                </a:prstGeom>
                <a:solidFill>
                  <a:srgbClr val="a8a8a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410160" y="2462040"/>
                  <a:ext cx="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883560" y="2463840"/>
                  <a:ext cx="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6423120" y="2428920"/>
                  <a:ext cx="444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6423120" y="2637000"/>
                  <a:ext cx="444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6446880" y="2496960"/>
                  <a:ext cx="25200" cy="68400"/>
                </a:xfrm>
                <a:prstGeom prst="rect">
                  <a:avLst/>
                </a:prstGeom>
                <a:solidFill>
                  <a:srgbClr val="00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6504120" y="2498760"/>
                  <a:ext cx="27000" cy="6984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5" name=""/>
              <p:cNvGrpSpPr/>
              <p:nvPr/>
            </p:nvGrpSpPr>
            <p:grpSpPr>
              <a:xfrm>
                <a:off x="6362640" y="2790720"/>
                <a:ext cx="561960" cy="265320"/>
                <a:chOff x="6362640" y="2790720"/>
                <a:chExt cx="561960" cy="265320"/>
              </a:xfrm>
            </p:grpSpPr>
            <p:sp>
              <p:nvSpPr>
                <p:cNvPr id="1256" name=""/>
                <p:cNvSpPr/>
                <p:nvPr/>
              </p:nvSpPr>
              <p:spPr>
                <a:xfrm>
                  <a:off x="6362640" y="2790720"/>
                  <a:ext cx="561960" cy="265320"/>
                </a:xfrm>
                <a:prstGeom prst="rect">
                  <a:avLst/>
                </a:prstGeom>
                <a:solidFill>
                  <a:srgbClr val="a8a8a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6410160" y="2852640"/>
                  <a:ext cx="0" cy="14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6883560" y="285588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6423120" y="2822400"/>
                  <a:ext cx="444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423120" y="3030480"/>
                  <a:ext cx="444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446880" y="2889360"/>
                  <a:ext cx="25200" cy="69840"/>
                </a:xfrm>
                <a:prstGeom prst="rect">
                  <a:avLst/>
                </a:prstGeom>
                <a:solidFill>
                  <a:srgbClr val="00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6504120" y="2890800"/>
                  <a:ext cx="27000" cy="6984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"/>
              <p:cNvGrpSpPr/>
              <p:nvPr/>
            </p:nvGrpSpPr>
            <p:grpSpPr>
              <a:xfrm>
                <a:off x="6362640" y="3181320"/>
                <a:ext cx="561960" cy="266760"/>
                <a:chOff x="6362640" y="3181320"/>
                <a:chExt cx="561960" cy="26676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6362640" y="3181320"/>
                  <a:ext cx="561960" cy="266760"/>
                </a:xfrm>
                <a:prstGeom prst="rect">
                  <a:avLst/>
                </a:prstGeom>
                <a:solidFill>
                  <a:srgbClr val="a8a8a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410160" y="3246480"/>
                  <a:ext cx="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6883560" y="324792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6423120" y="3214800"/>
                  <a:ext cx="444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423120" y="3421080"/>
                  <a:ext cx="444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446880" y="3281400"/>
                  <a:ext cx="25200" cy="69840"/>
                </a:xfrm>
                <a:prstGeom prst="rect">
                  <a:avLst/>
                </a:prstGeom>
                <a:solidFill>
                  <a:srgbClr val="00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6504120" y="3282840"/>
                  <a:ext cx="27000" cy="6984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6362640" y="3571920"/>
                <a:ext cx="561960" cy="268200"/>
                <a:chOff x="6362640" y="3571920"/>
                <a:chExt cx="561960" cy="268200"/>
              </a:xfrm>
            </p:grpSpPr>
            <p:sp>
              <p:nvSpPr>
                <p:cNvPr id="1272" name=""/>
                <p:cNvSpPr/>
                <p:nvPr/>
              </p:nvSpPr>
              <p:spPr>
                <a:xfrm>
                  <a:off x="6362640" y="3571920"/>
                  <a:ext cx="561960" cy="268200"/>
                </a:xfrm>
                <a:prstGeom prst="rect">
                  <a:avLst/>
                </a:prstGeom>
                <a:solidFill>
                  <a:srgbClr val="a8a8a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6410160" y="3638520"/>
                  <a:ext cx="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6883560" y="364176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423120" y="3606840"/>
                  <a:ext cx="444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6423120" y="3813120"/>
                  <a:ext cx="444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6446880" y="3675240"/>
                  <a:ext cx="25200" cy="69840"/>
                </a:xfrm>
                <a:prstGeom prst="rect">
                  <a:avLst/>
                </a:prstGeom>
                <a:solidFill>
                  <a:srgbClr val="00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6504120" y="3675240"/>
                  <a:ext cx="27000" cy="6984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9" name=""/>
              <p:cNvGrpSpPr/>
              <p:nvPr/>
            </p:nvGrpSpPr>
            <p:grpSpPr>
              <a:xfrm>
                <a:off x="6362640" y="3963960"/>
                <a:ext cx="561960" cy="268200"/>
                <a:chOff x="6362640" y="3963960"/>
                <a:chExt cx="561960" cy="268200"/>
              </a:xfrm>
            </p:grpSpPr>
            <p:sp>
              <p:nvSpPr>
                <p:cNvPr id="1280" name=""/>
                <p:cNvSpPr/>
                <p:nvPr/>
              </p:nvSpPr>
              <p:spPr>
                <a:xfrm>
                  <a:off x="6362640" y="3963960"/>
                  <a:ext cx="561960" cy="268200"/>
                </a:xfrm>
                <a:prstGeom prst="rect">
                  <a:avLst/>
                </a:prstGeom>
                <a:solidFill>
                  <a:srgbClr val="a8a8a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6410160" y="4030560"/>
                  <a:ext cx="0" cy="14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6883560" y="4033800"/>
                  <a:ext cx="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6423120" y="3997440"/>
                  <a:ext cx="444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23120" y="4206960"/>
                  <a:ext cx="444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46880" y="4067280"/>
                  <a:ext cx="25200" cy="69840"/>
                </a:xfrm>
                <a:prstGeom prst="rect">
                  <a:avLst/>
                </a:prstGeom>
                <a:solidFill>
                  <a:srgbClr val="00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504120" y="4068720"/>
                  <a:ext cx="27000" cy="6984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62640" y="4357800"/>
                <a:ext cx="561960" cy="266760"/>
                <a:chOff x="6362640" y="4357800"/>
                <a:chExt cx="561960" cy="26676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62640" y="4357800"/>
                  <a:ext cx="561960" cy="266760"/>
                </a:xfrm>
                <a:prstGeom prst="rect">
                  <a:avLst/>
                </a:prstGeom>
                <a:solidFill>
                  <a:srgbClr val="a8a8a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0160" y="4422600"/>
                  <a:ext cx="0" cy="140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883560" y="4427640"/>
                  <a:ext cx="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23120" y="4390920"/>
                  <a:ext cx="444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6423120" y="4599000"/>
                  <a:ext cx="444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6446880" y="4457880"/>
                  <a:ext cx="25200" cy="71280"/>
                </a:xfrm>
                <a:prstGeom prst="rect">
                  <a:avLst/>
                </a:prstGeom>
                <a:solidFill>
                  <a:srgbClr val="00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6504120" y="4462560"/>
                  <a:ext cx="27000" cy="6804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95" name=""/>
            <p:cNvSpPr/>
            <p:nvPr/>
          </p:nvSpPr>
          <p:spPr>
            <a:xfrm>
              <a:off x="7502040" y="3152880"/>
              <a:ext cx="101088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920" bIns="3492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93720"/>
                  <a:tab algn="l" pos="1387440"/>
                  <a:tab algn="l" pos="2081160"/>
                  <a:tab algn="l" pos="2774880"/>
                  <a:tab algn="l" pos="3468600"/>
                  <a:tab algn="l" pos="4162320"/>
                  <a:tab algn="l" pos="4856040"/>
                  <a:tab algn="l" pos="5549760"/>
                  <a:tab algn="l" pos="6243480"/>
                  <a:tab algn="l" pos="6937200"/>
                  <a:tab algn="l" pos="7631280"/>
                  <a:tab algn="l" pos="8325000"/>
                  <a:tab algn="l" pos="9018720"/>
                  <a:tab algn="l" pos="9712440"/>
                  <a:tab algn="l" pos="10406160"/>
                </a:tabLst>
              </a:pPr>
              <a:r>
                <a:rPr b="0" lang="en-US" sz="2100" spc="-1" strike="noStrike">
                  <a:solidFill>
                    <a:srgbClr val="fcfeb9"/>
                  </a:solidFill>
                  <a:latin typeface="Arial"/>
                </a:rPr>
                <a:t>RAID-5</a:t>
              </a:r>
              <a:endParaRPr b="0" lang="en-US" sz="21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348680" y="23922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7226280" y="2381400"/>
              <a:ext cx="1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7226280" y="4253040"/>
              <a:ext cx="1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grpSp>
          <p:nvGrpSpPr>
            <p:cNvPr id="1299" name=""/>
            <p:cNvGrpSpPr/>
            <p:nvPr/>
          </p:nvGrpSpPr>
          <p:grpSpPr>
            <a:xfrm>
              <a:off x="7237080" y="4330800"/>
              <a:ext cx="1623960" cy="358200"/>
              <a:chOff x="7237080" y="4330800"/>
              <a:chExt cx="1623960" cy="358200"/>
            </a:xfrm>
          </p:grpSpPr>
          <p:sp>
            <p:nvSpPr>
              <p:cNvPr id="1300" name=""/>
              <p:cNvSpPr/>
              <p:nvPr/>
            </p:nvSpPr>
            <p:spPr>
              <a:xfrm>
                <a:off x="7524000" y="4330800"/>
                <a:ext cx="133704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400" rIns="68400" tIns="34920" bIns="3492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693720"/>
                    <a:tab algn="l" pos="1387440"/>
                    <a:tab algn="l" pos="2081160"/>
                    <a:tab algn="l" pos="2774880"/>
                    <a:tab algn="l" pos="3468600"/>
                    <a:tab algn="l" pos="4162320"/>
                    <a:tab algn="l" pos="4856040"/>
                    <a:tab algn="l" pos="5549760"/>
                    <a:tab algn="l" pos="6243480"/>
                    <a:tab algn="l" pos="6937200"/>
                    <a:tab algn="l" pos="7631280"/>
                    <a:tab algn="l" pos="8325000"/>
                    <a:tab algn="l" pos="9018720"/>
                    <a:tab algn="l" pos="9712440"/>
                    <a:tab algn="l" pos="10406160"/>
                  </a:tabLst>
                </a:pPr>
                <a:r>
                  <a:rPr b="0" lang="en-US" sz="2100" spc="-1" strike="noStrike">
                    <a:solidFill>
                      <a:srgbClr val="fcfeb9"/>
                    </a:solidFill>
                    <a:latin typeface="Arial"/>
                  </a:rPr>
                  <a:t>Hot Spare</a:t>
                </a:r>
                <a:endParaRPr b="0" lang="en-US" sz="21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H="1">
                <a:off x="7237080" y="4492800"/>
                <a:ext cx="27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4689360" y="2771640"/>
              <a:ext cx="790560" cy="2454480"/>
              <a:chOff x="4689360" y="2771640"/>
              <a:chExt cx="790560" cy="2454480"/>
            </a:xfrm>
          </p:grpSpPr>
          <p:sp>
            <p:nvSpPr>
              <p:cNvPr id="1303" name=""/>
              <p:cNvSpPr/>
              <p:nvPr/>
            </p:nvSpPr>
            <p:spPr>
              <a:xfrm>
                <a:off x="4689360" y="2771640"/>
                <a:ext cx="790560" cy="2454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grpSp>
            <p:nvGrpSpPr>
              <p:cNvPr id="1304" name=""/>
              <p:cNvGrpSpPr/>
              <p:nvPr/>
            </p:nvGrpSpPr>
            <p:grpSpPr>
              <a:xfrm>
                <a:off x="4803840" y="2884320"/>
                <a:ext cx="561960" cy="268560"/>
                <a:chOff x="4803840" y="2884320"/>
                <a:chExt cx="561960" cy="268560"/>
              </a:xfrm>
            </p:grpSpPr>
            <p:sp>
              <p:nvSpPr>
                <p:cNvPr id="1305" name=""/>
                <p:cNvSpPr/>
                <p:nvPr/>
              </p:nvSpPr>
              <p:spPr>
                <a:xfrm>
                  <a:off x="4803840" y="2884320"/>
                  <a:ext cx="561960" cy="268560"/>
                </a:xfrm>
                <a:prstGeom prst="rect">
                  <a:avLst/>
                </a:prstGeom>
                <a:solidFill>
                  <a:srgbClr val="a8a8a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4851360" y="2951280"/>
                  <a:ext cx="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5324400" y="2952720"/>
                  <a:ext cx="0" cy="13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4863960" y="291780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4863960" y="312588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888080" y="2986200"/>
                  <a:ext cx="25200" cy="69840"/>
                </a:xfrm>
                <a:prstGeom prst="rect">
                  <a:avLst/>
                </a:prstGeom>
                <a:solidFill>
                  <a:srgbClr val="00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4944960" y="2986200"/>
                  <a:ext cx="25560" cy="7128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4803840" y="3279600"/>
                <a:ext cx="561960" cy="265320"/>
                <a:chOff x="4803840" y="3279600"/>
                <a:chExt cx="561960" cy="26532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4803840" y="3279600"/>
                  <a:ext cx="561960" cy="265320"/>
                </a:xfrm>
                <a:prstGeom prst="rect">
                  <a:avLst/>
                </a:prstGeom>
                <a:solidFill>
                  <a:srgbClr val="a8a8a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4851360" y="3341520"/>
                  <a:ext cx="0" cy="14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5324400" y="334476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4863960" y="330984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4863960" y="351936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888080" y="3378240"/>
                  <a:ext cx="25200" cy="69840"/>
                </a:xfrm>
                <a:prstGeom prst="rect">
                  <a:avLst/>
                </a:prstGeom>
                <a:solidFill>
                  <a:srgbClr val="00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4944960" y="3379680"/>
                  <a:ext cx="25560" cy="6984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0" name=""/>
              <p:cNvGrpSpPr/>
              <p:nvPr/>
            </p:nvGrpSpPr>
            <p:grpSpPr>
              <a:xfrm>
                <a:off x="4803840" y="3670200"/>
                <a:ext cx="561960" cy="266760"/>
                <a:chOff x="4803840" y="3670200"/>
                <a:chExt cx="561960" cy="266760"/>
              </a:xfrm>
            </p:grpSpPr>
            <p:sp>
              <p:nvSpPr>
                <p:cNvPr id="1321" name=""/>
                <p:cNvSpPr/>
                <p:nvPr/>
              </p:nvSpPr>
              <p:spPr>
                <a:xfrm>
                  <a:off x="4803840" y="3670200"/>
                  <a:ext cx="561960" cy="266760"/>
                </a:xfrm>
                <a:prstGeom prst="rect">
                  <a:avLst/>
                </a:prstGeom>
                <a:solidFill>
                  <a:srgbClr val="a8a8a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4851360" y="373392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5324400" y="3738600"/>
                  <a:ext cx="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4863960" y="370368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4863960" y="390852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4888080" y="3770280"/>
                  <a:ext cx="25200" cy="69840"/>
                </a:xfrm>
                <a:prstGeom prst="rect">
                  <a:avLst/>
                </a:prstGeom>
                <a:solidFill>
                  <a:srgbClr val="00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4944960" y="3773520"/>
                  <a:ext cx="25560" cy="6840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4803840" y="4059360"/>
                <a:ext cx="561960" cy="269640"/>
                <a:chOff x="4803840" y="4059360"/>
                <a:chExt cx="561960" cy="26964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4803840" y="4059360"/>
                  <a:ext cx="561960" cy="269640"/>
                </a:xfrm>
                <a:prstGeom prst="rect">
                  <a:avLst/>
                </a:prstGeom>
                <a:solidFill>
                  <a:srgbClr val="a8a8a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4851360" y="4127400"/>
                  <a:ext cx="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324400" y="413064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4863960" y="409572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4863960" y="430200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4888080" y="4164120"/>
                  <a:ext cx="25200" cy="68040"/>
                </a:xfrm>
                <a:prstGeom prst="rect">
                  <a:avLst/>
                </a:prstGeom>
                <a:solidFill>
                  <a:srgbClr val="00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4944960" y="4165560"/>
                  <a:ext cx="25560" cy="6840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6" name=""/>
              <p:cNvGrpSpPr/>
              <p:nvPr/>
            </p:nvGrpSpPr>
            <p:grpSpPr>
              <a:xfrm>
                <a:off x="4803840" y="4454640"/>
                <a:ext cx="561960" cy="266760"/>
                <a:chOff x="4803840" y="4454640"/>
                <a:chExt cx="561960" cy="2667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4803840" y="4454640"/>
                  <a:ext cx="561960" cy="266760"/>
                </a:xfrm>
                <a:prstGeom prst="rect">
                  <a:avLst/>
                </a:prstGeom>
                <a:solidFill>
                  <a:srgbClr val="a8a8a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4851360" y="4519440"/>
                  <a:ext cx="0" cy="140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5324400" y="4522680"/>
                  <a:ext cx="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4863960" y="448632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4863960" y="469584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4888080" y="4556160"/>
                  <a:ext cx="25200" cy="69840"/>
                </a:xfrm>
                <a:prstGeom prst="rect">
                  <a:avLst/>
                </a:prstGeom>
                <a:solidFill>
                  <a:srgbClr val="00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944960" y="4556160"/>
                  <a:ext cx="25560" cy="7128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4803840" y="4846680"/>
                <a:ext cx="561960" cy="268200"/>
                <a:chOff x="4803840" y="4846680"/>
                <a:chExt cx="561960" cy="26820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4803840" y="4846680"/>
                  <a:ext cx="561960" cy="268200"/>
                </a:xfrm>
                <a:prstGeom prst="rect">
                  <a:avLst/>
                </a:prstGeom>
                <a:solidFill>
                  <a:srgbClr val="a8a8a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4851360" y="4910040"/>
                  <a:ext cx="0" cy="14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5324400" y="4916520"/>
                  <a:ext cx="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4863960" y="487980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4863960" y="508788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4888080" y="4946760"/>
                  <a:ext cx="25200" cy="71280"/>
                </a:xfrm>
                <a:prstGeom prst="rect">
                  <a:avLst/>
                </a:prstGeom>
                <a:solidFill>
                  <a:srgbClr val="00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4944960" y="4950000"/>
                  <a:ext cx="25560" cy="7128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52" name=""/>
            <p:cNvGrpSpPr/>
            <p:nvPr/>
          </p:nvGrpSpPr>
          <p:grpSpPr>
            <a:xfrm>
              <a:off x="3057480" y="3286080"/>
              <a:ext cx="790560" cy="2454480"/>
              <a:chOff x="3057480" y="3286080"/>
              <a:chExt cx="790560" cy="2454480"/>
            </a:xfrm>
          </p:grpSpPr>
          <p:sp>
            <p:nvSpPr>
              <p:cNvPr id="1353" name=""/>
              <p:cNvSpPr/>
              <p:nvPr/>
            </p:nvSpPr>
            <p:spPr>
              <a:xfrm>
                <a:off x="3057480" y="3286080"/>
                <a:ext cx="790560" cy="2454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49fff"/>
                  </a:solidFill>
                  <a:latin typeface="Times New Roman"/>
                </a:endParaRPr>
              </a:p>
            </p:txBody>
          </p:sp>
          <p:grpSp>
            <p:nvGrpSpPr>
              <p:cNvPr id="1354" name=""/>
              <p:cNvGrpSpPr/>
              <p:nvPr/>
            </p:nvGrpSpPr>
            <p:grpSpPr>
              <a:xfrm>
                <a:off x="3171960" y="3398760"/>
                <a:ext cx="561960" cy="268200"/>
                <a:chOff x="3171960" y="3398760"/>
                <a:chExt cx="561960" cy="268200"/>
              </a:xfrm>
            </p:grpSpPr>
            <p:sp>
              <p:nvSpPr>
                <p:cNvPr id="1355" name=""/>
                <p:cNvSpPr/>
                <p:nvPr/>
              </p:nvSpPr>
              <p:spPr>
                <a:xfrm>
                  <a:off x="3171960" y="3398760"/>
                  <a:ext cx="561960" cy="268200"/>
                </a:xfrm>
                <a:prstGeom prst="rect">
                  <a:avLst/>
                </a:prstGeom>
                <a:solidFill>
                  <a:srgbClr val="a8a8a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3219480" y="3463920"/>
                  <a:ext cx="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3692520" y="3465360"/>
                  <a:ext cx="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3232080" y="343224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3232080" y="363852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3257640" y="3497400"/>
                  <a:ext cx="25200" cy="71280"/>
                </a:xfrm>
                <a:prstGeom prst="rect">
                  <a:avLst/>
                </a:prstGeom>
                <a:solidFill>
                  <a:srgbClr val="00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3314880" y="3500280"/>
                  <a:ext cx="26640" cy="7164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2" name=""/>
              <p:cNvGrpSpPr/>
              <p:nvPr/>
            </p:nvGrpSpPr>
            <p:grpSpPr>
              <a:xfrm>
                <a:off x="3171960" y="3790800"/>
                <a:ext cx="561960" cy="268560"/>
                <a:chOff x="3171960" y="3790800"/>
                <a:chExt cx="561960" cy="26856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3171960" y="3790800"/>
                  <a:ext cx="561960" cy="268560"/>
                </a:xfrm>
                <a:prstGeom prst="rect">
                  <a:avLst/>
                </a:prstGeom>
                <a:solidFill>
                  <a:srgbClr val="a8a8a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3219480" y="385596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3692520" y="3859200"/>
                  <a:ext cx="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3232080" y="382428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3232080" y="403380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3257640" y="3890880"/>
                  <a:ext cx="25200" cy="69840"/>
                </a:xfrm>
                <a:prstGeom prst="rect">
                  <a:avLst/>
                </a:prstGeom>
                <a:solidFill>
                  <a:srgbClr val="00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3314880" y="3892680"/>
                  <a:ext cx="26640" cy="6984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0" name=""/>
              <p:cNvGrpSpPr/>
              <p:nvPr/>
            </p:nvGrpSpPr>
            <p:grpSpPr>
              <a:xfrm>
                <a:off x="3171960" y="4184640"/>
                <a:ext cx="561960" cy="264960"/>
                <a:chOff x="3171960" y="4184640"/>
                <a:chExt cx="561960" cy="264960"/>
              </a:xfrm>
            </p:grpSpPr>
            <p:sp>
              <p:nvSpPr>
                <p:cNvPr id="1371" name=""/>
                <p:cNvSpPr/>
                <p:nvPr/>
              </p:nvSpPr>
              <p:spPr>
                <a:xfrm>
                  <a:off x="3171960" y="4184640"/>
                  <a:ext cx="561960" cy="264960"/>
                </a:xfrm>
                <a:prstGeom prst="rect">
                  <a:avLst/>
                </a:prstGeom>
                <a:solidFill>
                  <a:srgbClr val="a8a8a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3219480" y="424800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3692520" y="424980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3232080" y="421812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3232080" y="442440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3257640" y="4284720"/>
                  <a:ext cx="25200" cy="69840"/>
                </a:xfrm>
                <a:prstGeom prst="rect">
                  <a:avLst/>
                </a:prstGeom>
                <a:solidFill>
                  <a:srgbClr val="00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3314880" y="4286160"/>
                  <a:ext cx="26640" cy="6840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8" name=""/>
              <p:cNvGrpSpPr/>
              <p:nvPr/>
            </p:nvGrpSpPr>
            <p:grpSpPr>
              <a:xfrm>
                <a:off x="3171960" y="4575240"/>
                <a:ext cx="561960" cy="266760"/>
                <a:chOff x="3171960" y="4575240"/>
                <a:chExt cx="561960" cy="266760"/>
              </a:xfrm>
            </p:grpSpPr>
            <p:sp>
              <p:nvSpPr>
                <p:cNvPr id="1379" name=""/>
                <p:cNvSpPr/>
                <p:nvPr/>
              </p:nvSpPr>
              <p:spPr>
                <a:xfrm>
                  <a:off x="3171960" y="4575240"/>
                  <a:ext cx="561960" cy="266760"/>
                </a:xfrm>
                <a:prstGeom prst="rect">
                  <a:avLst/>
                </a:prstGeom>
                <a:solidFill>
                  <a:srgbClr val="a8a8a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3219480" y="464040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692520" y="464328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232080" y="461016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3232080" y="481644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3257640" y="4678200"/>
                  <a:ext cx="25200" cy="66960"/>
                </a:xfrm>
                <a:prstGeom prst="rect">
                  <a:avLst/>
                </a:prstGeom>
                <a:solidFill>
                  <a:srgbClr val="00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3314880" y="4678200"/>
                  <a:ext cx="26640" cy="6840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6" name=""/>
              <p:cNvGrpSpPr/>
              <p:nvPr/>
            </p:nvGrpSpPr>
            <p:grpSpPr>
              <a:xfrm>
                <a:off x="3171960" y="4967280"/>
                <a:ext cx="561960" cy="268200"/>
                <a:chOff x="3171960" y="4967280"/>
                <a:chExt cx="561960" cy="268200"/>
              </a:xfrm>
            </p:grpSpPr>
            <p:sp>
              <p:nvSpPr>
                <p:cNvPr id="1387" name=""/>
                <p:cNvSpPr/>
                <p:nvPr/>
              </p:nvSpPr>
              <p:spPr>
                <a:xfrm>
                  <a:off x="3171960" y="4967280"/>
                  <a:ext cx="561960" cy="268200"/>
                </a:xfrm>
                <a:prstGeom prst="rect">
                  <a:avLst/>
                </a:prstGeom>
                <a:solidFill>
                  <a:srgbClr val="a8a8a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3219480" y="5032440"/>
                  <a:ext cx="0" cy="141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3692520" y="503568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3232080" y="500076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3232080" y="521028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3257640" y="5068800"/>
                  <a:ext cx="25200" cy="69840"/>
                </a:xfrm>
                <a:prstGeom prst="rect">
                  <a:avLst/>
                </a:prstGeom>
                <a:solidFill>
                  <a:srgbClr val="00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3314880" y="5070600"/>
                  <a:ext cx="26640" cy="6984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3171960" y="5359320"/>
                <a:ext cx="561960" cy="268200"/>
                <a:chOff x="3171960" y="5359320"/>
                <a:chExt cx="561960" cy="26820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3171960" y="5359320"/>
                  <a:ext cx="561960" cy="268200"/>
                </a:xfrm>
                <a:prstGeom prst="rect">
                  <a:avLst/>
                </a:prstGeom>
                <a:solidFill>
                  <a:srgbClr val="a8a8a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3219480" y="5425920"/>
                  <a:ext cx="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3692520" y="5429160"/>
                  <a:ext cx="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3232080" y="539100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3232080" y="5602320"/>
                  <a:ext cx="44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3257640" y="5460840"/>
                  <a:ext cx="25200" cy="69840"/>
                </a:xfrm>
                <a:prstGeom prst="rect">
                  <a:avLst/>
                </a:prstGeom>
                <a:solidFill>
                  <a:srgbClr val="00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3314880" y="5462640"/>
                  <a:ext cx="26640" cy="6984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d49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2" name=""/>
            <p:cNvSpPr/>
            <p:nvPr/>
          </p:nvSpPr>
          <p:spPr>
            <a:xfrm flipV="1">
              <a:off x="2338560" y="2488680"/>
              <a:ext cx="0" cy="75564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2684520" y="2923920"/>
              <a:ext cx="0" cy="46980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228560" y="5370480"/>
              <a:ext cx="101088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920" bIns="3492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93720"/>
                  <a:tab algn="l" pos="1387440"/>
                  <a:tab algn="l" pos="2081160"/>
                  <a:tab algn="l" pos="2774880"/>
                  <a:tab algn="l" pos="3468600"/>
                  <a:tab algn="l" pos="4162320"/>
                  <a:tab algn="l" pos="4856040"/>
                  <a:tab algn="l" pos="5549760"/>
                  <a:tab algn="l" pos="6243480"/>
                  <a:tab algn="l" pos="6937200"/>
                  <a:tab algn="l" pos="7631280"/>
                  <a:tab algn="l" pos="8325000"/>
                  <a:tab algn="l" pos="9018720"/>
                  <a:tab algn="l" pos="9712440"/>
                  <a:tab algn="l" pos="10406160"/>
                </a:tabLst>
              </a:pPr>
              <a:r>
                <a:rPr b="0" lang="en-US" sz="2100" spc="-1" strike="noStrike">
                  <a:solidFill>
                    <a:srgbClr val="fcfeb9"/>
                  </a:solidFill>
                  <a:latin typeface="Arial"/>
                </a:rPr>
                <a:t>RAID-5</a:t>
              </a:r>
              <a:endParaRPr b="0" lang="en-US" sz="21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168800" y="3403440"/>
              <a:ext cx="0" cy="218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4047840" y="3390840"/>
              <a:ext cx="11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4030560" y="5622840"/>
              <a:ext cx="13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71600" y="4859280"/>
              <a:ext cx="101088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920" bIns="3492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93720"/>
                  <a:tab algn="l" pos="1387440"/>
                  <a:tab algn="l" pos="2081160"/>
                  <a:tab algn="l" pos="2774880"/>
                  <a:tab algn="l" pos="3468600"/>
                  <a:tab algn="l" pos="4162320"/>
                  <a:tab algn="l" pos="4856040"/>
                  <a:tab algn="l" pos="5549760"/>
                  <a:tab algn="l" pos="6243480"/>
                  <a:tab algn="l" pos="6937200"/>
                  <a:tab algn="l" pos="7631280"/>
                  <a:tab algn="l" pos="8325000"/>
                  <a:tab algn="l" pos="9018720"/>
                  <a:tab algn="l" pos="9712440"/>
                  <a:tab algn="l" pos="10406160"/>
                </a:tabLst>
              </a:pPr>
              <a:r>
                <a:rPr b="0" lang="en-US" sz="2100" spc="-1" strike="noStrike">
                  <a:solidFill>
                    <a:srgbClr val="fcfeb9"/>
                  </a:solidFill>
                  <a:latin typeface="Arial"/>
                </a:rPr>
                <a:t>RAID-5</a:t>
              </a:r>
              <a:endParaRPr b="0" lang="en-US" sz="21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13280" y="2892600"/>
              <a:ext cx="0" cy="21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5689080" y="2878200"/>
              <a:ext cx="11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5673240" y="511164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Arial"/>
              </a:rPr>
              <a:t>General SCSI Guidelines</a:t>
            </a:r>
            <a:endParaRPr b="1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5029200"/>
            <a:ext cx="7581960" cy="914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81000"/>
          </a:bodyPr>
          <a:p>
            <a:pPr marL="231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BLES LEFT UNTERMINATED ACT AS ANTENNA!!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ignals that Reach An Unterminated SCSI Bus Encounter a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inite Resistance Source (AIR) &amp; reflect back the other w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74920" y="2755800"/>
            <a:ext cx="4089240" cy="203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46920" y="2755800"/>
            <a:ext cx="1193760" cy="203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37440" y="2527200"/>
            <a:ext cx="660240" cy="58428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137160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1523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01000" y="2755800"/>
            <a:ext cx="0" cy="203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18080" y="3994200"/>
            <a:ext cx="1636920" cy="393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mination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94440" y="2882880"/>
            <a:ext cx="1346040" cy="10159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07200" y="4299120"/>
            <a:ext cx="2319480" cy="393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s as Antennae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467480" y="3035160"/>
            <a:ext cx="0" cy="1092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65960" y="2514600"/>
            <a:ext cx="1342440" cy="685800"/>
            <a:chOff x="1065960" y="2514600"/>
            <a:chExt cx="1342440" cy="68580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1158840" y="2514600"/>
              <a:ext cx="1249560" cy="6858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142" name=""/>
            <p:cNvSpPr/>
            <p:nvPr/>
          </p:nvSpPr>
          <p:spPr>
            <a:xfrm>
              <a:off x="1065960" y="2657520"/>
              <a:ext cx="132588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troller</a:t>
              </a:r>
              <a:endParaRPr b="0" lang="en-US" sz="18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H="1" flipV="1">
            <a:off x="2120760" y="3034800"/>
            <a:ext cx="1702080" cy="9399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55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824760" y="228600"/>
            <a:ext cx="7681680" cy="1433880"/>
            <a:chOff x="824760" y="228600"/>
            <a:chExt cx="7681680" cy="1433880"/>
          </a:xfrm>
        </p:grpSpPr>
        <p:sp>
          <p:nvSpPr>
            <p:cNvPr id="1419" name=""/>
            <p:cNvSpPr/>
            <p:nvPr/>
          </p:nvSpPr>
          <p:spPr>
            <a:xfrm>
              <a:off x="824760" y="228600"/>
              <a:ext cx="7681680" cy="7974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17640" bIns="17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i="1" lang="en-US" sz="5000" spc="-1" strike="noStrike">
                  <a:solidFill>
                    <a:srgbClr val="fafd00"/>
                  </a:solidFill>
                  <a:latin typeface="Arial"/>
                </a:rPr>
                <a:t>SmartRAID ECC Protects</a:t>
              </a:r>
              <a:endParaRPr b="0" lang="en-US" sz="50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58480" y="865080"/>
              <a:ext cx="7119360" cy="7974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17640" bIns="17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i="1" lang="en-US" sz="5000" spc="-1" strike="noStrike">
                  <a:solidFill>
                    <a:srgbClr val="fafd00"/>
                  </a:solidFill>
                  <a:latin typeface="Arial"/>
                </a:rPr>
                <a:t>entire RAID Subsystem</a:t>
              </a:r>
              <a:endParaRPr b="0" lang="en-US" sz="50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  <p:pic>
        <p:nvPicPr>
          <p:cNvPr id="1421" name="" descr=""/>
          <p:cNvPicPr/>
          <p:nvPr/>
        </p:nvPicPr>
        <p:blipFill>
          <a:blip r:embed="rId1"/>
          <a:stretch/>
        </p:blipFill>
        <p:spPr>
          <a:xfrm>
            <a:off x="4987800" y="3468600"/>
            <a:ext cx="1160640" cy="88920"/>
          </a:xfrm>
          <a:prstGeom prst="rect">
            <a:avLst/>
          </a:prstGeom>
          <a:ln w="0">
            <a:noFill/>
          </a:ln>
        </p:spPr>
      </p:pic>
      <p:pic>
        <p:nvPicPr>
          <p:cNvPr id="1422" name="" descr=""/>
          <p:cNvPicPr/>
          <p:nvPr/>
        </p:nvPicPr>
        <p:blipFill>
          <a:blip r:embed="rId2"/>
          <a:stretch/>
        </p:blipFill>
        <p:spPr>
          <a:xfrm>
            <a:off x="2698920" y="2467080"/>
            <a:ext cx="296640" cy="2158920"/>
          </a:xfrm>
          <a:prstGeom prst="rect">
            <a:avLst/>
          </a:prstGeom>
          <a:ln w="0">
            <a:noFill/>
          </a:ln>
        </p:spPr>
      </p:pic>
      <p:pic>
        <p:nvPicPr>
          <p:cNvPr id="1423" name="" descr=""/>
          <p:cNvPicPr/>
          <p:nvPr/>
        </p:nvPicPr>
        <p:blipFill>
          <a:blip r:embed="rId3"/>
          <a:stretch/>
        </p:blipFill>
        <p:spPr>
          <a:xfrm>
            <a:off x="2806560" y="3400560"/>
            <a:ext cx="614520" cy="220680"/>
          </a:xfrm>
          <a:prstGeom prst="rect">
            <a:avLst/>
          </a:prstGeom>
          <a:ln w="0">
            <a:noFill/>
          </a:ln>
        </p:spPr>
      </p:pic>
      <p:sp>
        <p:nvSpPr>
          <p:cNvPr id="1424" name=""/>
          <p:cNvSpPr/>
          <p:nvPr/>
        </p:nvSpPr>
        <p:spPr>
          <a:xfrm>
            <a:off x="6804000" y="2127240"/>
            <a:ext cx="525600" cy="600120"/>
          </a:xfrm>
          <a:prstGeom prst="ellipse">
            <a:avLst/>
          </a:prstGeom>
          <a:solidFill>
            <a:srgbClr val="f95ab7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425" name="" descr=""/>
          <p:cNvPicPr/>
          <p:nvPr/>
        </p:nvPicPr>
        <p:blipFill>
          <a:blip r:embed="rId4"/>
          <a:stretch/>
        </p:blipFill>
        <p:spPr>
          <a:xfrm>
            <a:off x="6399360" y="2316240"/>
            <a:ext cx="392040" cy="21888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6804000" y="2886120"/>
            <a:ext cx="525600" cy="600120"/>
          </a:xfrm>
          <a:prstGeom prst="ellipse">
            <a:avLst/>
          </a:prstGeom>
          <a:solidFill>
            <a:srgbClr val="f95ab7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427" name="" descr=""/>
          <p:cNvPicPr/>
          <p:nvPr/>
        </p:nvPicPr>
        <p:blipFill>
          <a:blip r:embed="rId5"/>
          <a:stretch/>
        </p:blipFill>
        <p:spPr>
          <a:xfrm>
            <a:off x="6399360" y="3067200"/>
            <a:ext cx="392040" cy="218880"/>
          </a:xfrm>
          <a:prstGeom prst="rect">
            <a:avLst/>
          </a:prstGeom>
          <a:ln w="0">
            <a:noFill/>
          </a:ln>
        </p:spPr>
      </p:pic>
      <p:sp>
        <p:nvSpPr>
          <p:cNvPr id="1428" name=""/>
          <p:cNvSpPr/>
          <p:nvPr/>
        </p:nvSpPr>
        <p:spPr>
          <a:xfrm>
            <a:off x="6804000" y="3646440"/>
            <a:ext cx="525600" cy="603360"/>
          </a:xfrm>
          <a:prstGeom prst="ellipse">
            <a:avLst/>
          </a:prstGeom>
          <a:solidFill>
            <a:srgbClr val="f95ab7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429" name="" descr=""/>
          <p:cNvPicPr/>
          <p:nvPr/>
        </p:nvPicPr>
        <p:blipFill>
          <a:blip r:embed="rId6"/>
          <a:stretch/>
        </p:blipFill>
        <p:spPr>
          <a:xfrm>
            <a:off x="6399360" y="3827520"/>
            <a:ext cx="392040" cy="220680"/>
          </a:xfrm>
          <a:prstGeom prst="rect">
            <a:avLst/>
          </a:prstGeom>
          <a:ln w="0">
            <a:noFill/>
          </a:ln>
        </p:spPr>
      </p:pic>
      <p:sp>
        <p:nvSpPr>
          <p:cNvPr id="1430" name=""/>
          <p:cNvSpPr/>
          <p:nvPr/>
        </p:nvSpPr>
        <p:spPr>
          <a:xfrm>
            <a:off x="6804000" y="4410000"/>
            <a:ext cx="525600" cy="601560"/>
          </a:xfrm>
          <a:prstGeom prst="ellipse">
            <a:avLst/>
          </a:prstGeom>
          <a:solidFill>
            <a:srgbClr val="f95ab7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431" name="" descr=""/>
          <p:cNvPicPr/>
          <p:nvPr/>
        </p:nvPicPr>
        <p:blipFill>
          <a:blip r:embed="rId7"/>
          <a:stretch/>
        </p:blipFill>
        <p:spPr>
          <a:xfrm>
            <a:off x="6399360" y="4589640"/>
            <a:ext cx="392040" cy="220320"/>
          </a:xfrm>
          <a:prstGeom prst="rect">
            <a:avLst/>
          </a:prstGeom>
          <a:ln w="0">
            <a:noFill/>
          </a:ln>
        </p:spPr>
      </p:pic>
      <p:sp>
        <p:nvSpPr>
          <p:cNvPr id="1432" name=""/>
          <p:cNvSpPr/>
          <p:nvPr/>
        </p:nvSpPr>
        <p:spPr>
          <a:xfrm>
            <a:off x="6804000" y="5170320"/>
            <a:ext cx="525600" cy="600120"/>
          </a:xfrm>
          <a:prstGeom prst="ellipse">
            <a:avLst/>
          </a:prstGeom>
          <a:solidFill>
            <a:srgbClr val="f95ab7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433" name="" descr=""/>
          <p:cNvPicPr/>
          <p:nvPr/>
        </p:nvPicPr>
        <p:blipFill>
          <a:blip r:embed="rId8"/>
          <a:stretch/>
        </p:blipFill>
        <p:spPr>
          <a:xfrm>
            <a:off x="6399360" y="5359320"/>
            <a:ext cx="392040" cy="219240"/>
          </a:xfrm>
          <a:prstGeom prst="rect">
            <a:avLst/>
          </a:prstGeom>
          <a:ln w="0">
            <a:noFill/>
          </a:ln>
        </p:spPr>
      </p:pic>
      <p:pic>
        <p:nvPicPr>
          <p:cNvPr id="1434" name="" descr=""/>
          <p:cNvPicPr/>
          <p:nvPr/>
        </p:nvPicPr>
        <p:blipFill>
          <a:blip r:embed="rId9"/>
          <a:stretch/>
        </p:blipFill>
        <p:spPr>
          <a:xfrm>
            <a:off x="6215040" y="2668680"/>
            <a:ext cx="77760" cy="238752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1695240" y="3138480"/>
            <a:ext cx="9752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1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911960" y="3444840"/>
            <a:ext cx="54360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1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886200" y="4297320"/>
            <a:ext cx="155736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i="1" lang="en-US" sz="5500" spc="-1" strike="noStrike">
                <a:solidFill>
                  <a:srgbClr val="000000"/>
                </a:solidFill>
                <a:latin typeface="Arial"/>
              </a:rPr>
              <a:t>ECC</a:t>
            </a:r>
            <a:endParaRPr b="0" lang="en-US" sz="5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975200" y="3146400"/>
            <a:ext cx="121140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SI bus</a:t>
            </a:r>
            <a:endParaRPr b="0" lang="en-US" sz="21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13600" y="3433680"/>
            <a:ext cx="1232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martRAID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441600" y="3267000"/>
            <a:ext cx="1338480" cy="496800"/>
          </a:xfrm>
          <a:custGeom>
            <a:avLst/>
            <a:gdLst/>
            <a:ahLst/>
            <a:rect l="l" t="t" r="r" b="b"/>
            <a:pathLst>
              <a:path w="843" h="313">
                <a:moveTo>
                  <a:pt x="0" y="0"/>
                </a:moveTo>
                <a:lnTo>
                  <a:pt x="842" y="0"/>
                </a:lnTo>
                <a:lnTo>
                  <a:pt x="842" y="287"/>
                </a:lnTo>
                <a:lnTo>
                  <a:pt x="794" y="287"/>
                </a:lnTo>
                <a:lnTo>
                  <a:pt x="794" y="312"/>
                </a:lnTo>
                <a:lnTo>
                  <a:pt x="631" y="312"/>
                </a:lnTo>
                <a:lnTo>
                  <a:pt x="631" y="287"/>
                </a:lnTo>
                <a:lnTo>
                  <a:pt x="607" y="287"/>
                </a:lnTo>
                <a:lnTo>
                  <a:pt x="607" y="312"/>
                </a:lnTo>
                <a:lnTo>
                  <a:pt x="444" y="312"/>
                </a:lnTo>
                <a:lnTo>
                  <a:pt x="444" y="287"/>
                </a:lnTo>
                <a:lnTo>
                  <a:pt x="0" y="287"/>
                </a:lnTo>
                <a:lnTo>
                  <a:pt x="0" y="0"/>
                </a:lnTo>
              </a:path>
            </a:pathLst>
          </a:cu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479760" y="3363840"/>
            <a:ext cx="1487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martRAID</a:t>
            </a:r>
            <a:endParaRPr b="0" lang="en-US" sz="17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441600" y="3267000"/>
            <a:ext cx="1347840" cy="503280"/>
          </a:xfrm>
          <a:custGeom>
            <a:avLst/>
            <a:gdLst/>
            <a:ahLst/>
            <a:rect l="l" t="t" r="r" b="b"/>
            <a:pathLst>
              <a:path w="849" h="317">
                <a:moveTo>
                  <a:pt x="0" y="0"/>
                </a:moveTo>
                <a:lnTo>
                  <a:pt x="848" y="0"/>
                </a:lnTo>
                <a:lnTo>
                  <a:pt x="848" y="291"/>
                </a:lnTo>
                <a:lnTo>
                  <a:pt x="800" y="291"/>
                </a:lnTo>
                <a:lnTo>
                  <a:pt x="800" y="316"/>
                </a:lnTo>
                <a:lnTo>
                  <a:pt x="636" y="316"/>
                </a:lnTo>
                <a:lnTo>
                  <a:pt x="636" y="291"/>
                </a:lnTo>
                <a:lnTo>
                  <a:pt x="612" y="291"/>
                </a:lnTo>
                <a:lnTo>
                  <a:pt x="612" y="316"/>
                </a:lnTo>
                <a:lnTo>
                  <a:pt x="447" y="316"/>
                </a:lnTo>
                <a:lnTo>
                  <a:pt x="447" y="291"/>
                </a:lnTo>
                <a:lnTo>
                  <a:pt x="0" y="29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106800" y="2006640"/>
            <a:ext cx="4403520" cy="3876480"/>
          </a:xfrm>
          <a:custGeom>
            <a:avLst/>
            <a:gdLst/>
            <a:ahLst/>
            <a:rect l="l" t="t" r="r" b="b"/>
            <a:pathLst>
              <a:path w="2774" h="2442">
                <a:moveTo>
                  <a:pt x="0" y="0"/>
                </a:moveTo>
                <a:lnTo>
                  <a:pt x="2773" y="0"/>
                </a:lnTo>
                <a:lnTo>
                  <a:pt x="2773" y="2441"/>
                </a:lnTo>
                <a:lnTo>
                  <a:pt x="0" y="244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480" y="1441440"/>
            <a:ext cx="1982520" cy="1827360"/>
          </a:xfrm>
          <a:custGeom>
            <a:avLst/>
            <a:gdLst>
              <a:gd name="textAreaLeft" fmla="*/ 452520 w 1982520"/>
              <a:gd name="textAreaRight" fmla="*/ 1530000 w 1982520"/>
              <a:gd name="textAreaTop" fmla="*/ 417240 h 1827360"/>
              <a:gd name="textAreaBottom" fmla="*/ 1410120 h 1827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f9100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PT</a:t>
            </a:r>
            <a:endParaRPr b="0" lang="en-US" sz="22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clusive!</a:t>
            </a:r>
            <a:endParaRPr b="0" lang="en-US" sz="22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309840" y="174600"/>
            <a:ext cx="2017800" cy="980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en-US" sz="6200" spc="-1" strike="noStrike">
                <a:solidFill>
                  <a:srgbClr val="fafd00"/>
                </a:solidFill>
                <a:latin typeface="Arial"/>
              </a:rPr>
              <a:t>RAID</a:t>
            </a:r>
            <a:endParaRPr b="0" lang="en-US" sz="6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74360" y="1170000"/>
            <a:ext cx="7369920" cy="545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Redundant Array of Independant Drives</a:t>
            </a:r>
            <a:endParaRPr b="0" lang="en-US" sz="3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0640" y="2254320"/>
            <a:ext cx="8386560" cy="29851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en-US" sz="3800" spc="-1" strike="noStrike">
                <a:solidFill>
                  <a:srgbClr val="fafd00"/>
                </a:solidFill>
                <a:latin typeface="Arial"/>
              </a:rPr>
              <a:t>RAID is the only technology that</a:t>
            </a:r>
            <a:endParaRPr b="0" lang="en-US" sz="3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en-US" sz="3800" spc="-1" strike="noStrike">
                <a:solidFill>
                  <a:srgbClr val="fafd00"/>
                </a:solidFill>
                <a:latin typeface="Arial"/>
              </a:rPr>
              <a:t>allows you to increase capacity </a:t>
            </a:r>
            <a:endParaRPr b="0" lang="en-US" sz="3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en-US" sz="3800" spc="-1" strike="noStrike">
                <a:solidFill>
                  <a:srgbClr val="fafd00"/>
                </a:solidFill>
                <a:latin typeface="Arial"/>
              </a:rPr>
              <a:t>and performance proportionately!</a:t>
            </a:r>
            <a:endParaRPr b="0" lang="en-US" sz="3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en-US" sz="3800" spc="-1" strike="noStrike">
                <a:solidFill>
                  <a:srgbClr val="fafd00"/>
                </a:solidFill>
                <a:latin typeface="Arial"/>
              </a:rPr>
              <a:t>and also add Disk Fault Tolerance...</a:t>
            </a:r>
            <a:endParaRPr b="0" lang="en-US" sz="38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Storing RAID Information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800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 fontScale="98000"/>
          </a:bodyPr>
          <a:p>
            <a:pPr marL="280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Two Generally Accepted Methods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roller NVRAM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erve Area of Di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s: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Disk Sp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Multiple Copies o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Us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RAID Configu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SI Bus Integrity         Controller Can B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oesn’t Prev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Replaced &amp; RAID Info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“reading” RAID Info      Still Inta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rays &amp; Hot Spares Ca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Be Created At Anytim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: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Point o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SCSI Bus Integrity C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Fail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Affect “reading” RAID Inf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21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Storing RAID Information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153280" cy="4876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 fontScale="95000"/>
          </a:bodyPr>
          <a:p>
            <a:pPr marL="271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PT Uses HD Space to Store RAID Information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erve Block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last 256K bytes of each H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ached to a DPT adapter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d Drives Included in an Arr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D Level (RAID-0, 1, 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pe Size Used in the Arr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t Spare Assign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pe Sequence/Order of Hard Drives in An Arr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Array Status (Optimal, Degraded, Rebuild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ching Parameters Assigned to Hard Driv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21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553760" y="-38160"/>
            <a:ext cx="6149160" cy="732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i="1" lang="en-US" sz="4600" spc="-1" strike="noStrike">
                <a:solidFill>
                  <a:srgbClr val="fafd00"/>
                </a:solidFill>
                <a:latin typeface="Arial"/>
              </a:rPr>
              <a:t>In non-striped system</a:t>
            </a:r>
            <a:endParaRPr b="0" lang="en-US" sz="4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797760" y="569880"/>
            <a:ext cx="7735680" cy="732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i="1" lang="en-US" sz="4600" spc="-1" strike="noStrike">
                <a:solidFill>
                  <a:srgbClr val="fafd00"/>
                </a:solidFill>
                <a:latin typeface="Arial"/>
              </a:rPr>
              <a:t>I/Os wait for single actuator</a:t>
            </a:r>
            <a:endParaRPr b="0" lang="en-US" sz="46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468" name="" descr=""/>
          <p:cNvPicPr/>
          <p:nvPr/>
        </p:nvPicPr>
        <p:blipFill>
          <a:blip r:embed="rId1"/>
          <a:stretch/>
        </p:blipFill>
        <p:spPr>
          <a:xfrm>
            <a:off x="4427640" y="1619280"/>
            <a:ext cx="150840" cy="266760"/>
          </a:xfrm>
          <a:prstGeom prst="rect">
            <a:avLst/>
          </a:prstGeom>
          <a:ln w="0">
            <a:noFill/>
          </a:ln>
        </p:spPr>
      </p:pic>
      <p:sp>
        <p:nvSpPr>
          <p:cNvPr id="1469" name=""/>
          <p:cNvSpPr/>
          <p:nvPr/>
        </p:nvSpPr>
        <p:spPr>
          <a:xfrm>
            <a:off x="4341960" y="1322280"/>
            <a:ext cx="336240" cy="32724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470" name="" descr=""/>
          <p:cNvPicPr/>
          <p:nvPr/>
        </p:nvPicPr>
        <p:blipFill>
          <a:blip r:embed="rId2"/>
          <a:stretch/>
        </p:blipFill>
        <p:spPr>
          <a:xfrm>
            <a:off x="4429080" y="2212920"/>
            <a:ext cx="149400" cy="265320"/>
          </a:xfrm>
          <a:prstGeom prst="rect">
            <a:avLst/>
          </a:prstGeom>
          <a:ln w="0">
            <a:noFill/>
          </a:ln>
        </p:spPr>
      </p:pic>
      <p:sp>
        <p:nvSpPr>
          <p:cNvPr id="1471" name=""/>
          <p:cNvSpPr/>
          <p:nvPr/>
        </p:nvSpPr>
        <p:spPr>
          <a:xfrm>
            <a:off x="4341960" y="1916280"/>
            <a:ext cx="336240" cy="32544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472" name="" descr=""/>
          <p:cNvPicPr/>
          <p:nvPr/>
        </p:nvPicPr>
        <p:blipFill>
          <a:blip r:embed="rId3"/>
          <a:stretch/>
        </p:blipFill>
        <p:spPr>
          <a:xfrm>
            <a:off x="4429080" y="2806560"/>
            <a:ext cx="149400" cy="265320"/>
          </a:xfrm>
          <a:prstGeom prst="rect">
            <a:avLst/>
          </a:prstGeom>
          <a:ln w="0">
            <a:noFill/>
          </a:ln>
        </p:spPr>
      </p:pic>
      <p:sp>
        <p:nvSpPr>
          <p:cNvPr id="1473" name=""/>
          <p:cNvSpPr/>
          <p:nvPr/>
        </p:nvSpPr>
        <p:spPr>
          <a:xfrm>
            <a:off x="4341960" y="2508120"/>
            <a:ext cx="336240" cy="32868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474" name="" descr=""/>
          <p:cNvPicPr/>
          <p:nvPr/>
        </p:nvPicPr>
        <p:blipFill>
          <a:blip r:embed="rId4"/>
          <a:stretch/>
        </p:blipFill>
        <p:spPr>
          <a:xfrm>
            <a:off x="4429080" y="3400560"/>
            <a:ext cx="149400" cy="264960"/>
          </a:xfrm>
          <a:prstGeom prst="rect">
            <a:avLst/>
          </a:prstGeom>
          <a:ln w="0">
            <a:noFill/>
          </a:ln>
        </p:spPr>
      </p:pic>
      <p:sp>
        <p:nvSpPr>
          <p:cNvPr id="1475" name=""/>
          <p:cNvSpPr/>
          <p:nvPr/>
        </p:nvSpPr>
        <p:spPr>
          <a:xfrm>
            <a:off x="4341960" y="3102120"/>
            <a:ext cx="336240" cy="32832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476" name="" descr=""/>
          <p:cNvPicPr/>
          <p:nvPr/>
        </p:nvPicPr>
        <p:blipFill>
          <a:blip r:embed="rId5"/>
          <a:stretch/>
        </p:blipFill>
        <p:spPr>
          <a:xfrm>
            <a:off x="4429080" y="3994200"/>
            <a:ext cx="149400" cy="264960"/>
          </a:xfrm>
          <a:prstGeom prst="rect">
            <a:avLst/>
          </a:prstGeom>
          <a:ln w="0">
            <a:noFill/>
          </a:ln>
        </p:spPr>
      </p:pic>
      <p:sp>
        <p:nvSpPr>
          <p:cNvPr id="1477" name=""/>
          <p:cNvSpPr/>
          <p:nvPr/>
        </p:nvSpPr>
        <p:spPr>
          <a:xfrm>
            <a:off x="4341960" y="3695760"/>
            <a:ext cx="336240" cy="32688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478" name="" descr=""/>
          <p:cNvPicPr/>
          <p:nvPr/>
        </p:nvPicPr>
        <p:blipFill>
          <a:blip r:embed="rId6"/>
          <a:stretch/>
        </p:blipFill>
        <p:spPr>
          <a:xfrm>
            <a:off x="4429080" y="4587840"/>
            <a:ext cx="147600" cy="263520"/>
          </a:xfrm>
          <a:prstGeom prst="rect">
            <a:avLst/>
          </a:prstGeom>
          <a:ln w="0">
            <a:noFill/>
          </a:ln>
        </p:spPr>
      </p:pic>
      <p:sp>
        <p:nvSpPr>
          <p:cNvPr id="1479" name=""/>
          <p:cNvSpPr/>
          <p:nvPr/>
        </p:nvSpPr>
        <p:spPr>
          <a:xfrm>
            <a:off x="4341960" y="4287960"/>
            <a:ext cx="33624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514520" y="4911840"/>
            <a:ext cx="981000" cy="958680"/>
          </a:xfrm>
          <a:prstGeom prst="ellipse">
            <a:avLst/>
          </a:prstGeom>
          <a:solidFill>
            <a:srgbClr val="d93192"/>
          </a:solidFill>
          <a:ln w="12600">
            <a:solidFill>
              <a:srgbClr val="d93192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705680" y="5272200"/>
            <a:ext cx="6192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ive 1</a:t>
            </a:r>
            <a:endParaRPr b="0" lang="en-US" sz="13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759040" y="4911840"/>
            <a:ext cx="982800" cy="958680"/>
          </a:xfrm>
          <a:prstGeom prst="ellipse">
            <a:avLst/>
          </a:prstGeom>
          <a:solidFill>
            <a:srgbClr val="d93192"/>
          </a:solidFill>
          <a:ln w="12600">
            <a:solidFill>
              <a:srgbClr val="d93192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950200" y="5272200"/>
            <a:ext cx="6192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ive 2</a:t>
            </a:r>
            <a:endParaRPr b="0" lang="en-US" sz="13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003560" y="4911840"/>
            <a:ext cx="982800" cy="958680"/>
          </a:xfrm>
          <a:prstGeom prst="ellipse">
            <a:avLst/>
          </a:prstGeom>
          <a:solidFill>
            <a:srgbClr val="d93192"/>
          </a:solidFill>
          <a:ln w="12600">
            <a:solidFill>
              <a:srgbClr val="d93192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193280" y="5272200"/>
            <a:ext cx="6192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ive 3</a:t>
            </a:r>
            <a:endParaRPr b="0" lang="en-US" sz="13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248440" y="4911840"/>
            <a:ext cx="982440" cy="958680"/>
          </a:xfrm>
          <a:prstGeom prst="ellipse">
            <a:avLst/>
          </a:prstGeom>
          <a:solidFill>
            <a:srgbClr val="d93192"/>
          </a:solidFill>
          <a:ln w="12600">
            <a:solidFill>
              <a:srgbClr val="d93192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434560" y="5272200"/>
            <a:ext cx="6192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ive 4</a:t>
            </a:r>
            <a:endParaRPr b="0" lang="en-US" sz="13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492960" y="4911840"/>
            <a:ext cx="982440" cy="958680"/>
          </a:xfrm>
          <a:prstGeom prst="ellipse">
            <a:avLst/>
          </a:prstGeom>
          <a:solidFill>
            <a:srgbClr val="d93192"/>
          </a:solidFill>
          <a:ln w="12600">
            <a:solidFill>
              <a:srgbClr val="d93192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679440" y="5272200"/>
            <a:ext cx="6192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ive 5</a:t>
            </a:r>
            <a:endParaRPr b="0" lang="en-US" sz="13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413000" y="33480"/>
            <a:ext cx="6482880" cy="656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i="1" lang="en-US" sz="4100" spc="-1" strike="noStrike">
                <a:solidFill>
                  <a:srgbClr val="fafd00"/>
                </a:solidFill>
                <a:latin typeface="Arial"/>
              </a:rPr>
              <a:t>In a striped array, I/Os are</a:t>
            </a:r>
            <a:endParaRPr b="0" lang="en-US" sz="41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735480" y="641520"/>
            <a:ext cx="8046360" cy="656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i="1" lang="en-US" sz="4100" spc="-1" strike="noStrike">
                <a:solidFill>
                  <a:srgbClr val="fafd00"/>
                </a:solidFill>
                <a:latin typeface="Arial"/>
              </a:rPr>
              <a:t>evenly distributed across drives</a:t>
            </a:r>
            <a:endParaRPr b="0" lang="en-US" sz="41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498" name="" descr=""/>
          <p:cNvPicPr/>
          <p:nvPr/>
        </p:nvPicPr>
        <p:blipFill>
          <a:blip r:embed="rId1"/>
          <a:stretch/>
        </p:blipFill>
        <p:spPr>
          <a:xfrm>
            <a:off x="4371840" y="4551480"/>
            <a:ext cx="149400" cy="264960"/>
          </a:xfrm>
          <a:prstGeom prst="rect">
            <a:avLst/>
          </a:prstGeom>
          <a:ln w="0">
            <a:noFill/>
          </a:ln>
        </p:spPr>
      </p:pic>
      <p:sp>
        <p:nvSpPr>
          <p:cNvPr id="1499" name=""/>
          <p:cNvSpPr/>
          <p:nvPr/>
        </p:nvSpPr>
        <p:spPr>
          <a:xfrm>
            <a:off x="1457280" y="4951440"/>
            <a:ext cx="981000" cy="958680"/>
          </a:xfrm>
          <a:prstGeom prst="ellipse">
            <a:avLst/>
          </a:prstGeom>
          <a:solidFill>
            <a:srgbClr val="d93192"/>
          </a:solidFill>
          <a:ln w="12600">
            <a:solidFill>
              <a:srgbClr val="d93192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647000" y="5235480"/>
            <a:ext cx="6192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ive 1</a:t>
            </a:r>
            <a:endParaRPr b="0" lang="en-US" sz="13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701800" y="4951440"/>
            <a:ext cx="982800" cy="958680"/>
          </a:xfrm>
          <a:prstGeom prst="ellipse">
            <a:avLst/>
          </a:prstGeom>
          <a:solidFill>
            <a:srgbClr val="d93192"/>
          </a:solidFill>
          <a:ln w="12600">
            <a:solidFill>
              <a:srgbClr val="d93192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891520" y="5235480"/>
            <a:ext cx="6192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ive 2</a:t>
            </a:r>
            <a:endParaRPr b="0" lang="en-US" sz="13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946680" y="4951440"/>
            <a:ext cx="982440" cy="958680"/>
          </a:xfrm>
          <a:prstGeom prst="ellipse">
            <a:avLst/>
          </a:prstGeom>
          <a:solidFill>
            <a:srgbClr val="d93192"/>
          </a:solidFill>
          <a:ln w="12600">
            <a:solidFill>
              <a:srgbClr val="d93192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134600" y="5235480"/>
            <a:ext cx="6192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ive 3</a:t>
            </a:r>
            <a:endParaRPr b="0" lang="en-US" sz="13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191200" y="4951440"/>
            <a:ext cx="982440" cy="958680"/>
          </a:xfrm>
          <a:prstGeom prst="ellipse">
            <a:avLst/>
          </a:prstGeom>
          <a:solidFill>
            <a:srgbClr val="d93192"/>
          </a:solidFill>
          <a:ln w="12600">
            <a:solidFill>
              <a:srgbClr val="d93192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377680" y="5235480"/>
            <a:ext cx="6192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ive 4</a:t>
            </a:r>
            <a:endParaRPr b="0" lang="en-US" sz="13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435720" y="4951440"/>
            <a:ext cx="982800" cy="958680"/>
          </a:xfrm>
          <a:prstGeom prst="ellipse">
            <a:avLst/>
          </a:prstGeom>
          <a:solidFill>
            <a:srgbClr val="d93192"/>
          </a:solidFill>
          <a:ln w="12600">
            <a:solidFill>
              <a:srgbClr val="d93192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622200" y="5235480"/>
            <a:ext cx="6192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ive 5</a:t>
            </a:r>
            <a:endParaRPr b="0" lang="en-US" sz="13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509" name="" descr=""/>
          <p:cNvPicPr/>
          <p:nvPr/>
        </p:nvPicPr>
        <p:blipFill>
          <a:blip r:embed="rId2"/>
          <a:stretch/>
        </p:blipFill>
        <p:spPr>
          <a:xfrm>
            <a:off x="4589640" y="1417680"/>
            <a:ext cx="1049040" cy="63360"/>
          </a:xfrm>
          <a:prstGeom prst="rect">
            <a:avLst/>
          </a:prstGeom>
          <a:ln w="0">
            <a:noFill/>
          </a:ln>
        </p:spPr>
      </p:pic>
      <p:pic>
        <p:nvPicPr>
          <p:cNvPr id="1510" name="" descr=""/>
          <p:cNvPicPr/>
          <p:nvPr/>
        </p:nvPicPr>
        <p:blipFill>
          <a:blip r:embed="rId3"/>
          <a:stretch/>
        </p:blipFill>
        <p:spPr>
          <a:xfrm>
            <a:off x="5560920" y="1447920"/>
            <a:ext cx="144720" cy="3355920"/>
          </a:xfrm>
          <a:prstGeom prst="rect">
            <a:avLst/>
          </a:prstGeom>
          <a:ln w="0">
            <a:noFill/>
          </a:ln>
        </p:spPr>
      </p:pic>
      <p:pic>
        <p:nvPicPr>
          <p:cNvPr id="1511" name="" descr=""/>
          <p:cNvPicPr/>
          <p:nvPr/>
        </p:nvPicPr>
        <p:blipFill>
          <a:blip r:embed="rId4"/>
          <a:stretch/>
        </p:blipFill>
        <p:spPr>
          <a:xfrm>
            <a:off x="3276720" y="2611440"/>
            <a:ext cx="1033200" cy="63360"/>
          </a:xfrm>
          <a:prstGeom prst="rect">
            <a:avLst/>
          </a:prstGeom>
          <a:ln w="0">
            <a:noFill/>
          </a:ln>
        </p:spPr>
      </p:pic>
      <p:pic>
        <p:nvPicPr>
          <p:cNvPr id="1512" name="" descr=""/>
          <p:cNvPicPr/>
          <p:nvPr/>
        </p:nvPicPr>
        <p:blipFill>
          <a:blip r:embed="rId5"/>
          <a:stretch/>
        </p:blipFill>
        <p:spPr>
          <a:xfrm>
            <a:off x="3216240" y="2666880"/>
            <a:ext cx="142920" cy="1976400"/>
          </a:xfrm>
          <a:prstGeom prst="rect">
            <a:avLst/>
          </a:prstGeom>
          <a:ln w="0">
            <a:noFill/>
          </a:ln>
        </p:spPr>
      </p:pic>
      <p:pic>
        <p:nvPicPr>
          <p:cNvPr id="1513" name="" descr=""/>
          <p:cNvPicPr/>
          <p:nvPr/>
        </p:nvPicPr>
        <p:blipFill>
          <a:blip r:embed="rId6"/>
          <a:stretch/>
        </p:blipFill>
        <p:spPr>
          <a:xfrm>
            <a:off x="2028960" y="3816360"/>
            <a:ext cx="2368440" cy="66600"/>
          </a:xfrm>
          <a:prstGeom prst="rect">
            <a:avLst/>
          </a:prstGeom>
          <a:ln w="0">
            <a:noFill/>
          </a:ln>
        </p:spPr>
      </p:pic>
      <p:pic>
        <p:nvPicPr>
          <p:cNvPr id="1514" name="" descr=""/>
          <p:cNvPicPr/>
          <p:nvPr/>
        </p:nvPicPr>
        <p:blipFill>
          <a:blip r:embed="rId7"/>
          <a:stretch/>
        </p:blipFill>
        <p:spPr>
          <a:xfrm>
            <a:off x="1987560" y="3809880"/>
            <a:ext cx="130320" cy="857520"/>
          </a:xfrm>
          <a:prstGeom prst="rect">
            <a:avLst/>
          </a:prstGeom>
          <a:ln w="0">
            <a:noFill/>
          </a:ln>
        </p:spPr>
      </p:pic>
      <p:pic>
        <p:nvPicPr>
          <p:cNvPr id="1515" name="" descr=""/>
          <p:cNvPicPr/>
          <p:nvPr/>
        </p:nvPicPr>
        <p:blipFill>
          <a:blip r:embed="rId8"/>
          <a:stretch/>
        </p:blipFill>
        <p:spPr>
          <a:xfrm>
            <a:off x="4579920" y="2009880"/>
            <a:ext cx="2220840" cy="66600"/>
          </a:xfrm>
          <a:prstGeom prst="rect">
            <a:avLst/>
          </a:prstGeom>
          <a:ln w="0">
            <a:noFill/>
          </a:ln>
        </p:spPr>
      </p:pic>
      <p:pic>
        <p:nvPicPr>
          <p:cNvPr id="1516" name="" descr=""/>
          <p:cNvPicPr/>
          <p:nvPr/>
        </p:nvPicPr>
        <p:blipFill>
          <a:blip r:embed="rId9"/>
          <a:stretch/>
        </p:blipFill>
        <p:spPr>
          <a:xfrm>
            <a:off x="6691320" y="2057400"/>
            <a:ext cx="152280" cy="2670120"/>
          </a:xfrm>
          <a:prstGeom prst="rect">
            <a:avLst/>
          </a:prstGeom>
          <a:ln w="0">
            <a:noFill/>
          </a:ln>
        </p:spPr>
      </p:pic>
      <p:sp>
        <p:nvSpPr>
          <p:cNvPr id="1517" name=""/>
          <p:cNvSpPr/>
          <p:nvPr/>
        </p:nvSpPr>
        <p:spPr>
          <a:xfrm>
            <a:off x="4284720" y="1285920"/>
            <a:ext cx="336600" cy="32868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284720" y="1879560"/>
            <a:ext cx="336600" cy="32724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284720" y="2471760"/>
            <a:ext cx="336600" cy="32868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284720" y="3065400"/>
            <a:ext cx="33660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284720" y="3660840"/>
            <a:ext cx="336600" cy="32688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284720" y="4176720"/>
            <a:ext cx="33660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08000" y="1596960"/>
            <a:ext cx="355392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s more disks are added,</a:t>
            </a:r>
            <a:endParaRPr b="0" lang="en-US" sz="22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roughput increases...</a:t>
            </a:r>
            <a:endParaRPr b="0" lang="en-US" sz="22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479600" y="1362240"/>
            <a:ext cx="1092240" cy="3230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137040" y="1362240"/>
            <a:ext cx="1093680" cy="3230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795920" y="1362240"/>
            <a:ext cx="1093680" cy="3230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456240" y="1362240"/>
            <a:ext cx="1094040" cy="3230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226600" y="33480"/>
            <a:ext cx="4623480" cy="732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i="1" lang="en-US" sz="4600" spc="-1" strike="noStrike">
                <a:solidFill>
                  <a:srgbClr val="fafd00"/>
                </a:solidFill>
                <a:latin typeface="Arial"/>
              </a:rPr>
              <a:t>DATA STRIPING</a:t>
            </a:r>
            <a:endParaRPr b="0" lang="en-US" sz="4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898200" y="4819680"/>
            <a:ext cx="7295040" cy="5497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Logical data stripes are interleaved</a:t>
            </a:r>
            <a:endParaRPr b="0" lang="en-US" sz="3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320560" y="5303880"/>
            <a:ext cx="4707360" cy="5497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across physical drives</a:t>
            </a:r>
            <a:endParaRPr b="0" lang="en-US" sz="3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566720" y="896760"/>
            <a:ext cx="93240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rive 1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224160" y="896760"/>
            <a:ext cx="93240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rive 2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881240" y="896760"/>
            <a:ext cx="93240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rive 3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540120" y="896760"/>
            <a:ext cx="93240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rive 4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541" name="" descr=""/>
          <p:cNvPicPr/>
          <p:nvPr/>
        </p:nvPicPr>
        <p:blipFill>
          <a:blip r:embed="rId1"/>
          <a:stretch/>
        </p:blipFill>
        <p:spPr>
          <a:xfrm>
            <a:off x="2314440" y="1731960"/>
            <a:ext cx="4384800" cy="66600"/>
          </a:xfrm>
          <a:prstGeom prst="rect">
            <a:avLst/>
          </a:prstGeom>
          <a:ln w="0">
            <a:noFill/>
          </a:ln>
        </p:spPr>
      </p:pic>
      <p:pic>
        <p:nvPicPr>
          <p:cNvPr id="1542" name="" descr=""/>
          <p:cNvPicPr/>
          <p:nvPr/>
        </p:nvPicPr>
        <p:blipFill>
          <a:blip r:embed="rId2"/>
          <a:stretch/>
        </p:blipFill>
        <p:spPr>
          <a:xfrm>
            <a:off x="2286000" y="2100240"/>
            <a:ext cx="4440240" cy="71640"/>
          </a:xfrm>
          <a:prstGeom prst="rect">
            <a:avLst/>
          </a:prstGeom>
          <a:ln w="0">
            <a:noFill/>
          </a:ln>
        </p:spPr>
      </p:pic>
      <p:pic>
        <p:nvPicPr>
          <p:cNvPr id="1543" name="" descr=""/>
          <p:cNvPicPr/>
          <p:nvPr/>
        </p:nvPicPr>
        <p:blipFill>
          <a:blip r:embed="rId3"/>
          <a:stretch/>
        </p:blipFill>
        <p:spPr>
          <a:xfrm>
            <a:off x="2333520" y="2562120"/>
            <a:ext cx="4384800" cy="66960"/>
          </a:xfrm>
          <a:prstGeom prst="rect">
            <a:avLst/>
          </a:prstGeom>
          <a:ln w="0">
            <a:noFill/>
          </a:ln>
        </p:spPr>
      </p:pic>
      <p:pic>
        <p:nvPicPr>
          <p:cNvPr id="1544" name="" descr=""/>
          <p:cNvPicPr/>
          <p:nvPr/>
        </p:nvPicPr>
        <p:blipFill>
          <a:blip r:embed="rId4"/>
          <a:stretch/>
        </p:blipFill>
        <p:spPr>
          <a:xfrm>
            <a:off x="2324160" y="2968560"/>
            <a:ext cx="4287600" cy="69840"/>
          </a:xfrm>
          <a:prstGeom prst="rect">
            <a:avLst/>
          </a:prstGeom>
          <a:ln w="0">
            <a:noFill/>
          </a:ln>
        </p:spPr>
      </p:pic>
      <p:sp>
        <p:nvSpPr>
          <p:cNvPr id="1545" name=""/>
          <p:cNvSpPr/>
          <p:nvPr/>
        </p:nvSpPr>
        <p:spPr>
          <a:xfrm>
            <a:off x="1939320" y="1427040"/>
            <a:ext cx="190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595320" y="1427040"/>
            <a:ext cx="190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252760" y="1427040"/>
            <a:ext cx="190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914880" y="1427040"/>
            <a:ext cx="190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939320" y="1830240"/>
            <a:ext cx="190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595320" y="1830240"/>
            <a:ext cx="190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252760" y="1830240"/>
            <a:ext cx="190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914880" y="1830240"/>
            <a:ext cx="190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939320" y="2236680"/>
            <a:ext cx="190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540960" y="2236680"/>
            <a:ext cx="297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198400" y="2236680"/>
            <a:ext cx="297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857280" y="2236680"/>
            <a:ext cx="297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883520" y="2641680"/>
            <a:ext cx="297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540960" y="2641680"/>
            <a:ext cx="297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198400" y="2641680"/>
            <a:ext cx="297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857280" y="2641680"/>
            <a:ext cx="297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561" name="" descr=""/>
          <p:cNvPicPr/>
          <p:nvPr/>
        </p:nvPicPr>
        <p:blipFill>
          <a:blip r:embed="rId5"/>
          <a:stretch/>
        </p:blipFill>
        <p:spPr>
          <a:xfrm>
            <a:off x="3664080" y="3138480"/>
            <a:ext cx="155520" cy="1214280"/>
          </a:xfrm>
          <a:prstGeom prst="rect">
            <a:avLst/>
          </a:prstGeom>
          <a:ln w="0">
            <a:noFill/>
          </a:ln>
        </p:spPr>
      </p:pic>
      <p:pic>
        <p:nvPicPr>
          <p:cNvPr id="1562" name="" descr=""/>
          <p:cNvPicPr/>
          <p:nvPr/>
        </p:nvPicPr>
        <p:blipFill>
          <a:blip r:embed="rId6"/>
          <a:stretch/>
        </p:blipFill>
        <p:spPr>
          <a:xfrm>
            <a:off x="5211720" y="3129120"/>
            <a:ext cx="155520" cy="1222200"/>
          </a:xfrm>
          <a:prstGeom prst="rect">
            <a:avLst/>
          </a:prstGeom>
          <a:ln w="0">
            <a:noFill/>
          </a:ln>
        </p:spPr>
      </p:pic>
      <p:pic>
        <p:nvPicPr>
          <p:cNvPr id="1563" name="" descr=""/>
          <p:cNvPicPr/>
          <p:nvPr/>
        </p:nvPicPr>
        <p:blipFill>
          <a:blip r:embed="rId7"/>
          <a:stretch/>
        </p:blipFill>
        <p:spPr>
          <a:xfrm>
            <a:off x="6765840" y="3127320"/>
            <a:ext cx="157320" cy="1225440"/>
          </a:xfrm>
          <a:prstGeom prst="rect">
            <a:avLst/>
          </a:prstGeom>
          <a:ln w="0">
            <a:noFill/>
          </a:ln>
        </p:spPr>
      </p:pic>
      <p:pic>
        <p:nvPicPr>
          <p:cNvPr id="1564" name="" descr=""/>
          <p:cNvPicPr/>
          <p:nvPr/>
        </p:nvPicPr>
        <p:blipFill>
          <a:blip r:embed="rId8"/>
          <a:stretch/>
        </p:blipFill>
        <p:spPr>
          <a:xfrm>
            <a:off x="2112840" y="3114720"/>
            <a:ext cx="157320" cy="1227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479600" y="1362240"/>
            <a:ext cx="1092240" cy="3230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137040" y="1362240"/>
            <a:ext cx="1093680" cy="3230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795920" y="1362240"/>
            <a:ext cx="1093680" cy="3230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456240" y="1362240"/>
            <a:ext cx="1094040" cy="3230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19200" y="33480"/>
            <a:ext cx="7851240" cy="580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Arial"/>
              </a:rPr>
              <a:t>STRIPING WITH ROTATING PARITY</a:t>
            </a:r>
            <a:endParaRPr b="0" lang="en-US" sz="3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91920" y="5200560"/>
            <a:ext cx="7869600" cy="1067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Logical data and parity stripes </a:t>
            </a:r>
            <a:endParaRPr b="0" lang="en-US" sz="34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are interleaved across physical drives</a:t>
            </a:r>
            <a:endParaRPr b="0" lang="en-US" sz="3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566720" y="896760"/>
            <a:ext cx="93240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rive 1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224160" y="896760"/>
            <a:ext cx="93240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rive 2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881240" y="896760"/>
            <a:ext cx="93240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rive 3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540120" y="896760"/>
            <a:ext cx="93240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rive 4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581" name="" descr=""/>
          <p:cNvPicPr/>
          <p:nvPr/>
        </p:nvPicPr>
        <p:blipFill>
          <a:blip r:embed="rId1"/>
          <a:stretch/>
        </p:blipFill>
        <p:spPr>
          <a:xfrm>
            <a:off x="2314440" y="1731960"/>
            <a:ext cx="4384800" cy="66600"/>
          </a:xfrm>
          <a:prstGeom prst="rect">
            <a:avLst/>
          </a:prstGeom>
          <a:ln w="0">
            <a:noFill/>
          </a:ln>
        </p:spPr>
      </p:pic>
      <p:pic>
        <p:nvPicPr>
          <p:cNvPr id="1582" name="" descr=""/>
          <p:cNvPicPr/>
          <p:nvPr/>
        </p:nvPicPr>
        <p:blipFill>
          <a:blip r:embed="rId2"/>
          <a:stretch/>
        </p:blipFill>
        <p:spPr>
          <a:xfrm>
            <a:off x="2286000" y="2100240"/>
            <a:ext cx="4440240" cy="71640"/>
          </a:xfrm>
          <a:prstGeom prst="rect">
            <a:avLst/>
          </a:prstGeom>
          <a:ln w="0">
            <a:noFill/>
          </a:ln>
        </p:spPr>
      </p:pic>
      <p:pic>
        <p:nvPicPr>
          <p:cNvPr id="1583" name="" descr=""/>
          <p:cNvPicPr/>
          <p:nvPr/>
        </p:nvPicPr>
        <p:blipFill>
          <a:blip r:embed="rId3"/>
          <a:stretch/>
        </p:blipFill>
        <p:spPr>
          <a:xfrm>
            <a:off x="2333520" y="2562120"/>
            <a:ext cx="4384800" cy="66960"/>
          </a:xfrm>
          <a:prstGeom prst="rect">
            <a:avLst/>
          </a:prstGeom>
          <a:ln w="0">
            <a:noFill/>
          </a:ln>
        </p:spPr>
      </p:pic>
      <p:pic>
        <p:nvPicPr>
          <p:cNvPr id="1584" name="" descr=""/>
          <p:cNvPicPr/>
          <p:nvPr/>
        </p:nvPicPr>
        <p:blipFill>
          <a:blip r:embed="rId4"/>
          <a:stretch/>
        </p:blipFill>
        <p:spPr>
          <a:xfrm>
            <a:off x="2324160" y="2968560"/>
            <a:ext cx="4287600" cy="69840"/>
          </a:xfrm>
          <a:prstGeom prst="rect">
            <a:avLst/>
          </a:prstGeom>
          <a:ln w="0">
            <a:noFill/>
          </a:ln>
        </p:spPr>
      </p:pic>
      <p:sp>
        <p:nvSpPr>
          <p:cNvPr id="1585" name=""/>
          <p:cNvSpPr/>
          <p:nvPr/>
        </p:nvSpPr>
        <p:spPr>
          <a:xfrm>
            <a:off x="1939320" y="1427040"/>
            <a:ext cx="190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595320" y="1427040"/>
            <a:ext cx="190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252760" y="1427040"/>
            <a:ext cx="190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904080" y="1425600"/>
            <a:ext cx="209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fafd00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939320" y="1830240"/>
            <a:ext cx="190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595320" y="1830240"/>
            <a:ext cx="190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243400" y="1830240"/>
            <a:ext cx="209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fafd00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914880" y="1830240"/>
            <a:ext cx="190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939320" y="2236680"/>
            <a:ext cx="190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584520" y="2236680"/>
            <a:ext cx="209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fafd00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252760" y="2236680"/>
            <a:ext cx="190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911640" y="2236680"/>
            <a:ext cx="190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927080" y="2641680"/>
            <a:ext cx="209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fafd00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3540960" y="2641680"/>
            <a:ext cx="297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198400" y="2641680"/>
            <a:ext cx="297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857280" y="2641680"/>
            <a:ext cx="297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601" name="" descr=""/>
          <p:cNvPicPr/>
          <p:nvPr/>
        </p:nvPicPr>
        <p:blipFill>
          <a:blip r:embed="rId5"/>
          <a:stretch/>
        </p:blipFill>
        <p:spPr>
          <a:xfrm>
            <a:off x="3664080" y="3138480"/>
            <a:ext cx="155520" cy="1214280"/>
          </a:xfrm>
          <a:prstGeom prst="rect">
            <a:avLst/>
          </a:prstGeom>
          <a:ln w="0">
            <a:noFill/>
          </a:ln>
        </p:spPr>
      </p:pic>
      <p:pic>
        <p:nvPicPr>
          <p:cNvPr id="1602" name="" descr=""/>
          <p:cNvPicPr/>
          <p:nvPr/>
        </p:nvPicPr>
        <p:blipFill>
          <a:blip r:embed="rId6"/>
          <a:stretch/>
        </p:blipFill>
        <p:spPr>
          <a:xfrm>
            <a:off x="5211720" y="3129120"/>
            <a:ext cx="155520" cy="1222200"/>
          </a:xfrm>
          <a:prstGeom prst="rect">
            <a:avLst/>
          </a:prstGeom>
          <a:ln w="0">
            <a:noFill/>
          </a:ln>
        </p:spPr>
      </p:pic>
      <p:pic>
        <p:nvPicPr>
          <p:cNvPr id="1603" name="" descr=""/>
          <p:cNvPicPr/>
          <p:nvPr/>
        </p:nvPicPr>
        <p:blipFill>
          <a:blip r:embed="rId7"/>
          <a:stretch/>
        </p:blipFill>
        <p:spPr>
          <a:xfrm>
            <a:off x="6765840" y="3127320"/>
            <a:ext cx="157320" cy="1225440"/>
          </a:xfrm>
          <a:prstGeom prst="rect">
            <a:avLst/>
          </a:prstGeom>
          <a:ln w="0">
            <a:noFill/>
          </a:ln>
        </p:spPr>
      </p:pic>
      <p:pic>
        <p:nvPicPr>
          <p:cNvPr id="1604" name="" descr=""/>
          <p:cNvPicPr/>
          <p:nvPr/>
        </p:nvPicPr>
        <p:blipFill>
          <a:blip r:embed="rId8"/>
          <a:stretch/>
        </p:blipFill>
        <p:spPr>
          <a:xfrm>
            <a:off x="2112840" y="3114720"/>
            <a:ext cx="157320" cy="1227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102200" y="915840"/>
            <a:ext cx="958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59360" y="1050840"/>
            <a:ext cx="8291520" cy="67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i="1" lang="en-US" sz="4200" spc="-1" strike="noStrike">
                <a:solidFill>
                  <a:srgbClr val="fafd00"/>
                </a:solidFill>
                <a:latin typeface="Arial"/>
              </a:rPr>
              <a:t>DPT SUPPORTED RAID LEVELS</a:t>
            </a:r>
            <a:endParaRPr b="0" lang="en-US" sz="4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760320" y="3352680"/>
            <a:ext cx="1416240" cy="915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2900" spc="-1" strike="noStrike">
                <a:solidFill>
                  <a:srgbClr val="fafd00"/>
                </a:solidFill>
                <a:latin typeface="Arial"/>
              </a:rPr>
              <a:t>RAID 1:</a:t>
            </a:r>
            <a:endParaRPr b="0" lang="en-US" sz="29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61760" y="2529000"/>
            <a:ext cx="1419840" cy="473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2900" spc="-1" strike="noStrike">
                <a:solidFill>
                  <a:srgbClr val="fafd00"/>
                </a:solidFill>
                <a:latin typeface="Arial"/>
              </a:rPr>
              <a:t>RAID 0:</a:t>
            </a:r>
            <a:endParaRPr b="0" lang="en-US" sz="29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58880" y="3884760"/>
            <a:ext cx="1415880" cy="473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516400" y="2498760"/>
            <a:ext cx="5297040" cy="473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2900" spc="-1" strike="noStrike">
                <a:solidFill>
                  <a:srgbClr val="fc0128"/>
                </a:solidFill>
                <a:latin typeface="Arial"/>
              </a:rPr>
              <a:t>Non-Redundant Striped Array</a:t>
            </a:r>
            <a:endParaRPr b="0" lang="en-US" sz="29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2575800" y="3341520"/>
            <a:ext cx="2649600" cy="473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2900" spc="-1" strike="noStrike">
                <a:solidFill>
                  <a:srgbClr val="fc0128"/>
                </a:solidFill>
                <a:latin typeface="Arial"/>
              </a:rPr>
              <a:t>Mirrored Array</a:t>
            </a:r>
            <a:endParaRPr b="0" lang="en-US" sz="29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774360" y="4170240"/>
            <a:ext cx="1419840" cy="473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2900" spc="-1" strike="noStrike">
                <a:solidFill>
                  <a:srgbClr val="fafd00"/>
                </a:solidFill>
                <a:latin typeface="Arial"/>
              </a:rPr>
              <a:t>RAID 5:</a:t>
            </a:r>
            <a:endParaRPr b="0" lang="en-US" sz="29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427840" y="4148280"/>
            <a:ext cx="5991840" cy="473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2900" spc="-1" strike="noStrike">
                <a:solidFill>
                  <a:srgbClr val="fc0128"/>
                </a:solidFill>
                <a:latin typeface="Arial"/>
              </a:rPr>
              <a:t>Striped Array with Rotating Parity</a:t>
            </a:r>
            <a:endParaRPr b="0" lang="en-US" sz="29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704760" y="431640"/>
            <a:ext cx="2250360" cy="824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5200" spc="-1" strike="noStrike">
                <a:solidFill>
                  <a:srgbClr val="fafd00"/>
                </a:solidFill>
                <a:latin typeface="Arial"/>
              </a:rPr>
              <a:t>RAID 0</a:t>
            </a:r>
            <a:endParaRPr b="0" lang="en-US" sz="5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532520" y="1214280"/>
            <a:ext cx="6417000" cy="47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i="1" lang="en-US" sz="2900" spc="-1" strike="noStrike">
                <a:solidFill>
                  <a:srgbClr val="fafd00"/>
                </a:solidFill>
                <a:latin typeface="Arial"/>
              </a:rPr>
              <a:t>NON-REDUNDANT STRIPED ARRAY</a:t>
            </a:r>
            <a:endParaRPr b="0" lang="en-US" sz="29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409760" y="2676600"/>
            <a:ext cx="882720" cy="86364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492560" y="2997360"/>
            <a:ext cx="5785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629" name="" descr=""/>
          <p:cNvPicPr/>
          <p:nvPr/>
        </p:nvPicPr>
        <p:blipFill>
          <a:blip r:embed="rId1"/>
          <a:stretch/>
        </p:blipFill>
        <p:spPr>
          <a:xfrm>
            <a:off x="1758960" y="1954080"/>
            <a:ext cx="347760" cy="685800"/>
          </a:xfrm>
          <a:prstGeom prst="rect">
            <a:avLst/>
          </a:prstGeom>
          <a:ln w="0">
            <a:noFill/>
          </a:ln>
        </p:spPr>
      </p:pic>
      <p:pic>
        <p:nvPicPr>
          <p:cNvPr id="1630" name="" descr=""/>
          <p:cNvPicPr/>
          <p:nvPr/>
        </p:nvPicPr>
        <p:blipFill>
          <a:blip r:embed="rId2"/>
          <a:stretch/>
        </p:blipFill>
        <p:spPr>
          <a:xfrm>
            <a:off x="1766880" y="3616200"/>
            <a:ext cx="347760" cy="687600"/>
          </a:xfrm>
          <a:prstGeom prst="rect">
            <a:avLst/>
          </a:prstGeom>
          <a:ln w="0">
            <a:noFill/>
          </a:ln>
        </p:spPr>
      </p:pic>
      <p:sp>
        <p:nvSpPr>
          <p:cNvPr id="1631" name=""/>
          <p:cNvSpPr/>
          <p:nvPr/>
        </p:nvSpPr>
        <p:spPr>
          <a:xfrm>
            <a:off x="2525760" y="2687760"/>
            <a:ext cx="882720" cy="86184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607120" y="2998800"/>
            <a:ext cx="5785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633" name="" descr=""/>
          <p:cNvPicPr/>
          <p:nvPr/>
        </p:nvPicPr>
        <p:blipFill>
          <a:blip r:embed="rId3"/>
          <a:stretch/>
        </p:blipFill>
        <p:spPr>
          <a:xfrm>
            <a:off x="2809800" y="1968480"/>
            <a:ext cx="347760" cy="685800"/>
          </a:xfrm>
          <a:prstGeom prst="rect">
            <a:avLst/>
          </a:prstGeom>
          <a:ln w="0">
            <a:noFill/>
          </a:ln>
        </p:spPr>
      </p:pic>
      <p:pic>
        <p:nvPicPr>
          <p:cNvPr id="1634" name="" descr=""/>
          <p:cNvPicPr/>
          <p:nvPr/>
        </p:nvPicPr>
        <p:blipFill>
          <a:blip r:embed="rId4"/>
          <a:stretch/>
        </p:blipFill>
        <p:spPr>
          <a:xfrm>
            <a:off x="2816280" y="3629160"/>
            <a:ext cx="347760" cy="685800"/>
          </a:xfrm>
          <a:prstGeom prst="rect">
            <a:avLst/>
          </a:prstGeom>
          <a:ln w="0">
            <a:noFill/>
          </a:ln>
        </p:spPr>
      </p:pic>
      <p:sp>
        <p:nvSpPr>
          <p:cNvPr id="1635" name=""/>
          <p:cNvSpPr/>
          <p:nvPr/>
        </p:nvSpPr>
        <p:spPr>
          <a:xfrm>
            <a:off x="3564000" y="2698920"/>
            <a:ext cx="882720" cy="86184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723120" y="3006720"/>
            <a:ext cx="5785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637" name="" descr=""/>
          <p:cNvPicPr/>
          <p:nvPr/>
        </p:nvPicPr>
        <p:blipFill>
          <a:blip r:embed="rId5"/>
          <a:stretch/>
        </p:blipFill>
        <p:spPr>
          <a:xfrm>
            <a:off x="3859200" y="1973160"/>
            <a:ext cx="347760" cy="685800"/>
          </a:xfrm>
          <a:prstGeom prst="rect">
            <a:avLst/>
          </a:prstGeom>
          <a:ln w="0">
            <a:noFill/>
          </a:ln>
        </p:spPr>
      </p:pic>
      <p:pic>
        <p:nvPicPr>
          <p:cNvPr id="1638" name="" descr=""/>
          <p:cNvPicPr/>
          <p:nvPr/>
        </p:nvPicPr>
        <p:blipFill>
          <a:blip r:embed="rId6"/>
          <a:stretch/>
        </p:blipFill>
        <p:spPr>
          <a:xfrm>
            <a:off x="3865680" y="3635280"/>
            <a:ext cx="347400" cy="685800"/>
          </a:xfrm>
          <a:prstGeom prst="rect">
            <a:avLst/>
          </a:prstGeom>
          <a:ln w="0">
            <a:noFill/>
          </a:ln>
        </p:spPr>
      </p:pic>
      <p:sp>
        <p:nvSpPr>
          <p:cNvPr id="1639" name=""/>
          <p:cNvSpPr/>
          <p:nvPr/>
        </p:nvSpPr>
        <p:spPr>
          <a:xfrm>
            <a:off x="4681440" y="2709720"/>
            <a:ext cx="881280" cy="86220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37320" y="3017880"/>
            <a:ext cx="5785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641" name="" descr=""/>
          <p:cNvPicPr/>
          <p:nvPr/>
        </p:nvPicPr>
        <p:blipFill>
          <a:blip r:embed="rId7"/>
          <a:stretch/>
        </p:blipFill>
        <p:spPr>
          <a:xfrm>
            <a:off x="4906800" y="1989000"/>
            <a:ext cx="347760" cy="685800"/>
          </a:xfrm>
          <a:prstGeom prst="rect">
            <a:avLst/>
          </a:prstGeom>
          <a:ln w="0">
            <a:noFill/>
          </a:ln>
        </p:spPr>
      </p:pic>
      <p:pic>
        <p:nvPicPr>
          <p:cNvPr id="1642" name="" descr=""/>
          <p:cNvPicPr/>
          <p:nvPr/>
        </p:nvPicPr>
        <p:blipFill>
          <a:blip r:embed="rId8"/>
          <a:stretch/>
        </p:blipFill>
        <p:spPr>
          <a:xfrm>
            <a:off x="4911840" y="3648240"/>
            <a:ext cx="345960" cy="684000"/>
          </a:xfrm>
          <a:prstGeom prst="rect">
            <a:avLst/>
          </a:prstGeom>
          <a:ln w="0">
            <a:noFill/>
          </a:ln>
        </p:spPr>
      </p:pic>
      <p:sp>
        <p:nvSpPr>
          <p:cNvPr id="1643" name=""/>
          <p:cNvSpPr/>
          <p:nvPr/>
        </p:nvSpPr>
        <p:spPr>
          <a:xfrm>
            <a:off x="5797440" y="2722680"/>
            <a:ext cx="881280" cy="86040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953320" y="3029040"/>
            <a:ext cx="5785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645" name="" descr=""/>
          <p:cNvPicPr/>
          <p:nvPr/>
        </p:nvPicPr>
        <p:blipFill>
          <a:blip r:embed="rId9"/>
          <a:stretch/>
        </p:blipFill>
        <p:spPr>
          <a:xfrm>
            <a:off x="6031080" y="1994040"/>
            <a:ext cx="347400" cy="687240"/>
          </a:xfrm>
          <a:prstGeom prst="rect">
            <a:avLst/>
          </a:prstGeom>
          <a:ln w="0">
            <a:noFill/>
          </a:ln>
        </p:spPr>
      </p:pic>
      <p:pic>
        <p:nvPicPr>
          <p:cNvPr id="1646" name="" descr=""/>
          <p:cNvPicPr/>
          <p:nvPr/>
        </p:nvPicPr>
        <p:blipFill>
          <a:blip r:embed="rId10"/>
          <a:stretch/>
        </p:blipFill>
        <p:spPr>
          <a:xfrm>
            <a:off x="6039000" y="3656160"/>
            <a:ext cx="347400" cy="685800"/>
          </a:xfrm>
          <a:prstGeom prst="rect">
            <a:avLst/>
          </a:prstGeom>
          <a:ln w="0">
            <a:noFill/>
          </a:ln>
        </p:spPr>
      </p:pic>
      <p:sp>
        <p:nvSpPr>
          <p:cNvPr id="1647" name=""/>
          <p:cNvSpPr/>
          <p:nvPr/>
        </p:nvSpPr>
        <p:spPr>
          <a:xfrm>
            <a:off x="6913440" y="2654280"/>
            <a:ext cx="882720" cy="86364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069320" y="3038400"/>
            <a:ext cx="5785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1649" name="" descr=""/>
          <p:cNvPicPr/>
          <p:nvPr/>
        </p:nvPicPr>
        <p:blipFill>
          <a:blip r:embed="rId11"/>
          <a:stretch/>
        </p:blipFill>
        <p:spPr>
          <a:xfrm>
            <a:off x="7156440" y="1928880"/>
            <a:ext cx="347760" cy="685800"/>
          </a:xfrm>
          <a:prstGeom prst="rect">
            <a:avLst/>
          </a:prstGeom>
          <a:ln w="0">
            <a:noFill/>
          </a:ln>
        </p:spPr>
      </p:pic>
      <p:pic>
        <p:nvPicPr>
          <p:cNvPr id="1650" name="" descr=""/>
          <p:cNvPicPr/>
          <p:nvPr/>
        </p:nvPicPr>
        <p:blipFill>
          <a:blip r:embed="rId12"/>
          <a:stretch/>
        </p:blipFill>
        <p:spPr>
          <a:xfrm>
            <a:off x="7164360" y="3591000"/>
            <a:ext cx="347760" cy="685800"/>
          </a:xfrm>
          <a:prstGeom prst="rect">
            <a:avLst/>
          </a:prstGeom>
          <a:ln w="0">
            <a:noFill/>
          </a:ln>
        </p:spPr>
      </p:pic>
      <p:sp>
        <p:nvSpPr>
          <p:cNvPr id="1651" name=""/>
          <p:cNvSpPr/>
          <p:nvPr/>
        </p:nvSpPr>
        <p:spPr>
          <a:xfrm>
            <a:off x="1080" y="4734000"/>
            <a:ext cx="9141840" cy="1494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Highest Bandwidth &amp; Best Data Storage Efficiency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Simultaneous Reads &amp; Writes Can Occur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on Each Hard Drive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375680" y="6432480"/>
            <a:ext cx="1722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22 &amp; 57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03520" y="2679840"/>
            <a:ext cx="203040" cy="927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Arial"/>
              </a:rPr>
              <a:t>General SCSI Guidelines</a:t>
            </a:r>
            <a:endParaRPr b="1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5880" y="5638680"/>
            <a:ext cx="7581960" cy="914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HEN ATTACHING BOTH INTERNAL AND EXTERNAL DEVICES, CONTROLLER IS IN THE “ MIDDLE” OF THE BUS AND SHOULD NOT BE TERMINATED 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8440" y="4051440"/>
            <a:ext cx="3022560" cy="203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80240" y="3594240"/>
            <a:ext cx="888840" cy="88884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137160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1523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84760" y="1708200"/>
            <a:ext cx="1636920" cy="393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mination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94440" y="2146320"/>
            <a:ext cx="1193760" cy="17272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568880" y="3581280"/>
            <a:ext cx="1402920" cy="771480"/>
            <a:chOff x="1568880" y="3581280"/>
            <a:chExt cx="1402920" cy="77148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1665360" y="3581280"/>
              <a:ext cx="1306440" cy="771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162" name=""/>
            <p:cNvSpPr/>
            <p:nvPr/>
          </p:nvSpPr>
          <p:spPr>
            <a:xfrm>
              <a:off x="1568880" y="3741840"/>
              <a:ext cx="138996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troller</a:t>
              </a:r>
              <a:endParaRPr b="0" lang="en-US" sz="18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298600" y="1841400"/>
            <a:ext cx="889200" cy="88920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882520" y="2146320"/>
            <a:ext cx="2311560" cy="2793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55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530520" y="141120"/>
            <a:ext cx="2084400" cy="763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RAID 0</a:t>
            </a:r>
            <a:endParaRPr b="0" lang="en-US" sz="4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5568840" y="5111640"/>
            <a:ext cx="1359000" cy="128268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2959200" y="3746520"/>
            <a:ext cx="1549440" cy="736560"/>
          </a:xfrm>
          <a:prstGeom prst="line">
            <a:avLst/>
          </a:prstGeom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 flipV="1">
            <a:off x="4508280" y="3746520"/>
            <a:ext cx="1803240" cy="736560"/>
          </a:xfrm>
          <a:prstGeom prst="line">
            <a:avLst/>
          </a:prstGeom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4572000" y="3365280"/>
            <a:ext cx="0" cy="507960"/>
          </a:xfrm>
          <a:prstGeom prst="line">
            <a:avLst/>
          </a:prstGeom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776680" y="4386240"/>
            <a:ext cx="339480" cy="676440"/>
          </a:xfrm>
          <a:custGeom>
            <a:avLst/>
            <a:gdLst/>
            <a:ahLst/>
            <a:rect l="l" t="t" r="r" b="b"/>
            <a:pathLst>
              <a:path w="214" h="426">
                <a:moveTo>
                  <a:pt x="107" y="425"/>
                </a:moveTo>
                <a:lnTo>
                  <a:pt x="213" y="217"/>
                </a:lnTo>
                <a:lnTo>
                  <a:pt x="142" y="217"/>
                </a:lnTo>
                <a:lnTo>
                  <a:pt x="142" y="0"/>
                </a:lnTo>
                <a:lnTo>
                  <a:pt x="71" y="0"/>
                </a:lnTo>
                <a:lnTo>
                  <a:pt x="71" y="217"/>
                </a:lnTo>
                <a:lnTo>
                  <a:pt x="0" y="217"/>
                </a:lnTo>
                <a:lnTo>
                  <a:pt x="107" y="425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053040" y="4383000"/>
            <a:ext cx="343080" cy="677880"/>
          </a:xfrm>
          <a:custGeom>
            <a:avLst/>
            <a:gdLst/>
            <a:ahLst/>
            <a:rect l="l" t="t" r="r" b="b"/>
            <a:pathLst>
              <a:path w="216" h="427">
                <a:moveTo>
                  <a:pt x="108" y="426"/>
                </a:moveTo>
                <a:lnTo>
                  <a:pt x="215" y="217"/>
                </a:lnTo>
                <a:lnTo>
                  <a:pt x="143" y="217"/>
                </a:lnTo>
                <a:lnTo>
                  <a:pt x="143" y="0"/>
                </a:lnTo>
                <a:lnTo>
                  <a:pt x="72" y="0"/>
                </a:lnTo>
                <a:lnTo>
                  <a:pt x="72" y="217"/>
                </a:lnTo>
                <a:lnTo>
                  <a:pt x="0" y="217"/>
                </a:lnTo>
                <a:lnTo>
                  <a:pt x="108" y="426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292480" y="5111640"/>
            <a:ext cx="1358640" cy="128268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892680" y="2139840"/>
            <a:ext cx="1358640" cy="1282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057400" y="647712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hysical Disk 1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486400" y="647856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hysical Disk 2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209680" y="122076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gical Disk 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(What Operating System  can “see”)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2600" y="3581280"/>
            <a:ext cx="91170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019920" y="229068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ftware Level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ingle Write I/O to HW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52280" y="3738600"/>
            <a:ext cx="25909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00dfca"/>
                </a:solidFill>
                <a:latin typeface="Arial"/>
              </a:rPr>
              <a:t>Hardware Level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00dfca"/>
                </a:solidFill>
                <a:latin typeface="Arial"/>
              </a:rPr>
              <a:t>Controller “splits” Data to Physical Disks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071600" y="2595600"/>
            <a:ext cx="9885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110011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970240" y="5643720"/>
            <a:ext cx="5374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693520" y="5643720"/>
            <a:ext cx="5374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57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934200" y="5246640"/>
            <a:ext cx="7331400" cy="1494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Highest Bandwidth With Fault Tolerance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Read Error Recovery &amp; Repair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Read Closest Cylinder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773520" y="371520"/>
            <a:ext cx="2084400" cy="763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RAID 1</a:t>
            </a:r>
            <a:endParaRPr b="0" lang="en-US" sz="4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102840" y="1185840"/>
            <a:ext cx="3466800" cy="47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i="1" lang="en-US" sz="2900" spc="-1" strike="noStrike">
                <a:solidFill>
                  <a:srgbClr val="fafd00"/>
                </a:solidFill>
                <a:latin typeface="Arial"/>
              </a:rPr>
              <a:t>MIRRORED ARRAY</a:t>
            </a:r>
            <a:endParaRPr b="0" lang="en-US" sz="29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517760" y="3425760"/>
            <a:ext cx="846000" cy="81288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659240" y="3714840"/>
            <a:ext cx="5785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590920" y="3435480"/>
            <a:ext cx="847440" cy="8143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2730960" y="3726000"/>
            <a:ext cx="5785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1927080" y="2090520"/>
            <a:ext cx="511200" cy="73332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H="1" flipV="1">
            <a:off x="2390760" y="2071800"/>
            <a:ext cx="735120" cy="7444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2487600" y="1785960"/>
            <a:ext cx="0" cy="46512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675240" y="3436920"/>
            <a:ext cx="849240" cy="81288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816720" y="3727440"/>
            <a:ext cx="5785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749840" y="3446640"/>
            <a:ext cx="846000" cy="8143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886640" y="3738600"/>
            <a:ext cx="5785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V="1">
            <a:off x="4092480" y="2101680"/>
            <a:ext cx="506520" cy="725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 flipH="1" flipV="1">
            <a:off x="4548240" y="2080800"/>
            <a:ext cx="735120" cy="7318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 flipV="1">
            <a:off x="4646520" y="1801800"/>
            <a:ext cx="0" cy="4572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834160" y="3470400"/>
            <a:ext cx="849240" cy="81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975640" y="3760920"/>
            <a:ext cx="5785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908760" y="3479760"/>
            <a:ext cx="846000" cy="8143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7044120" y="3770280"/>
            <a:ext cx="5785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V="1">
            <a:off x="6245280" y="2124000"/>
            <a:ext cx="525240" cy="7365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H="1" flipV="1">
            <a:off x="6722640" y="2128680"/>
            <a:ext cx="717480" cy="71784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flipV="1">
            <a:off x="6804000" y="1833120"/>
            <a:ext cx="0" cy="4590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1755720" y="2697120"/>
            <a:ext cx="343080" cy="674640"/>
          </a:xfrm>
          <a:custGeom>
            <a:avLst/>
            <a:gdLst/>
            <a:ahLst/>
            <a:rect l="l" t="t" r="r" b="b"/>
            <a:pathLst>
              <a:path w="216" h="425">
                <a:moveTo>
                  <a:pt x="108" y="424"/>
                </a:moveTo>
                <a:lnTo>
                  <a:pt x="215" y="216"/>
                </a:lnTo>
                <a:lnTo>
                  <a:pt x="143" y="216"/>
                </a:lnTo>
                <a:lnTo>
                  <a:pt x="143" y="0"/>
                </a:lnTo>
                <a:lnTo>
                  <a:pt x="72" y="0"/>
                </a:lnTo>
                <a:lnTo>
                  <a:pt x="72" y="216"/>
                </a:lnTo>
                <a:lnTo>
                  <a:pt x="0" y="216"/>
                </a:lnTo>
                <a:lnTo>
                  <a:pt x="108" y="424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830680" y="2697120"/>
            <a:ext cx="339480" cy="674640"/>
          </a:xfrm>
          <a:custGeom>
            <a:avLst/>
            <a:gdLst/>
            <a:ahLst/>
            <a:rect l="l" t="t" r="r" b="b"/>
            <a:pathLst>
              <a:path w="214" h="425">
                <a:moveTo>
                  <a:pt x="107" y="424"/>
                </a:moveTo>
                <a:lnTo>
                  <a:pt x="213" y="216"/>
                </a:lnTo>
                <a:lnTo>
                  <a:pt x="142" y="216"/>
                </a:lnTo>
                <a:lnTo>
                  <a:pt x="142" y="0"/>
                </a:lnTo>
                <a:lnTo>
                  <a:pt x="71" y="0"/>
                </a:lnTo>
                <a:lnTo>
                  <a:pt x="71" y="216"/>
                </a:lnTo>
                <a:lnTo>
                  <a:pt x="0" y="216"/>
                </a:lnTo>
                <a:lnTo>
                  <a:pt x="107" y="424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919680" y="2709720"/>
            <a:ext cx="339480" cy="676440"/>
          </a:xfrm>
          <a:custGeom>
            <a:avLst/>
            <a:gdLst/>
            <a:ahLst/>
            <a:rect l="l" t="t" r="r" b="b"/>
            <a:pathLst>
              <a:path w="214" h="426">
                <a:moveTo>
                  <a:pt x="107" y="425"/>
                </a:moveTo>
                <a:lnTo>
                  <a:pt x="213" y="217"/>
                </a:lnTo>
                <a:lnTo>
                  <a:pt x="142" y="217"/>
                </a:lnTo>
                <a:lnTo>
                  <a:pt x="142" y="0"/>
                </a:lnTo>
                <a:lnTo>
                  <a:pt x="71" y="0"/>
                </a:lnTo>
                <a:lnTo>
                  <a:pt x="71" y="217"/>
                </a:lnTo>
                <a:lnTo>
                  <a:pt x="0" y="217"/>
                </a:lnTo>
                <a:lnTo>
                  <a:pt x="107" y="425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986360" y="2706840"/>
            <a:ext cx="342720" cy="677880"/>
          </a:xfrm>
          <a:custGeom>
            <a:avLst/>
            <a:gdLst/>
            <a:ahLst/>
            <a:rect l="l" t="t" r="r" b="b"/>
            <a:pathLst>
              <a:path w="216" h="427">
                <a:moveTo>
                  <a:pt x="108" y="426"/>
                </a:moveTo>
                <a:lnTo>
                  <a:pt x="215" y="217"/>
                </a:lnTo>
                <a:lnTo>
                  <a:pt x="143" y="217"/>
                </a:lnTo>
                <a:lnTo>
                  <a:pt x="143" y="0"/>
                </a:lnTo>
                <a:lnTo>
                  <a:pt x="72" y="0"/>
                </a:lnTo>
                <a:lnTo>
                  <a:pt x="72" y="217"/>
                </a:lnTo>
                <a:lnTo>
                  <a:pt x="0" y="217"/>
                </a:lnTo>
                <a:lnTo>
                  <a:pt x="108" y="426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072120" y="2738520"/>
            <a:ext cx="341280" cy="677880"/>
          </a:xfrm>
          <a:custGeom>
            <a:avLst/>
            <a:gdLst/>
            <a:ahLst/>
            <a:rect l="l" t="t" r="r" b="b"/>
            <a:pathLst>
              <a:path w="215" h="427">
                <a:moveTo>
                  <a:pt x="107" y="426"/>
                </a:moveTo>
                <a:lnTo>
                  <a:pt x="214" y="217"/>
                </a:lnTo>
                <a:lnTo>
                  <a:pt x="142" y="217"/>
                </a:lnTo>
                <a:lnTo>
                  <a:pt x="142" y="0"/>
                </a:lnTo>
                <a:lnTo>
                  <a:pt x="72" y="0"/>
                </a:lnTo>
                <a:lnTo>
                  <a:pt x="72" y="217"/>
                </a:lnTo>
                <a:lnTo>
                  <a:pt x="0" y="217"/>
                </a:lnTo>
                <a:lnTo>
                  <a:pt x="107" y="426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7148520" y="2733840"/>
            <a:ext cx="339840" cy="674640"/>
          </a:xfrm>
          <a:custGeom>
            <a:avLst/>
            <a:gdLst/>
            <a:ahLst/>
            <a:rect l="l" t="t" r="r" b="b"/>
            <a:pathLst>
              <a:path w="214" h="425">
                <a:moveTo>
                  <a:pt x="107" y="424"/>
                </a:moveTo>
                <a:lnTo>
                  <a:pt x="213" y="216"/>
                </a:lnTo>
                <a:lnTo>
                  <a:pt x="142" y="216"/>
                </a:lnTo>
                <a:lnTo>
                  <a:pt x="142" y="0"/>
                </a:lnTo>
                <a:lnTo>
                  <a:pt x="71" y="0"/>
                </a:lnTo>
                <a:lnTo>
                  <a:pt x="71" y="216"/>
                </a:lnTo>
                <a:lnTo>
                  <a:pt x="0" y="216"/>
                </a:lnTo>
                <a:lnTo>
                  <a:pt x="107" y="424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1765440" y="4357800"/>
            <a:ext cx="342720" cy="676080"/>
          </a:xfrm>
          <a:custGeom>
            <a:avLst/>
            <a:gdLst/>
            <a:ahLst/>
            <a:rect l="l" t="t" r="r" b="b"/>
            <a:pathLst>
              <a:path w="216" h="426">
                <a:moveTo>
                  <a:pt x="107" y="425"/>
                </a:moveTo>
                <a:lnTo>
                  <a:pt x="215" y="217"/>
                </a:lnTo>
                <a:lnTo>
                  <a:pt x="143" y="217"/>
                </a:lnTo>
                <a:lnTo>
                  <a:pt x="143" y="0"/>
                </a:lnTo>
                <a:lnTo>
                  <a:pt x="72" y="0"/>
                </a:lnTo>
                <a:lnTo>
                  <a:pt x="72" y="217"/>
                </a:lnTo>
                <a:lnTo>
                  <a:pt x="0" y="217"/>
                </a:lnTo>
                <a:lnTo>
                  <a:pt x="107" y="425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840040" y="4367160"/>
            <a:ext cx="341280" cy="676440"/>
          </a:xfrm>
          <a:custGeom>
            <a:avLst/>
            <a:gdLst/>
            <a:ahLst/>
            <a:rect l="l" t="t" r="r" b="b"/>
            <a:pathLst>
              <a:path w="215" h="426">
                <a:moveTo>
                  <a:pt x="107" y="425"/>
                </a:moveTo>
                <a:lnTo>
                  <a:pt x="214" y="217"/>
                </a:lnTo>
                <a:lnTo>
                  <a:pt x="142" y="217"/>
                </a:lnTo>
                <a:lnTo>
                  <a:pt x="142" y="0"/>
                </a:lnTo>
                <a:lnTo>
                  <a:pt x="71" y="0"/>
                </a:lnTo>
                <a:lnTo>
                  <a:pt x="71" y="217"/>
                </a:lnTo>
                <a:lnTo>
                  <a:pt x="0" y="217"/>
                </a:lnTo>
                <a:lnTo>
                  <a:pt x="107" y="425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924360" y="4368960"/>
            <a:ext cx="342720" cy="676080"/>
          </a:xfrm>
          <a:custGeom>
            <a:avLst/>
            <a:gdLst/>
            <a:ahLst/>
            <a:rect l="l" t="t" r="r" b="b"/>
            <a:pathLst>
              <a:path w="216" h="426">
                <a:moveTo>
                  <a:pt x="107" y="425"/>
                </a:moveTo>
                <a:lnTo>
                  <a:pt x="215" y="217"/>
                </a:lnTo>
                <a:lnTo>
                  <a:pt x="143" y="217"/>
                </a:lnTo>
                <a:lnTo>
                  <a:pt x="143" y="0"/>
                </a:lnTo>
                <a:lnTo>
                  <a:pt x="72" y="0"/>
                </a:lnTo>
                <a:lnTo>
                  <a:pt x="72" y="217"/>
                </a:lnTo>
                <a:lnTo>
                  <a:pt x="0" y="217"/>
                </a:lnTo>
                <a:lnTo>
                  <a:pt x="107" y="425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997520" y="4378320"/>
            <a:ext cx="342720" cy="676440"/>
          </a:xfrm>
          <a:custGeom>
            <a:avLst/>
            <a:gdLst/>
            <a:ahLst/>
            <a:rect l="l" t="t" r="r" b="b"/>
            <a:pathLst>
              <a:path w="216" h="426">
                <a:moveTo>
                  <a:pt x="108" y="425"/>
                </a:moveTo>
                <a:lnTo>
                  <a:pt x="215" y="217"/>
                </a:lnTo>
                <a:lnTo>
                  <a:pt x="143" y="217"/>
                </a:lnTo>
                <a:lnTo>
                  <a:pt x="143" y="0"/>
                </a:lnTo>
                <a:lnTo>
                  <a:pt x="71" y="0"/>
                </a:lnTo>
                <a:lnTo>
                  <a:pt x="71" y="217"/>
                </a:lnTo>
                <a:lnTo>
                  <a:pt x="0" y="217"/>
                </a:lnTo>
                <a:lnTo>
                  <a:pt x="108" y="425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083280" y="4402080"/>
            <a:ext cx="343080" cy="676440"/>
          </a:xfrm>
          <a:custGeom>
            <a:avLst/>
            <a:gdLst/>
            <a:ahLst/>
            <a:rect l="l" t="t" r="r" b="b"/>
            <a:pathLst>
              <a:path w="216" h="426">
                <a:moveTo>
                  <a:pt x="107" y="425"/>
                </a:moveTo>
                <a:lnTo>
                  <a:pt x="215" y="217"/>
                </a:lnTo>
                <a:lnTo>
                  <a:pt x="143" y="217"/>
                </a:lnTo>
                <a:lnTo>
                  <a:pt x="143" y="0"/>
                </a:lnTo>
                <a:lnTo>
                  <a:pt x="72" y="0"/>
                </a:lnTo>
                <a:lnTo>
                  <a:pt x="72" y="217"/>
                </a:lnTo>
                <a:lnTo>
                  <a:pt x="0" y="217"/>
                </a:lnTo>
                <a:lnTo>
                  <a:pt x="107" y="425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7157880" y="4413240"/>
            <a:ext cx="339840" cy="674640"/>
          </a:xfrm>
          <a:custGeom>
            <a:avLst/>
            <a:gdLst/>
            <a:ahLst/>
            <a:rect l="l" t="t" r="r" b="b"/>
            <a:pathLst>
              <a:path w="214" h="425">
                <a:moveTo>
                  <a:pt x="107" y="424"/>
                </a:moveTo>
                <a:lnTo>
                  <a:pt x="213" y="216"/>
                </a:lnTo>
                <a:lnTo>
                  <a:pt x="142" y="216"/>
                </a:lnTo>
                <a:lnTo>
                  <a:pt x="142" y="0"/>
                </a:lnTo>
                <a:lnTo>
                  <a:pt x="70" y="0"/>
                </a:lnTo>
                <a:lnTo>
                  <a:pt x="70" y="216"/>
                </a:lnTo>
                <a:lnTo>
                  <a:pt x="0" y="216"/>
                </a:lnTo>
                <a:lnTo>
                  <a:pt x="107" y="424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7375680" y="6432480"/>
            <a:ext cx="1722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23 &amp; 57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530520" y="141120"/>
            <a:ext cx="2084400" cy="763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RAID 1</a:t>
            </a:r>
            <a:endParaRPr b="0" lang="en-US" sz="4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5568840" y="5111640"/>
            <a:ext cx="1359000" cy="128268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2959200" y="3746520"/>
            <a:ext cx="1549440" cy="736560"/>
          </a:xfrm>
          <a:prstGeom prst="line">
            <a:avLst/>
          </a:prstGeom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H="1" flipV="1">
            <a:off x="4508280" y="3746520"/>
            <a:ext cx="1803240" cy="736560"/>
          </a:xfrm>
          <a:prstGeom prst="line">
            <a:avLst/>
          </a:prstGeom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4572000" y="3365280"/>
            <a:ext cx="0" cy="507960"/>
          </a:xfrm>
          <a:prstGeom prst="line">
            <a:avLst/>
          </a:prstGeom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776680" y="4386240"/>
            <a:ext cx="339480" cy="676440"/>
          </a:xfrm>
          <a:custGeom>
            <a:avLst/>
            <a:gdLst/>
            <a:ahLst/>
            <a:rect l="l" t="t" r="r" b="b"/>
            <a:pathLst>
              <a:path w="214" h="426">
                <a:moveTo>
                  <a:pt x="107" y="425"/>
                </a:moveTo>
                <a:lnTo>
                  <a:pt x="213" y="217"/>
                </a:lnTo>
                <a:lnTo>
                  <a:pt x="142" y="217"/>
                </a:lnTo>
                <a:lnTo>
                  <a:pt x="142" y="0"/>
                </a:lnTo>
                <a:lnTo>
                  <a:pt x="71" y="0"/>
                </a:lnTo>
                <a:lnTo>
                  <a:pt x="71" y="217"/>
                </a:lnTo>
                <a:lnTo>
                  <a:pt x="0" y="217"/>
                </a:lnTo>
                <a:lnTo>
                  <a:pt x="107" y="425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053040" y="4383000"/>
            <a:ext cx="343080" cy="677880"/>
          </a:xfrm>
          <a:custGeom>
            <a:avLst/>
            <a:gdLst/>
            <a:ahLst/>
            <a:rect l="l" t="t" r="r" b="b"/>
            <a:pathLst>
              <a:path w="216" h="427">
                <a:moveTo>
                  <a:pt x="108" y="426"/>
                </a:moveTo>
                <a:lnTo>
                  <a:pt x="215" y="217"/>
                </a:lnTo>
                <a:lnTo>
                  <a:pt x="143" y="217"/>
                </a:lnTo>
                <a:lnTo>
                  <a:pt x="143" y="0"/>
                </a:lnTo>
                <a:lnTo>
                  <a:pt x="72" y="0"/>
                </a:lnTo>
                <a:lnTo>
                  <a:pt x="72" y="217"/>
                </a:lnTo>
                <a:lnTo>
                  <a:pt x="0" y="217"/>
                </a:lnTo>
                <a:lnTo>
                  <a:pt x="108" y="426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2292480" y="5111640"/>
            <a:ext cx="1358640" cy="128268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892680" y="2139840"/>
            <a:ext cx="1358640" cy="1282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057400" y="647712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hysical Disk 1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486400" y="647856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hysical Disk 2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2209680" y="122076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gical Disk 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(What Operating System  can “see”)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2600" y="3581280"/>
            <a:ext cx="91170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6019920" y="229068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ftware Level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ingle Write I/O to HW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52280" y="3738600"/>
            <a:ext cx="25909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00dfca"/>
                </a:solidFill>
                <a:latin typeface="Arial"/>
              </a:rPr>
              <a:t>Hardware Level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00dfca"/>
                </a:solidFill>
                <a:latin typeface="Arial"/>
              </a:rPr>
              <a:t>Controller duplicates Data to Physical Disks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016520" y="2595600"/>
            <a:ext cx="1098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10011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692680" y="5643720"/>
            <a:ext cx="1098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10011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2416320" y="5643720"/>
            <a:ext cx="1098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10011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806184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58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grpSp>
        <p:nvGrpSpPr>
          <p:cNvPr id="1752" name=""/>
          <p:cNvGrpSpPr/>
          <p:nvPr/>
        </p:nvGrpSpPr>
        <p:grpSpPr>
          <a:xfrm>
            <a:off x="1442880" y="1521000"/>
            <a:ext cx="6280200" cy="3584520"/>
            <a:chOff x="1442880" y="1521000"/>
            <a:chExt cx="6280200" cy="3584520"/>
          </a:xfrm>
        </p:grpSpPr>
        <p:pic>
          <p:nvPicPr>
            <p:cNvPr id="1753" name="" descr=""/>
            <p:cNvPicPr/>
            <p:nvPr/>
          </p:nvPicPr>
          <p:blipFill>
            <a:blip r:embed="rId1"/>
            <a:stretch/>
          </p:blipFill>
          <p:spPr>
            <a:xfrm>
              <a:off x="4091040" y="2317680"/>
              <a:ext cx="973080" cy="1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4" name="" descr=""/>
            <p:cNvPicPr/>
            <p:nvPr/>
          </p:nvPicPr>
          <p:blipFill>
            <a:blip r:embed="rId2"/>
            <a:stretch/>
          </p:blipFill>
          <p:spPr>
            <a:xfrm>
              <a:off x="3019320" y="2027160"/>
              <a:ext cx="3060720" cy="1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5" name="" descr=""/>
            <p:cNvPicPr/>
            <p:nvPr/>
          </p:nvPicPr>
          <p:blipFill>
            <a:blip r:embed="rId3"/>
            <a:stretch/>
          </p:blipFill>
          <p:spPr>
            <a:xfrm>
              <a:off x="2009880" y="1751040"/>
              <a:ext cx="5222880" cy="1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6" name=""/>
            <p:cNvSpPr/>
            <p:nvPr/>
          </p:nvSpPr>
          <p:spPr>
            <a:xfrm>
              <a:off x="2527200" y="3381480"/>
              <a:ext cx="858960" cy="8254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pic>
          <p:nvPicPr>
            <p:cNvPr id="1757" name="" descr=""/>
            <p:cNvPicPr/>
            <p:nvPr/>
          </p:nvPicPr>
          <p:blipFill>
            <a:blip r:embed="rId4"/>
            <a:stretch/>
          </p:blipFill>
          <p:spPr>
            <a:xfrm>
              <a:off x="2778120" y="4299120"/>
              <a:ext cx="35244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8" name=""/>
            <p:cNvSpPr/>
            <p:nvPr/>
          </p:nvSpPr>
          <p:spPr>
            <a:xfrm>
              <a:off x="3613320" y="3390840"/>
              <a:ext cx="857160" cy="8254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5"/>
            <a:stretch/>
          </p:blipFill>
          <p:spPr>
            <a:xfrm>
              <a:off x="3852720" y="1521000"/>
              <a:ext cx="35424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0" name="" descr=""/>
            <p:cNvPicPr/>
            <p:nvPr/>
          </p:nvPicPr>
          <p:blipFill>
            <a:blip r:embed="rId6"/>
            <a:stretch/>
          </p:blipFill>
          <p:spPr>
            <a:xfrm>
              <a:off x="3863880" y="4308480"/>
              <a:ext cx="3542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1" name=""/>
            <p:cNvSpPr/>
            <p:nvPr/>
          </p:nvSpPr>
          <p:spPr>
            <a:xfrm>
              <a:off x="4697280" y="3402000"/>
              <a:ext cx="857520" cy="82404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pic>
          <p:nvPicPr>
            <p:cNvPr id="1762" name="" descr=""/>
            <p:cNvPicPr/>
            <p:nvPr/>
          </p:nvPicPr>
          <p:blipFill>
            <a:blip r:embed="rId7"/>
            <a:stretch/>
          </p:blipFill>
          <p:spPr>
            <a:xfrm>
              <a:off x="4948200" y="4322880"/>
              <a:ext cx="352440" cy="76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3" name=""/>
            <p:cNvSpPr/>
            <p:nvPr/>
          </p:nvSpPr>
          <p:spPr>
            <a:xfrm>
              <a:off x="5781600" y="3411360"/>
              <a:ext cx="858960" cy="82584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pic>
          <p:nvPicPr>
            <p:cNvPr id="1764" name="" descr=""/>
            <p:cNvPicPr/>
            <p:nvPr/>
          </p:nvPicPr>
          <p:blipFill>
            <a:blip r:embed="rId8"/>
            <a:stretch/>
          </p:blipFill>
          <p:spPr>
            <a:xfrm>
              <a:off x="6032520" y="4332240"/>
              <a:ext cx="3538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5" name=""/>
            <p:cNvSpPr/>
            <p:nvPr/>
          </p:nvSpPr>
          <p:spPr>
            <a:xfrm>
              <a:off x="6867360" y="3422520"/>
              <a:ext cx="855720" cy="8254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pic>
          <p:nvPicPr>
            <p:cNvPr id="1766" name="" descr=""/>
            <p:cNvPicPr/>
            <p:nvPr/>
          </p:nvPicPr>
          <p:blipFill>
            <a:blip r:embed="rId9"/>
            <a:stretch/>
          </p:blipFill>
          <p:spPr>
            <a:xfrm>
              <a:off x="2766960" y="2030400"/>
              <a:ext cx="354240" cy="132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7" name="" descr=""/>
            <p:cNvPicPr/>
            <p:nvPr/>
          </p:nvPicPr>
          <p:blipFill>
            <a:blip r:embed="rId10"/>
            <a:stretch/>
          </p:blipFill>
          <p:spPr>
            <a:xfrm>
              <a:off x="6012000" y="1521000"/>
              <a:ext cx="35388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8" name="" descr=""/>
            <p:cNvPicPr/>
            <p:nvPr/>
          </p:nvPicPr>
          <p:blipFill>
            <a:blip r:embed="rId11"/>
            <a:stretch/>
          </p:blipFill>
          <p:spPr>
            <a:xfrm>
              <a:off x="4925880" y="2322360"/>
              <a:ext cx="35424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9" name="" descr=""/>
            <p:cNvPicPr/>
            <p:nvPr/>
          </p:nvPicPr>
          <p:blipFill>
            <a:blip r:embed="rId12"/>
            <a:stretch/>
          </p:blipFill>
          <p:spPr>
            <a:xfrm>
              <a:off x="7116840" y="1762200"/>
              <a:ext cx="3538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0" name=""/>
            <p:cNvSpPr/>
            <p:nvPr/>
          </p:nvSpPr>
          <p:spPr>
            <a:xfrm>
              <a:off x="1442880" y="3381480"/>
              <a:ext cx="855720" cy="8254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579680" y="3581280"/>
              <a:ext cx="62892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15840" bIns="15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/</a:t>
              </a:r>
              <a:endParaRPr b="0" lang="en-US" sz="1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pic>
          <p:nvPicPr>
            <p:cNvPr id="1772" name="" descr=""/>
            <p:cNvPicPr/>
            <p:nvPr/>
          </p:nvPicPr>
          <p:blipFill>
            <a:blip r:embed="rId13"/>
            <a:stretch/>
          </p:blipFill>
          <p:spPr>
            <a:xfrm>
              <a:off x="1692360" y="4299120"/>
              <a:ext cx="35244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3" name="" descr=""/>
            <p:cNvPicPr/>
            <p:nvPr/>
          </p:nvPicPr>
          <p:blipFill>
            <a:blip r:embed="rId14"/>
            <a:stretch/>
          </p:blipFill>
          <p:spPr>
            <a:xfrm>
              <a:off x="1681200" y="1544760"/>
              <a:ext cx="353880" cy="17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4" name="" descr=""/>
            <p:cNvPicPr/>
            <p:nvPr/>
          </p:nvPicPr>
          <p:blipFill>
            <a:blip r:embed="rId15"/>
            <a:stretch/>
          </p:blipFill>
          <p:spPr>
            <a:xfrm>
              <a:off x="7128000" y="4332240"/>
              <a:ext cx="3538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5" name=""/>
            <p:cNvSpPr/>
            <p:nvPr/>
          </p:nvSpPr>
          <p:spPr>
            <a:xfrm>
              <a:off x="1527120" y="3767040"/>
              <a:ext cx="73872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15840" bIns="15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RITY</a:t>
              </a:r>
              <a:endParaRPr b="0" lang="en-US" sz="1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664000" y="3581280"/>
              <a:ext cx="62892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15840" bIns="15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/</a:t>
              </a:r>
              <a:endParaRPr b="0" lang="en-US" sz="1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530440" y="3776760"/>
              <a:ext cx="91296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2840" rIns="42840" tIns="15840" bIns="15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RITY</a:t>
              </a:r>
              <a:endParaRPr b="0" lang="en-US" sz="1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747960" y="3581280"/>
              <a:ext cx="62892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15840" bIns="15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/</a:t>
              </a:r>
              <a:endParaRPr b="0" lang="en-US" sz="1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695400" y="3767040"/>
              <a:ext cx="73872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15840" bIns="15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RITY</a:t>
              </a:r>
              <a:endParaRPr b="0" lang="en-US" sz="1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829040" y="3595680"/>
              <a:ext cx="62892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15840" bIns="15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/</a:t>
              </a:r>
              <a:endParaRPr b="0" lang="en-US" sz="1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776480" y="3782880"/>
              <a:ext cx="73872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15840" bIns="15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RITY</a:t>
              </a:r>
              <a:endParaRPr b="0" lang="en-US" sz="1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915160" y="3606840"/>
              <a:ext cx="62892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15840" bIns="15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/</a:t>
              </a:r>
              <a:endParaRPr b="0" lang="en-US" sz="1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862600" y="3792600"/>
              <a:ext cx="73872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15840" bIns="15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RITY</a:t>
              </a:r>
              <a:endParaRPr b="0" lang="en-US" sz="1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999120" y="3618000"/>
              <a:ext cx="62892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15840" bIns="15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/</a:t>
              </a:r>
              <a:endParaRPr b="0" lang="en-US" sz="1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946560" y="3803760"/>
              <a:ext cx="73872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15840" bIns="15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RITY</a:t>
              </a:r>
              <a:endParaRPr b="0" lang="en-US" sz="1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284400" y="5187960"/>
            <a:ext cx="8726040" cy="91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i="1" lang="en-US" sz="2900" spc="-1" strike="noStrike">
                <a:solidFill>
                  <a:srgbClr val="fafd00"/>
                </a:solidFill>
                <a:latin typeface="Arial"/>
              </a:rPr>
              <a:t>Slower on Writes &amp; Recovery From a Hard Drive</a:t>
            </a:r>
            <a:endParaRPr b="0" lang="en-US" sz="29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i="1" lang="en-US" sz="2900" spc="-1" strike="noStrike">
                <a:solidFill>
                  <a:srgbClr val="fafd00"/>
                </a:solidFill>
                <a:latin typeface="Arial"/>
              </a:rPr>
              <a:t>Failure, Best Storage Efficiency of Redundant Arrays</a:t>
            </a:r>
            <a:endParaRPr b="0" lang="en-US" sz="29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560760" y="208080"/>
            <a:ext cx="2084400" cy="763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RAID 5</a:t>
            </a:r>
            <a:endParaRPr b="0" lang="en-US" sz="4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84080" y="963720"/>
            <a:ext cx="7538760" cy="47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i="1" lang="en-US" sz="2900" spc="-1" strike="noStrike">
                <a:solidFill>
                  <a:srgbClr val="fafd00"/>
                </a:solidFill>
                <a:latin typeface="Arial"/>
              </a:rPr>
              <a:t>STRIPED ARRAY WITH ROTATING PARITY</a:t>
            </a:r>
            <a:endParaRPr b="0" lang="en-US" sz="29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375680" y="6432480"/>
            <a:ext cx="1722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24 &amp; 58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530520" y="142920"/>
            <a:ext cx="2084400" cy="641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RAID 5</a:t>
            </a:r>
            <a:endParaRPr b="0" lang="en-US" sz="4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 flipV="1">
            <a:off x="2349360" y="3213000"/>
            <a:ext cx="1930680" cy="1270080"/>
          </a:xfrm>
          <a:prstGeom prst="line">
            <a:avLst/>
          </a:prstGeom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5873760" y="5111640"/>
            <a:ext cx="1359000" cy="1282680"/>
          </a:xfrm>
          <a:prstGeom prst="ellipse">
            <a:avLst/>
          </a:prstGeom>
          <a:solidFill>
            <a:srgbClr val="b30fd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flipH="1" flipV="1">
            <a:off x="4809600" y="3315960"/>
            <a:ext cx="1806840" cy="1166760"/>
          </a:xfrm>
          <a:prstGeom prst="line">
            <a:avLst/>
          </a:prstGeom>
          <a:ln w="127080">
            <a:solidFill>
              <a:srgbClr val="0af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 flipV="1">
            <a:off x="4572000" y="2679480"/>
            <a:ext cx="0" cy="355320"/>
          </a:xfrm>
          <a:prstGeom prst="line">
            <a:avLst/>
          </a:prstGeom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2166840" y="4386240"/>
            <a:ext cx="339840" cy="676440"/>
          </a:xfrm>
          <a:custGeom>
            <a:avLst/>
            <a:gdLst/>
            <a:ahLst/>
            <a:rect l="l" t="t" r="r" b="b"/>
            <a:pathLst>
              <a:path w="214" h="426">
                <a:moveTo>
                  <a:pt x="107" y="425"/>
                </a:moveTo>
                <a:lnTo>
                  <a:pt x="213" y="217"/>
                </a:lnTo>
                <a:lnTo>
                  <a:pt x="142" y="217"/>
                </a:lnTo>
                <a:lnTo>
                  <a:pt x="142" y="0"/>
                </a:lnTo>
                <a:lnTo>
                  <a:pt x="71" y="0"/>
                </a:lnTo>
                <a:lnTo>
                  <a:pt x="71" y="217"/>
                </a:lnTo>
                <a:lnTo>
                  <a:pt x="0" y="217"/>
                </a:lnTo>
                <a:lnTo>
                  <a:pt x="107" y="425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57960" y="4383000"/>
            <a:ext cx="342720" cy="677880"/>
          </a:xfrm>
          <a:custGeom>
            <a:avLst/>
            <a:gdLst/>
            <a:ahLst/>
            <a:rect l="l" t="t" r="r" b="b"/>
            <a:pathLst>
              <a:path w="216" h="427">
                <a:moveTo>
                  <a:pt x="108" y="426"/>
                </a:moveTo>
                <a:lnTo>
                  <a:pt x="215" y="217"/>
                </a:lnTo>
                <a:lnTo>
                  <a:pt x="143" y="217"/>
                </a:lnTo>
                <a:lnTo>
                  <a:pt x="143" y="0"/>
                </a:lnTo>
                <a:lnTo>
                  <a:pt x="72" y="0"/>
                </a:lnTo>
                <a:lnTo>
                  <a:pt x="72" y="217"/>
                </a:lnTo>
                <a:lnTo>
                  <a:pt x="0" y="217"/>
                </a:lnTo>
                <a:lnTo>
                  <a:pt x="108" y="426"/>
                </a:lnTo>
              </a:path>
            </a:pathLst>
          </a:custGeom>
          <a:solidFill>
            <a:srgbClr val="0af31b"/>
          </a:solidFill>
          <a:ln cap="rnd" w="12600">
            <a:solidFill>
              <a:srgbClr val="0af3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1682640" y="5187960"/>
            <a:ext cx="1359000" cy="128268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892680" y="1378080"/>
            <a:ext cx="1358640" cy="1282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1447920" y="655020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hysical Disk 1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695760" y="655020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hysical Disk 2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2209680" y="76356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gical Disk 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(What Operating System  can “see”)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12600" y="2743200"/>
            <a:ext cx="91170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77120" y="160488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ftware Level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ingle Write I/O to HW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262080" y="2971800"/>
            <a:ext cx="259056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Hardware Level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ntroller :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 - Reads “old” Data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 - Writes “new” Data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3 - Performs XOR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 - Writes Parity</a:t>
            </a:r>
            <a:r>
              <a:rPr b="1" lang="en-US" sz="1800" spc="-1" strike="noStrike">
                <a:solidFill>
                  <a:srgbClr val="00dfc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dfc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dfca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077720" y="1909800"/>
            <a:ext cx="9885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110011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301640" y="5643720"/>
            <a:ext cx="5374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2091960" y="5719680"/>
            <a:ext cx="5374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892680" y="5111640"/>
            <a:ext cx="1358640" cy="135900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301640" y="5719680"/>
            <a:ext cx="5374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82948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hysical Disk 3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 flipV="1">
            <a:off x="4572000" y="3517920"/>
            <a:ext cx="0" cy="1117440"/>
          </a:xfrm>
          <a:prstGeom prst="line">
            <a:avLst/>
          </a:prstGeom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416480" y="4386240"/>
            <a:ext cx="314280" cy="676440"/>
          </a:xfrm>
          <a:custGeom>
            <a:avLst/>
            <a:gdLst/>
            <a:ahLst/>
            <a:rect l="l" t="t" r="r" b="b"/>
            <a:pathLst>
              <a:path w="198" h="426">
                <a:moveTo>
                  <a:pt x="98" y="425"/>
                </a:moveTo>
                <a:lnTo>
                  <a:pt x="197" y="217"/>
                </a:lnTo>
                <a:lnTo>
                  <a:pt x="131" y="217"/>
                </a:lnTo>
                <a:lnTo>
                  <a:pt x="131" y="0"/>
                </a:lnTo>
                <a:lnTo>
                  <a:pt x="65" y="0"/>
                </a:lnTo>
                <a:lnTo>
                  <a:pt x="65" y="217"/>
                </a:lnTo>
                <a:lnTo>
                  <a:pt x="0" y="217"/>
                </a:lnTo>
                <a:lnTo>
                  <a:pt x="98" y="425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283080" y="5643720"/>
            <a:ext cx="5374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551640" y="290196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XOR Parity Generation and Results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 flipH="1">
            <a:off x="6845400" y="3670200"/>
            <a:ext cx="482400" cy="1498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4203720" y="2984400"/>
            <a:ext cx="736560" cy="584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flipH="1" flipV="1">
            <a:off x="4940280" y="3263400"/>
            <a:ext cx="2387520" cy="406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4252680" y="3079800"/>
            <a:ext cx="73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OR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58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775320" y="66600"/>
            <a:ext cx="2176200" cy="797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5000" spc="-1" strike="noStrike">
                <a:solidFill>
                  <a:srgbClr val="fafd00"/>
                </a:solidFill>
                <a:latin typeface="Arial"/>
              </a:rPr>
              <a:t>RAID 5</a:t>
            </a:r>
            <a:endParaRPr b="0" lang="en-US" sz="5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533240" y="838080"/>
            <a:ext cx="6522480" cy="4773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i="1" lang="en-US" sz="2900" spc="-1" strike="noStrike">
                <a:solidFill>
                  <a:srgbClr val="fafd00"/>
                </a:solidFill>
                <a:latin typeface="Arial"/>
              </a:rPr>
              <a:t>UPDATING PARITY DURING WRITES</a:t>
            </a:r>
            <a:endParaRPr b="0" lang="en-US" sz="2900" spc="-1" strike="noStrike">
              <a:solidFill>
                <a:srgbClr val="d49fff"/>
              </a:solidFill>
              <a:latin typeface="Times New Roman"/>
            </a:endParaRPr>
          </a:p>
        </p:txBody>
      </p:sp>
      <p:grpSp>
        <p:nvGrpSpPr>
          <p:cNvPr id="1834" name=""/>
          <p:cNvGrpSpPr/>
          <p:nvPr/>
        </p:nvGrpSpPr>
        <p:grpSpPr>
          <a:xfrm>
            <a:off x="1060560" y="1657440"/>
            <a:ext cx="7037640" cy="3225600"/>
            <a:chOff x="1060560" y="1657440"/>
            <a:chExt cx="7037640" cy="3225600"/>
          </a:xfrm>
        </p:grpSpPr>
        <p:sp>
          <p:nvSpPr>
            <p:cNvPr id="1835" name=""/>
            <p:cNvSpPr/>
            <p:nvPr/>
          </p:nvSpPr>
          <p:spPr>
            <a:xfrm>
              <a:off x="3344760" y="4192560"/>
              <a:ext cx="698760" cy="684360"/>
            </a:xfrm>
            <a:prstGeom prst="ellipse">
              <a:avLst/>
            </a:prstGeom>
            <a:solidFill>
              <a:srgbClr val="00b7a5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214880" y="4200480"/>
              <a:ext cx="698400" cy="682560"/>
            </a:xfrm>
            <a:prstGeom prst="ellipse">
              <a:avLst/>
            </a:prstGeom>
            <a:solidFill>
              <a:srgbClr val="00b7a5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060880" y="4200480"/>
              <a:ext cx="696960" cy="682560"/>
            </a:xfrm>
            <a:prstGeom prst="ellipse">
              <a:avLst/>
            </a:prstGeom>
            <a:solidFill>
              <a:srgbClr val="00b7a5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931000" y="4200480"/>
              <a:ext cx="696960" cy="682560"/>
            </a:xfrm>
            <a:prstGeom prst="ellipse">
              <a:avLst/>
            </a:prstGeom>
            <a:solidFill>
              <a:srgbClr val="00b7a5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475000" y="4192560"/>
              <a:ext cx="698400" cy="684360"/>
            </a:xfrm>
            <a:prstGeom prst="ellipse">
              <a:avLst/>
            </a:prstGeom>
            <a:solidFill>
              <a:srgbClr val="00b7a5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604600" y="4432320"/>
              <a:ext cx="442440" cy="1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2600" bIns="12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69960"/>
                  <a:tab algn="l" pos="1339920"/>
                  <a:tab algn="l" pos="2009880"/>
                  <a:tab algn="l" pos="2679840"/>
                  <a:tab algn="l" pos="3349800"/>
                  <a:tab algn="l" pos="4019400"/>
                  <a:tab algn="l" pos="4689360"/>
                  <a:tab algn="l" pos="5359320"/>
                  <a:tab algn="l" pos="6029280"/>
                  <a:tab algn="l" pos="6699240"/>
                  <a:tab algn="l" pos="7369200"/>
                  <a:tab algn="l" pos="8039160"/>
                  <a:tab algn="l" pos="8709120"/>
                  <a:tab algn="l" pos="9379080"/>
                  <a:tab algn="l" pos="10049040"/>
                  <a:tab algn="l" pos="107186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1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588400" y="2751120"/>
              <a:ext cx="540000" cy="284760"/>
            </a:xfrm>
            <a:prstGeom prst="rect">
              <a:avLst/>
            </a:prstGeom>
            <a:noFill/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2600" bIns="12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69960"/>
                  <a:tab algn="l" pos="1339920"/>
                  <a:tab algn="l" pos="2009880"/>
                  <a:tab algn="l" pos="2679840"/>
                  <a:tab algn="l" pos="3349800"/>
                  <a:tab algn="l" pos="4019400"/>
                  <a:tab algn="l" pos="4689360"/>
                  <a:tab algn="l" pos="5359320"/>
                  <a:tab algn="l" pos="6029280"/>
                  <a:tab algn="l" pos="6699240"/>
                  <a:tab algn="l" pos="7369200"/>
                  <a:tab algn="l" pos="8039160"/>
                  <a:tab algn="l" pos="8709120"/>
                  <a:tab algn="l" pos="9379080"/>
                  <a:tab algn="l" pos="10049040"/>
                  <a:tab algn="l" pos="1071864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XOR</a:t>
              </a:r>
              <a:endParaRPr b="0" lang="en-US" sz="17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pic>
          <p:nvPicPr>
            <p:cNvPr id="1842" name="" descr=""/>
            <p:cNvPicPr/>
            <p:nvPr/>
          </p:nvPicPr>
          <p:blipFill>
            <a:blip r:embed="rId1"/>
            <a:stretch/>
          </p:blipFill>
          <p:spPr>
            <a:xfrm>
              <a:off x="2682720" y="3063960"/>
              <a:ext cx="27648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3" name=""/>
            <p:cNvSpPr/>
            <p:nvPr/>
          </p:nvSpPr>
          <p:spPr>
            <a:xfrm>
              <a:off x="6001200" y="4440240"/>
              <a:ext cx="574920" cy="1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2600" bIns="12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69960"/>
                  <a:tab algn="l" pos="1339920"/>
                  <a:tab algn="l" pos="2009880"/>
                  <a:tab algn="l" pos="2679840"/>
                  <a:tab algn="l" pos="3349800"/>
                  <a:tab algn="l" pos="4019400"/>
                  <a:tab algn="l" pos="4689360"/>
                  <a:tab algn="l" pos="5359320"/>
                  <a:tab algn="l" pos="6029280"/>
                  <a:tab algn="l" pos="6699240"/>
                  <a:tab algn="l" pos="7369200"/>
                  <a:tab algn="l" pos="8039160"/>
                  <a:tab algn="l" pos="8709120"/>
                  <a:tab algn="l" pos="9379080"/>
                  <a:tab algn="l" pos="10049040"/>
                  <a:tab algn="l" pos="107186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ARITY</a:t>
              </a:r>
              <a:endParaRPr b="0" lang="en-US" sz="11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pic>
          <p:nvPicPr>
            <p:cNvPr id="1844" name="" descr=""/>
            <p:cNvPicPr/>
            <p:nvPr/>
          </p:nvPicPr>
          <p:blipFill>
            <a:blip r:embed="rId2"/>
            <a:stretch/>
          </p:blipFill>
          <p:spPr>
            <a:xfrm>
              <a:off x="2692440" y="1657440"/>
              <a:ext cx="27612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5" name=""/>
            <p:cNvSpPr/>
            <p:nvPr/>
          </p:nvSpPr>
          <p:spPr>
            <a:xfrm>
              <a:off x="6031800" y="2751120"/>
              <a:ext cx="540000" cy="284760"/>
            </a:xfrm>
            <a:prstGeom prst="rect">
              <a:avLst/>
            </a:prstGeom>
            <a:noFill/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2600" bIns="12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69960"/>
                  <a:tab algn="l" pos="1339920"/>
                  <a:tab algn="l" pos="2009880"/>
                  <a:tab algn="l" pos="2679840"/>
                  <a:tab algn="l" pos="3349800"/>
                  <a:tab algn="l" pos="4019400"/>
                  <a:tab algn="l" pos="4689360"/>
                  <a:tab algn="l" pos="5359320"/>
                  <a:tab algn="l" pos="6029280"/>
                  <a:tab algn="l" pos="6699240"/>
                  <a:tab algn="l" pos="7369200"/>
                  <a:tab algn="l" pos="8039160"/>
                  <a:tab algn="l" pos="8709120"/>
                  <a:tab algn="l" pos="9379080"/>
                  <a:tab algn="l" pos="10049040"/>
                  <a:tab algn="l" pos="1071864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XOR</a:t>
              </a:r>
              <a:endParaRPr b="0" lang="en-US" sz="17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pic>
          <p:nvPicPr>
            <p:cNvPr id="1846" name="" descr=""/>
            <p:cNvPicPr/>
            <p:nvPr/>
          </p:nvPicPr>
          <p:blipFill>
            <a:blip r:embed="rId3"/>
            <a:stretch/>
          </p:blipFill>
          <p:spPr>
            <a:xfrm>
              <a:off x="6129360" y="3057480"/>
              <a:ext cx="27612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7" name="" descr=""/>
            <p:cNvPicPr/>
            <p:nvPr/>
          </p:nvPicPr>
          <p:blipFill>
            <a:blip r:embed="rId4"/>
            <a:stretch/>
          </p:blipFill>
          <p:spPr>
            <a:xfrm>
              <a:off x="3255840" y="2743200"/>
              <a:ext cx="2657520" cy="2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8" name="" descr=""/>
            <p:cNvPicPr/>
            <p:nvPr/>
          </p:nvPicPr>
          <p:blipFill>
            <a:blip r:embed="rId5"/>
            <a:stretch/>
          </p:blipFill>
          <p:spPr>
            <a:xfrm>
              <a:off x="6621480" y="2833560"/>
              <a:ext cx="54612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9" name="" descr=""/>
            <p:cNvPicPr/>
            <p:nvPr/>
          </p:nvPicPr>
          <p:blipFill>
            <a:blip r:embed="rId6"/>
            <a:stretch/>
          </p:blipFill>
          <p:spPr>
            <a:xfrm>
              <a:off x="7089840" y="2836800"/>
              <a:ext cx="100080" cy="10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0" name="" descr=""/>
            <p:cNvPicPr/>
            <p:nvPr/>
          </p:nvPicPr>
          <p:blipFill>
            <a:blip r:embed="rId7"/>
            <a:stretch/>
          </p:blipFill>
          <p:spPr>
            <a:xfrm>
              <a:off x="6647040" y="3814920"/>
              <a:ext cx="527040" cy="54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1" name="" descr=""/>
            <p:cNvPicPr/>
            <p:nvPr/>
          </p:nvPicPr>
          <p:blipFill>
            <a:blip r:embed="rId8"/>
            <a:stretch/>
          </p:blipFill>
          <p:spPr>
            <a:xfrm>
              <a:off x="1827360" y="2049480"/>
              <a:ext cx="95724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2" name="" descr=""/>
            <p:cNvPicPr/>
            <p:nvPr/>
          </p:nvPicPr>
          <p:blipFill>
            <a:blip r:embed="rId9"/>
            <a:stretch/>
          </p:blipFill>
          <p:spPr>
            <a:xfrm>
              <a:off x="1789200" y="2052720"/>
              <a:ext cx="100080" cy="157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3" name="" descr=""/>
            <p:cNvPicPr/>
            <p:nvPr/>
          </p:nvPicPr>
          <p:blipFill>
            <a:blip r:embed="rId10"/>
            <a:stretch/>
          </p:blipFill>
          <p:spPr>
            <a:xfrm>
              <a:off x="1808280" y="3551400"/>
              <a:ext cx="682560" cy="73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4" name=""/>
            <p:cNvSpPr/>
            <p:nvPr/>
          </p:nvSpPr>
          <p:spPr>
            <a:xfrm>
              <a:off x="1060560" y="3759120"/>
              <a:ext cx="768600" cy="284760"/>
            </a:xfrm>
            <a:prstGeom prst="rect">
              <a:avLst/>
            </a:prstGeom>
            <a:noFill/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2600" bIns="12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69960"/>
                  <a:tab algn="l" pos="1339920"/>
                  <a:tab algn="l" pos="2009880"/>
                  <a:tab algn="l" pos="2679840"/>
                  <a:tab algn="l" pos="3349800"/>
                  <a:tab algn="l" pos="4019400"/>
                  <a:tab algn="l" pos="4689360"/>
                  <a:tab algn="l" pos="5359320"/>
                  <a:tab algn="l" pos="6029280"/>
                  <a:tab algn="l" pos="6699240"/>
                  <a:tab algn="l" pos="7369200"/>
                  <a:tab algn="l" pos="8039160"/>
                  <a:tab algn="l" pos="8709120"/>
                  <a:tab algn="l" pos="9379080"/>
                  <a:tab algn="l" pos="10049040"/>
                  <a:tab algn="l" pos="1071864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WRITE</a:t>
              </a:r>
              <a:endParaRPr b="0" lang="en-US" sz="17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039120" y="3759120"/>
              <a:ext cx="686160" cy="284760"/>
            </a:xfrm>
            <a:prstGeom prst="rect">
              <a:avLst/>
            </a:prstGeom>
            <a:noFill/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2600" bIns="12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69960"/>
                  <a:tab algn="l" pos="1339920"/>
                  <a:tab algn="l" pos="2009880"/>
                  <a:tab algn="l" pos="2679840"/>
                  <a:tab algn="l" pos="3349800"/>
                  <a:tab algn="l" pos="4019400"/>
                  <a:tab algn="l" pos="4689360"/>
                  <a:tab algn="l" pos="5359320"/>
                  <a:tab algn="l" pos="6029280"/>
                  <a:tab algn="l" pos="6699240"/>
                  <a:tab algn="l" pos="7369200"/>
                  <a:tab algn="l" pos="8039160"/>
                  <a:tab algn="l" pos="8709120"/>
                  <a:tab algn="l" pos="9379080"/>
                  <a:tab algn="l" pos="10049040"/>
                  <a:tab algn="l" pos="1071864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READ</a:t>
              </a:r>
              <a:endParaRPr b="0" lang="en-US" sz="17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379120" y="3759120"/>
              <a:ext cx="686160" cy="284760"/>
            </a:xfrm>
            <a:prstGeom prst="rect">
              <a:avLst/>
            </a:prstGeom>
            <a:noFill/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2600" bIns="12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69960"/>
                  <a:tab algn="l" pos="1339920"/>
                  <a:tab algn="l" pos="2009880"/>
                  <a:tab algn="l" pos="2679840"/>
                  <a:tab algn="l" pos="3349800"/>
                  <a:tab algn="l" pos="4019400"/>
                  <a:tab algn="l" pos="4689360"/>
                  <a:tab algn="l" pos="5359320"/>
                  <a:tab algn="l" pos="6029280"/>
                  <a:tab algn="l" pos="6699240"/>
                  <a:tab algn="l" pos="7369200"/>
                  <a:tab algn="l" pos="8039160"/>
                  <a:tab algn="l" pos="8709120"/>
                  <a:tab algn="l" pos="9379080"/>
                  <a:tab algn="l" pos="10049040"/>
                  <a:tab algn="l" pos="1071864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READ</a:t>
              </a:r>
              <a:endParaRPr b="0" lang="en-US" sz="17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329600" y="3759120"/>
              <a:ext cx="768600" cy="284760"/>
            </a:xfrm>
            <a:prstGeom prst="rect">
              <a:avLst/>
            </a:prstGeom>
            <a:noFill/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2600" bIns="12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69960"/>
                  <a:tab algn="l" pos="1339920"/>
                  <a:tab algn="l" pos="2009880"/>
                  <a:tab algn="l" pos="2679840"/>
                  <a:tab algn="l" pos="3349800"/>
                  <a:tab algn="l" pos="4019400"/>
                  <a:tab algn="l" pos="4689360"/>
                  <a:tab algn="l" pos="5359320"/>
                  <a:tab algn="l" pos="6029280"/>
                  <a:tab algn="l" pos="6699240"/>
                  <a:tab algn="l" pos="7369200"/>
                  <a:tab algn="l" pos="8039160"/>
                  <a:tab algn="l" pos="8709120"/>
                  <a:tab algn="l" pos="9379080"/>
                  <a:tab algn="l" pos="10049040"/>
                  <a:tab algn="l" pos="1071864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WRITE</a:t>
              </a:r>
              <a:endParaRPr b="0" lang="en-US" sz="17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  <p:sp>
        <p:nvSpPr>
          <p:cNvPr id="1858" name=""/>
          <p:cNvSpPr/>
          <p:nvPr/>
        </p:nvSpPr>
        <p:spPr>
          <a:xfrm>
            <a:off x="1213560" y="5084640"/>
            <a:ext cx="7390080" cy="969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900" spc="-1" strike="noStrike">
                <a:solidFill>
                  <a:srgbClr val="fafd00"/>
                </a:solidFill>
                <a:latin typeface="Arial"/>
              </a:rPr>
              <a:t>Result: Each Write Causes 4 Additional I/Os</a:t>
            </a:r>
            <a:endParaRPr b="0" lang="en-US" sz="29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900" spc="-1" strike="noStrike">
                <a:solidFill>
                  <a:srgbClr val="fafd00"/>
                </a:solidFill>
                <a:latin typeface="Arial"/>
              </a:rPr>
              <a:t>            </a:t>
            </a:r>
            <a:r>
              <a:rPr b="0" lang="en-US" sz="2900" spc="-1" strike="noStrike">
                <a:solidFill>
                  <a:srgbClr val="fafd00"/>
                </a:solidFill>
                <a:latin typeface="Arial"/>
              </a:rPr>
              <a:t>Plus 2 Math Operations</a:t>
            </a:r>
            <a:endParaRPr b="0" lang="en-US" sz="29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59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143000" y="66600"/>
            <a:ext cx="7162920" cy="641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RAID 5 - Error Recover</a:t>
            </a:r>
            <a:endParaRPr b="0" lang="en-US" sz="4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H="1" flipV="1">
            <a:off x="4889520" y="3593880"/>
            <a:ext cx="1727280" cy="888840"/>
          </a:xfrm>
          <a:prstGeom prst="line">
            <a:avLst/>
          </a:prstGeom>
          <a:ln w="127080">
            <a:solidFill>
              <a:srgbClr val="0af3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1682640" y="5111640"/>
            <a:ext cx="1359000" cy="128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892680" y="1378080"/>
            <a:ext cx="1358640" cy="1282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1447920" y="655020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hysical Disk 1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695760" y="655020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hysical Disk 2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2209680" y="76356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gical Disk 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(What Operating System  can “see”)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12600" y="2743200"/>
            <a:ext cx="91170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248520" y="175752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ftware Level - Single Read Request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557360" y="2819520"/>
            <a:ext cx="2895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00dfca"/>
                </a:solidFill>
                <a:latin typeface="Arial"/>
              </a:rPr>
              <a:t>Hardware Level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00dfca"/>
                </a:solidFill>
                <a:latin typeface="Arial"/>
              </a:rPr>
              <a:t>Controller :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00dfca"/>
                </a:solidFill>
                <a:latin typeface="Arial"/>
              </a:rPr>
              <a:t>1 - Reads Data / Parity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00dfca"/>
                </a:solidFill>
                <a:latin typeface="Arial"/>
              </a:rPr>
              <a:t>2 - Performs XOR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00dfca"/>
                </a:solidFill>
                <a:latin typeface="Arial"/>
              </a:rPr>
              <a:t>3 - Supplies Result to OS                        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077720" y="1909800"/>
            <a:ext cx="9885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110011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2007000" y="5719680"/>
            <a:ext cx="7038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?????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82948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hysical Disk 3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 flipV="1">
            <a:off x="4572000" y="3746160"/>
            <a:ext cx="0" cy="1422360"/>
          </a:xfrm>
          <a:prstGeom prst="line">
            <a:avLst/>
          </a:prstGeom>
          <a:ln w="127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283080" y="5643720"/>
            <a:ext cx="5374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095880" y="3130560"/>
            <a:ext cx="289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XOR Parity and Remaining data to 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-Construct “lost” data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 flipH="1">
            <a:off x="4939920" y="3429000"/>
            <a:ext cx="13971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4451400" y="2706840"/>
            <a:ext cx="274680" cy="495000"/>
          </a:xfrm>
          <a:custGeom>
            <a:avLst/>
            <a:gdLst/>
            <a:ahLst/>
            <a:rect l="l" t="t" r="r" b="b"/>
            <a:pathLst>
              <a:path w="173" h="312">
                <a:moveTo>
                  <a:pt x="89" y="0"/>
                </a:moveTo>
                <a:lnTo>
                  <a:pt x="0" y="150"/>
                </a:lnTo>
                <a:lnTo>
                  <a:pt x="57" y="151"/>
                </a:lnTo>
                <a:lnTo>
                  <a:pt x="54" y="309"/>
                </a:lnTo>
                <a:lnTo>
                  <a:pt x="111" y="311"/>
                </a:lnTo>
                <a:lnTo>
                  <a:pt x="113" y="152"/>
                </a:lnTo>
                <a:lnTo>
                  <a:pt x="172" y="153"/>
                </a:lnTo>
                <a:lnTo>
                  <a:pt x="89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203720" y="3213000"/>
            <a:ext cx="736560" cy="584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4176360" y="3330720"/>
            <a:ext cx="74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OR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 flipV="1">
            <a:off x="6553080" y="4279680"/>
            <a:ext cx="0" cy="888840"/>
          </a:xfrm>
          <a:prstGeom prst="line">
            <a:avLst/>
          </a:prstGeom>
          <a:ln w="127080">
            <a:solidFill>
              <a:srgbClr val="0af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892680" y="5111640"/>
            <a:ext cx="1358640" cy="1282680"/>
          </a:xfrm>
          <a:prstGeom prst="ellipse">
            <a:avLst/>
          </a:prstGeom>
          <a:solidFill>
            <a:srgbClr val="00cc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301640" y="5643720"/>
            <a:ext cx="5374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 flipV="1">
            <a:off x="5092560" y="2349360"/>
            <a:ext cx="1246320" cy="1092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5873760" y="5111640"/>
            <a:ext cx="1359000" cy="1282680"/>
          </a:xfrm>
          <a:prstGeom prst="ellipse">
            <a:avLst/>
          </a:prstGeom>
          <a:solidFill>
            <a:srgbClr val="b30fd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283080" y="5643720"/>
            <a:ext cx="5374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59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749680" y="371520"/>
            <a:ext cx="4794120" cy="519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Dual Level RAID - 0/1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365120" y="5711760"/>
            <a:ext cx="846360" cy="81288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438280" y="5721480"/>
            <a:ext cx="847800" cy="8143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 flipV="1">
            <a:off x="1774800" y="4355640"/>
            <a:ext cx="523800" cy="7542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2238480" y="4357440"/>
            <a:ext cx="644400" cy="7347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5834160" y="5680080"/>
            <a:ext cx="849240" cy="81288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985080" y="5689440"/>
            <a:ext cx="846000" cy="81468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flipV="1">
            <a:off x="6235560" y="4257360"/>
            <a:ext cx="534960" cy="83484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flipH="1" flipV="1">
            <a:off x="6718320" y="4280040"/>
            <a:ext cx="736560" cy="7365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603440" y="5029200"/>
            <a:ext cx="303120" cy="628560"/>
          </a:xfrm>
          <a:custGeom>
            <a:avLst/>
            <a:gdLst/>
            <a:ahLst/>
            <a:rect l="l" t="t" r="r" b="b"/>
            <a:pathLst>
              <a:path w="191" h="396">
                <a:moveTo>
                  <a:pt x="95" y="395"/>
                </a:moveTo>
                <a:lnTo>
                  <a:pt x="190" y="201"/>
                </a:lnTo>
                <a:lnTo>
                  <a:pt x="126" y="201"/>
                </a:lnTo>
                <a:lnTo>
                  <a:pt x="126" y="0"/>
                </a:lnTo>
                <a:lnTo>
                  <a:pt x="63" y="0"/>
                </a:lnTo>
                <a:lnTo>
                  <a:pt x="63" y="201"/>
                </a:lnTo>
                <a:lnTo>
                  <a:pt x="0" y="201"/>
                </a:lnTo>
                <a:lnTo>
                  <a:pt x="95" y="395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2678040" y="4983120"/>
            <a:ext cx="295200" cy="674640"/>
          </a:xfrm>
          <a:custGeom>
            <a:avLst/>
            <a:gdLst/>
            <a:ahLst/>
            <a:rect l="l" t="t" r="r" b="b"/>
            <a:pathLst>
              <a:path w="186" h="425">
                <a:moveTo>
                  <a:pt x="92" y="424"/>
                </a:moveTo>
                <a:lnTo>
                  <a:pt x="185" y="216"/>
                </a:lnTo>
                <a:lnTo>
                  <a:pt x="123" y="216"/>
                </a:lnTo>
                <a:lnTo>
                  <a:pt x="123" y="0"/>
                </a:lnTo>
                <a:lnTo>
                  <a:pt x="61" y="0"/>
                </a:lnTo>
                <a:lnTo>
                  <a:pt x="61" y="216"/>
                </a:lnTo>
                <a:lnTo>
                  <a:pt x="0" y="216"/>
                </a:lnTo>
                <a:lnTo>
                  <a:pt x="92" y="424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6072120" y="4948200"/>
            <a:ext cx="341280" cy="677880"/>
          </a:xfrm>
          <a:custGeom>
            <a:avLst/>
            <a:gdLst/>
            <a:ahLst/>
            <a:rect l="l" t="t" r="r" b="b"/>
            <a:pathLst>
              <a:path w="215" h="427">
                <a:moveTo>
                  <a:pt x="107" y="426"/>
                </a:moveTo>
                <a:lnTo>
                  <a:pt x="214" y="217"/>
                </a:lnTo>
                <a:lnTo>
                  <a:pt x="142" y="217"/>
                </a:lnTo>
                <a:lnTo>
                  <a:pt x="142" y="0"/>
                </a:lnTo>
                <a:lnTo>
                  <a:pt x="72" y="0"/>
                </a:lnTo>
                <a:lnTo>
                  <a:pt x="72" y="217"/>
                </a:lnTo>
                <a:lnTo>
                  <a:pt x="0" y="217"/>
                </a:lnTo>
                <a:lnTo>
                  <a:pt x="107" y="426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224840" y="4876920"/>
            <a:ext cx="320400" cy="741240"/>
          </a:xfrm>
          <a:custGeom>
            <a:avLst/>
            <a:gdLst/>
            <a:ahLst/>
            <a:rect l="l" t="t" r="r" b="b"/>
            <a:pathLst>
              <a:path w="202" h="467">
                <a:moveTo>
                  <a:pt x="100" y="466"/>
                </a:moveTo>
                <a:lnTo>
                  <a:pt x="201" y="237"/>
                </a:lnTo>
                <a:lnTo>
                  <a:pt x="134" y="237"/>
                </a:lnTo>
                <a:lnTo>
                  <a:pt x="134" y="0"/>
                </a:lnTo>
                <a:lnTo>
                  <a:pt x="67" y="0"/>
                </a:lnTo>
                <a:lnTo>
                  <a:pt x="67" y="237"/>
                </a:lnTo>
                <a:lnTo>
                  <a:pt x="0" y="237"/>
                </a:lnTo>
                <a:lnTo>
                  <a:pt x="100" y="466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H="1">
            <a:off x="2222280" y="4102200"/>
            <a:ext cx="1269720" cy="33012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flipH="1" flipV="1">
            <a:off x="5727600" y="3898440"/>
            <a:ext cx="1193760" cy="5842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079960" y="3479760"/>
            <a:ext cx="846000" cy="8143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251160" y="3479760"/>
            <a:ext cx="846000" cy="8143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4400" y="4495680"/>
            <a:ext cx="904068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92160" y="2743200"/>
            <a:ext cx="91152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3557520" y="3048120"/>
            <a:ext cx="254160" cy="444240"/>
          </a:xfrm>
          <a:custGeom>
            <a:avLst/>
            <a:gdLst/>
            <a:ahLst/>
            <a:rect l="l" t="t" r="r" b="b"/>
            <a:pathLst>
              <a:path w="160" h="280">
                <a:moveTo>
                  <a:pt x="79" y="279"/>
                </a:moveTo>
                <a:lnTo>
                  <a:pt x="159" y="142"/>
                </a:lnTo>
                <a:lnTo>
                  <a:pt x="105" y="142"/>
                </a:lnTo>
                <a:lnTo>
                  <a:pt x="105" y="0"/>
                </a:lnTo>
                <a:lnTo>
                  <a:pt x="53" y="0"/>
                </a:lnTo>
                <a:lnTo>
                  <a:pt x="53" y="142"/>
                </a:lnTo>
                <a:lnTo>
                  <a:pt x="0" y="142"/>
                </a:lnTo>
                <a:lnTo>
                  <a:pt x="79" y="279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5386320" y="3048120"/>
            <a:ext cx="254160" cy="444240"/>
          </a:xfrm>
          <a:custGeom>
            <a:avLst/>
            <a:gdLst/>
            <a:ahLst/>
            <a:rect l="l" t="t" r="r" b="b"/>
            <a:pathLst>
              <a:path w="160" h="280">
                <a:moveTo>
                  <a:pt x="79" y="279"/>
                </a:moveTo>
                <a:lnTo>
                  <a:pt x="159" y="142"/>
                </a:lnTo>
                <a:lnTo>
                  <a:pt x="105" y="142"/>
                </a:lnTo>
                <a:lnTo>
                  <a:pt x="105" y="0"/>
                </a:lnTo>
                <a:lnTo>
                  <a:pt x="53" y="0"/>
                </a:lnTo>
                <a:lnTo>
                  <a:pt x="53" y="142"/>
                </a:lnTo>
                <a:lnTo>
                  <a:pt x="0" y="142"/>
                </a:lnTo>
                <a:lnTo>
                  <a:pt x="79" y="279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495680" y="2286000"/>
            <a:ext cx="306360" cy="741240"/>
          </a:xfrm>
          <a:custGeom>
            <a:avLst/>
            <a:gdLst/>
            <a:ahLst/>
            <a:rect l="l" t="t" r="r" b="b"/>
            <a:pathLst>
              <a:path w="193" h="467">
                <a:moveTo>
                  <a:pt x="96" y="466"/>
                </a:moveTo>
                <a:lnTo>
                  <a:pt x="192" y="237"/>
                </a:lnTo>
                <a:lnTo>
                  <a:pt x="128" y="237"/>
                </a:lnTo>
                <a:lnTo>
                  <a:pt x="128" y="0"/>
                </a:lnTo>
                <a:lnTo>
                  <a:pt x="64" y="0"/>
                </a:lnTo>
                <a:lnTo>
                  <a:pt x="64" y="237"/>
                </a:lnTo>
                <a:lnTo>
                  <a:pt x="0" y="237"/>
                </a:lnTo>
                <a:lnTo>
                  <a:pt x="96" y="466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flipH="1">
            <a:off x="3619440" y="3048120"/>
            <a:ext cx="1905120" cy="0"/>
          </a:xfrm>
          <a:prstGeom prst="line">
            <a:avLst/>
          </a:prstGeom>
          <a:ln w="7632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4089240" y="1225440"/>
            <a:ext cx="1162080" cy="10112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80880" y="1297080"/>
            <a:ext cx="31291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gical Disk 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(What Operating System  can“see”)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76320" y="2976480"/>
            <a:ext cx="2590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00dfca"/>
                </a:solidFill>
                <a:latin typeface="Arial"/>
              </a:rPr>
              <a:t>Raid-Capable DPT Driver Level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00dfca"/>
                </a:solidFill>
                <a:latin typeface="Arial"/>
              </a:rPr>
              <a:t>- Splits  Data Between Hardware LSUs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4024440" y="1577880"/>
            <a:ext cx="153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10011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339360" y="3711600"/>
            <a:ext cx="68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5168160" y="3711600"/>
            <a:ext cx="68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352680" y="4729320"/>
            <a:ext cx="25909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rdware Level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Controller Duplicates Data to Physical Disks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1434240" y="5921280"/>
            <a:ext cx="68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500920" y="5921280"/>
            <a:ext cx="68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5929920" y="5921280"/>
            <a:ext cx="68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072920" y="5921280"/>
            <a:ext cx="68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943600" y="1528920"/>
            <a:ext cx="25909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 System Performs Single Write I/O to DPT Driver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6477120" y="3205080"/>
            <a:ext cx="25905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00ccb9"/>
                </a:solidFill>
                <a:latin typeface="Arial"/>
              </a:rPr>
              <a:t>DPT Driver Performs 2 Write I/Os to Controller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59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2749680" y="371520"/>
            <a:ext cx="4794120" cy="519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Dual Level RAID - 0/5</a:t>
            </a:r>
            <a:endParaRPr b="0" lang="en-US" sz="32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1365120" y="5711760"/>
            <a:ext cx="846360" cy="81288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438280" y="5721480"/>
            <a:ext cx="847800" cy="814320"/>
          </a:xfrm>
          <a:prstGeom prst="ellipse">
            <a:avLst/>
          </a:prstGeom>
          <a:solidFill>
            <a:srgbClr val="a412e4"/>
          </a:solidFill>
          <a:ln w="12600">
            <a:solidFill>
              <a:srgbClr val="c342eb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V="1">
            <a:off x="1774800" y="4355640"/>
            <a:ext cx="523800" cy="7542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834160" y="5680080"/>
            <a:ext cx="849240" cy="81288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985080" y="5689440"/>
            <a:ext cx="846000" cy="81468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flipH="1" flipV="1">
            <a:off x="6718320" y="4280040"/>
            <a:ext cx="736560" cy="7365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603440" y="5029200"/>
            <a:ext cx="303120" cy="628560"/>
          </a:xfrm>
          <a:custGeom>
            <a:avLst/>
            <a:gdLst/>
            <a:ahLst/>
            <a:rect l="l" t="t" r="r" b="b"/>
            <a:pathLst>
              <a:path w="191" h="396">
                <a:moveTo>
                  <a:pt x="95" y="395"/>
                </a:moveTo>
                <a:lnTo>
                  <a:pt x="190" y="201"/>
                </a:lnTo>
                <a:lnTo>
                  <a:pt x="126" y="201"/>
                </a:lnTo>
                <a:lnTo>
                  <a:pt x="126" y="0"/>
                </a:lnTo>
                <a:lnTo>
                  <a:pt x="63" y="0"/>
                </a:lnTo>
                <a:lnTo>
                  <a:pt x="63" y="201"/>
                </a:lnTo>
                <a:lnTo>
                  <a:pt x="0" y="201"/>
                </a:lnTo>
                <a:lnTo>
                  <a:pt x="95" y="395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754360" y="4906800"/>
            <a:ext cx="295200" cy="675000"/>
          </a:xfrm>
          <a:custGeom>
            <a:avLst/>
            <a:gdLst/>
            <a:ahLst/>
            <a:rect l="l" t="t" r="r" b="b"/>
            <a:pathLst>
              <a:path w="186" h="425">
                <a:moveTo>
                  <a:pt x="92" y="424"/>
                </a:moveTo>
                <a:lnTo>
                  <a:pt x="185" y="216"/>
                </a:lnTo>
                <a:lnTo>
                  <a:pt x="123" y="216"/>
                </a:lnTo>
                <a:lnTo>
                  <a:pt x="123" y="0"/>
                </a:lnTo>
                <a:lnTo>
                  <a:pt x="61" y="0"/>
                </a:lnTo>
                <a:lnTo>
                  <a:pt x="61" y="216"/>
                </a:lnTo>
                <a:lnTo>
                  <a:pt x="0" y="216"/>
                </a:lnTo>
                <a:lnTo>
                  <a:pt x="92" y="424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072120" y="4948200"/>
            <a:ext cx="341280" cy="677880"/>
          </a:xfrm>
          <a:custGeom>
            <a:avLst/>
            <a:gdLst/>
            <a:ahLst/>
            <a:rect l="l" t="t" r="r" b="b"/>
            <a:pathLst>
              <a:path w="215" h="427">
                <a:moveTo>
                  <a:pt x="107" y="426"/>
                </a:moveTo>
                <a:lnTo>
                  <a:pt x="214" y="217"/>
                </a:lnTo>
                <a:lnTo>
                  <a:pt x="142" y="217"/>
                </a:lnTo>
                <a:lnTo>
                  <a:pt x="142" y="0"/>
                </a:lnTo>
                <a:lnTo>
                  <a:pt x="72" y="0"/>
                </a:lnTo>
                <a:lnTo>
                  <a:pt x="72" y="217"/>
                </a:lnTo>
                <a:lnTo>
                  <a:pt x="0" y="217"/>
                </a:lnTo>
                <a:lnTo>
                  <a:pt x="107" y="426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7224840" y="4952880"/>
            <a:ext cx="320400" cy="741600"/>
          </a:xfrm>
          <a:custGeom>
            <a:avLst/>
            <a:gdLst/>
            <a:ahLst/>
            <a:rect l="l" t="t" r="r" b="b"/>
            <a:pathLst>
              <a:path w="202" h="467">
                <a:moveTo>
                  <a:pt x="100" y="466"/>
                </a:moveTo>
                <a:lnTo>
                  <a:pt x="201" y="237"/>
                </a:lnTo>
                <a:lnTo>
                  <a:pt x="134" y="237"/>
                </a:lnTo>
                <a:lnTo>
                  <a:pt x="134" y="0"/>
                </a:lnTo>
                <a:lnTo>
                  <a:pt x="67" y="0"/>
                </a:lnTo>
                <a:lnTo>
                  <a:pt x="67" y="237"/>
                </a:lnTo>
                <a:lnTo>
                  <a:pt x="0" y="237"/>
                </a:lnTo>
                <a:lnTo>
                  <a:pt x="100" y="466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 flipH="1">
            <a:off x="2222280" y="4102200"/>
            <a:ext cx="1269720" cy="33012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 flipV="1">
            <a:off x="5727600" y="3898440"/>
            <a:ext cx="1193760" cy="5842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5079960" y="3479760"/>
            <a:ext cx="846000" cy="8143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251160" y="3479760"/>
            <a:ext cx="846000" cy="8143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88920" y="4495680"/>
            <a:ext cx="904068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88920" y="2666880"/>
            <a:ext cx="911844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3557520" y="3048120"/>
            <a:ext cx="254160" cy="444240"/>
          </a:xfrm>
          <a:custGeom>
            <a:avLst/>
            <a:gdLst/>
            <a:ahLst/>
            <a:rect l="l" t="t" r="r" b="b"/>
            <a:pathLst>
              <a:path w="160" h="280">
                <a:moveTo>
                  <a:pt x="79" y="279"/>
                </a:moveTo>
                <a:lnTo>
                  <a:pt x="159" y="142"/>
                </a:lnTo>
                <a:lnTo>
                  <a:pt x="105" y="142"/>
                </a:lnTo>
                <a:lnTo>
                  <a:pt x="105" y="0"/>
                </a:lnTo>
                <a:lnTo>
                  <a:pt x="53" y="0"/>
                </a:lnTo>
                <a:lnTo>
                  <a:pt x="53" y="142"/>
                </a:lnTo>
                <a:lnTo>
                  <a:pt x="0" y="142"/>
                </a:lnTo>
                <a:lnTo>
                  <a:pt x="79" y="279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5386320" y="3048120"/>
            <a:ext cx="254160" cy="444240"/>
          </a:xfrm>
          <a:custGeom>
            <a:avLst/>
            <a:gdLst/>
            <a:ahLst/>
            <a:rect l="l" t="t" r="r" b="b"/>
            <a:pathLst>
              <a:path w="160" h="280">
                <a:moveTo>
                  <a:pt x="79" y="279"/>
                </a:moveTo>
                <a:lnTo>
                  <a:pt x="159" y="142"/>
                </a:lnTo>
                <a:lnTo>
                  <a:pt x="105" y="142"/>
                </a:lnTo>
                <a:lnTo>
                  <a:pt x="105" y="0"/>
                </a:lnTo>
                <a:lnTo>
                  <a:pt x="53" y="0"/>
                </a:lnTo>
                <a:lnTo>
                  <a:pt x="53" y="142"/>
                </a:lnTo>
                <a:lnTo>
                  <a:pt x="0" y="142"/>
                </a:lnTo>
                <a:lnTo>
                  <a:pt x="79" y="279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495680" y="2286000"/>
            <a:ext cx="306360" cy="741240"/>
          </a:xfrm>
          <a:custGeom>
            <a:avLst/>
            <a:gdLst/>
            <a:ahLst/>
            <a:rect l="l" t="t" r="r" b="b"/>
            <a:pathLst>
              <a:path w="193" h="467">
                <a:moveTo>
                  <a:pt x="96" y="466"/>
                </a:moveTo>
                <a:lnTo>
                  <a:pt x="192" y="237"/>
                </a:lnTo>
                <a:lnTo>
                  <a:pt x="128" y="237"/>
                </a:lnTo>
                <a:lnTo>
                  <a:pt x="128" y="0"/>
                </a:lnTo>
                <a:lnTo>
                  <a:pt x="64" y="0"/>
                </a:lnTo>
                <a:lnTo>
                  <a:pt x="64" y="237"/>
                </a:lnTo>
                <a:lnTo>
                  <a:pt x="0" y="237"/>
                </a:lnTo>
                <a:lnTo>
                  <a:pt x="96" y="466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 flipH="1">
            <a:off x="3619440" y="3048120"/>
            <a:ext cx="1981440" cy="0"/>
          </a:xfrm>
          <a:prstGeom prst="line">
            <a:avLst/>
          </a:prstGeom>
          <a:ln w="7632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089240" y="1225440"/>
            <a:ext cx="1162080" cy="10112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80880" y="1297080"/>
            <a:ext cx="31291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gical Disk 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(What Operating System  can“see”)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6320" y="2976480"/>
            <a:ext cx="2590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00dfca"/>
                </a:solidFill>
                <a:latin typeface="Arial"/>
              </a:rPr>
              <a:t>Raid-Capable DPT Driver Level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00dfca"/>
                </a:solidFill>
                <a:latin typeface="Arial"/>
              </a:rPr>
              <a:t>- Splits Data Between Hardware LSUs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024440" y="1577880"/>
            <a:ext cx="153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10011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339360" y="3711600"/>
            <a:ext cx="68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168160" y="3711600"/>
            <a:ext cx="68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352680" y="4729320"/>
            <a:ext cx="25909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rdware Level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Controller Performs XOR Operation, creates Parity, and writes Data/Parity to Physical Disks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434240" y="5921280"/>
            <a:ext cx="68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111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2500920" y="5921280"/>
            <a:ext cx="68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0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929920" y="5921280"/>
            <a:ext cx="68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111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072920" y="5921280"/>
            <a:ext cx="68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943600" y="1528920"/>
            <a:ext cx="25909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 System Performs Single Write I/O to DPT Driver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6477120" y="3205080"/>
            <a:ext cx="25905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en-US" sz="1800" spc="-1" strike="noStrike">
                <a:solidFill>
                  <a:srgbClr val="00ccb9"/>
                </a:solidFill>
                <a:latin typeface="Arial"/>
              </a:rPr>
              <a:t>DPT Driver Performs 2 Write I/Os to Controller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128080" y="5689440"/>
            <a:ext cx="846000" cy="814680"/>
          </a:xfrm>
          <a:prstGeom prst="ellipse">
            <a:avLst/>
          </a:prstGeom>
          <a:solidFill>
            <a:srgbClr val="a72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298440" y="5711760"/>
            <a:ext cx="846000" cy="81288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222960" y="4952880"/>
            <a:ext cx="2260800" cy="0"/>
          </a:xfrm>
          <a:prstGeom prst="line">
            <a:avLst/>
          </a:prstGeom>
          <a:ln w="10152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8367840" y="4952880"/>
            <a:ext cx="320400" cy="741600"/>
          </a:xfrm>
          <a:custGeom>
            <a:avLst/>
            <a:gdLst/>
            <a:ahLst/>
            <a:rect l="l" t="t" r="r" b="b"/>
            <a:pathLst>
              <a:path w="202" h="467">
                <a:moveTo>
                  <a:pt x="100" y="466"/>
                </a:moveTo>
                <a:lnTo>
                  <a:pt x="201" y="237"/>
                </a:lnTo>
                <a:lnTo>
                  <a:pt x="134" y="237"/>
                </a:lnTo>
                <a:lnTo>
                  <a:pt x="134" y="0"/>
                </a:lnTo>
                <a:lnTo>
                  <a:pt x="67" y="0"/>
                </a:lnTo>
                <a:lnTo>
                  <a:pt x="67" y="237"/>
                </a:lnTo>
                <a:lnTo>
                  <a:pt x="0" y="237"/>
                </a:lnTo>
                <a:lnTo>
                  <a:pt x="100" y="466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36560" y="4952880"/>
            <a:ext cx="2108160" cy="0"/>
          </a:xfrm>
          <a:prstGeom prst="line">
            <a:avLst/>
          </a:prstGeom>
          <a:ln w="10152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6400" y="4952880"/>
            <a:ext cx="303480" cy="628920"/>
          </a:xfrm>
          <a:custGeom>
            <a:avLst/>
            <a:gdLst/>
            <a:ahLst/>
            <a:rect l="l" t="t" r="r" b="b"/>
            <a:pathLst>
              <a:path w="191" h="396">
                <a:moveTo>
                  <a:pt x="95" y="395"/>
                </a:moveTo>
                <a:lnTo>
                  <a:pt x="190" y="201"/>
                </a:lnTo>
                <a:lnTo>
                  <a:pt x="126" y="201"/>
                </a:lnTo>
                <a:lnTo>
                  <a:pt x="126" y="0"/>
                </a:lnTo>
                <a:lnTo>
                  <a:pt x="63" y="0"/>
                </a:lnTo>
                <a:lnTo>
                  <a:pt x="63" y="201"/>
                </a:lnTo>
                <a:lnTo>
                  <a:pt x="0" y="201"/>
                </a:lnTo>
                <a:lnTo>
                  <a:pt x="95" y="395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8215920" y="5921280"/>
            <a:ext cx="68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67560" y="5921280"/>
            <a:ext cx="68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1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7985520" y="658512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59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Server OnCall</a:t>
            </a:r>
            <a:br>
              <a:rPr sz="44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he Next Level In Server Fault Toleranc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D Protects Your Data From a Drive Failur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er OnCall Keeps Your Data Accessible Even If Your Server Fails or Locks-up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On Call Monitor Can Protect Up To Three Different Server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NT 4.0, NW 4.11, or SCO 5.04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cates Via The SCSI Bu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Failure Occurs, Server OnCall Takes Control of Shared Hard Drives/RAID Arr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03520" y="2222640"/>
            <a:ext cx="4165560" cy="35532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Mixing Wide &amp; Narrow SCSI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5410080"/>
            <a:ext cx="8913960" cy="1067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OF WIDE SCSI AS TWO SEPARATE 8-BIT DATA PATHS EACH REQUIRING TERMIN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27200" y="2679840"/>
            <a:ext cx="4089600" cy="35532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2755800"/>
            <a:ext cx="0" cy="203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137160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6600" y="1523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3841920"/>
            <a:ext cx="2214360" cy="515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ination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889520" y="2806200"/>
            <a:ext cx="1498680" cy="10162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95400" y="2133720"/>
            <a:ext cx="1595520" cy="847440"/>
            <a:chOff x="995400" y="2133720"/>
            <a:chExt cx="1595520" cy="84744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1100160" y="2133720"/>
              <a:ext cx="1490760" cy="8474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183" name=""/>
            <p:cNvSpPr/>
            <p:nvPr/>
          </p:nvSpPr>
          <p:spPr>
            <a:xfrm>
              <a:off x="995400" y="2319480"/>
              <a:ext cx="145404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troller</a:t>
              </a:r>
              <a:endParaRPr b="0" lang="en-US" sz="18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 flipV="1">
            <a:off x="2501640" y="2806200"/>
            <a:ext cx="1625400" cy="10162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37440" y="2146320"/>
            <a:ext cx="888840" cy="88884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60920" y="2146320"/>
            <a:ext cx="888840" cy="88884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2501640" y="2349000"/>
            <a:ext cx="1625400" cy="14734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889520" y="2349000"/>
            <a:ext cx="1422360" cy="14734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02600" y="224172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8-BIT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83480" y="2698920"/>
            <a:ext cx="155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 8-BIT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85520" y="643248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55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Server OnCall</a:t>
            </a:r>
            <a:br>
              <a:rPr sz="44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he Next Level In Server Fault Tolerance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mplementation Considera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162560" cy="3886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ple CPU’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C’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PU Power of OnCall Sys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hod of Re-introducing Original Server After Failo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329760" y="3108240"/>
            <a:ext cx="4207680" cy="1254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en-US" sz="4000" spc="-1" strike="noStrike">
                <a:solidFill>
                  <a:srgbClr val="fcfeb9"/>
                </a:solidFill>
                <a:latin typeface="Arial"/>
              </a:rPr>
              <a:t>Storage Manager</a:t>
            </a:r>
            <a:endParaRPr b="0" lang="en-US" sz="40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en-US" sz="40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cfeb9"/>
                </a:solidFill>
                <a:latin typeface="Arial"/>
              </a:rPr>
              <a:t>Kits Include:</a:t>
            </a:r>
            <a:endParaRPr b="0" lang="en-US" sz="4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95" name="PlaceHolder 1"/>
          <p:cNvSpPr>
            <a:spLocks noGrp="1"/>
          </p:cNvSpPr>
          <p:nvPr>
            <p:ph/>
          </p:nvPr>
        </p:nvSpPr>
        <p:spPr>
          <a:xfrm>
            <a:off x="4690800" y="3238560"/>
            <a:ext cx="4451400" cy="3618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SI Host Adapte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orage Manager Softwar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l SCSI Cabl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DPT Device Driver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te Documen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6" name=""/>
          <p:cNvGraphicFramePr/>
          <p:nvPr/>
        </p:nvGraphicFramePr>
        <p:xfrm>
          <a:off x="1496880" y="520560"/>
          <a:ext cx="628992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20560"/>
                    <a:ext cx="628992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8" name=""/>
          <p:cNvGraphicFramePr/>
          <p:nvPr/>
        </p:nvGraphicFramePr>
        <p:xfrm>
          <a:off x="2235240" y="1650960"/>
          <a:ext cx="442764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35240" y="1650960"/>
                    <a:ext cx="44276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0" name="" descr=""/>
          <p:cNvPicPr/>
          <p:nvPr/>
        </p:nvPicPr>
        <p:blipFill>
          <a:blip r:embed="rId5"/>
          <a:stretch/>
        </p:blipFill>
        <p:spPr>
          <a:xfrm>
            <a:off x="646200" y="4549680"/>
            <a:ext cx="3583080" cy="1889280"/>
          </a:xfrm>
          <a:prstGeom prst="rect">
            <a:avLst/>
          </a:prstGeom>
          <a:ln w="0">
            <a:noFill/>
          </a:ln>
        </p:spPr>
      </p:pic>
      <p:sp>
        <p:nvSpPr>
          <p:cNvPr id="2001" name=""/>
          <p:cNvSpPr/>
          <p:nvPr/>
        </p:nvSpPr>
        <p:spPr>
          <a:xfrm>
            <a:off x="6493680" y="1631880"/>
            <a:ext cx="9237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CG Times (W1)"/>
              </a:rPr>
              <a:t>IV</a:t>
            </a:r>
            <a:endParaRPr b="0" lang="en-US" sz="6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grpSp>
        <p:nvGrpSpPr>
          <p:cNvPr id="2008" name=""/>
          <p:cNvGrpSpPr/>
          <p:nvPr/>
        </p:nvGrpSpPr>
        <p:grpSpPr>
          <a:xfrm>
            <a:off x="1547640" y="1606680"/>
            <a:ext cx="6337440" cy="3483000"/>
            <a:chOff x="1547640" y="1606680"/>
            <a:chExt cx="6337440" cy="3483000"/>
          </a:xfrm>
        </p:grpSpPr>
        <p:pic>
          <p:nvPicPr>
            <p:cNvPr id="2009" name="" descr=""/>
            <p:cNvPicPr/>
            <p:nvPr/>
          </p:nvPicPr>
          <p:blipFill>
            <a:blip r:embed="rId1"/>
            <a:stretch/>
          </p:blipFill>
          <p:spPr>
            <a:xfrm>
              <a:off x="1547640" y="1606680"/>
              <a:ext cx="4605480" cy="348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0" name="" descr=""/>
            <p:cNvPicPr/>
            <p:nvPr/>
          </p:nvPicPr>
          <p:blipFill>
            <a:blip r:embed="rId2"/>
            <a:stretch/>
          </p:blipFill>
          <p:spPr>
            <a:xfrm>
              <a:off x="6348240" y="2490840"/>
              <a:ext cx="153684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1" name=""/>
          <p:cNvSpPr/>
          <p:nvPr/>
        </p:nvSpPr>
        <p:spPr>
          <a:xfrm>
            <a:off x="0" y="5846760"/>
            <a:ext cx="9113760" cy="74124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performance and uniqueness through software</a:t>
            </a:r>
            <a:endParaRPr b="0" lang="en-US" sz="28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4400" y="11160"/>
            <a:ext cx="9102600" cy="84132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Arial"/>
              </a:rPr>
              <a:t>Storage Manager Software</a:t>
            </a:r>
            <a:endParaRPr b="0" lang="en-US" sz="44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402240" y="2857680"/>
            <a:ext cx="2519640" cy="844200"/>
          </a:xfrm>
          <a:prstGeom prst="roundRect">
            <a:avLst>
              <a:gd name="adj" fmla="val 13819"/>
            </a:avLst>
          </a:prstGeom>
          <a:solidFill>
            <a:srgbClr val="8cf4ea"/>
          </a:solidFill>
          <a:ln w="12600">
            <a:solidFill>
              <a:srgbClr val="8cf4ea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49400" y="2868480"/>
            <a:ext cx="2763720" cy="843120"/>
          </a:xfrm>
          <a:prstGeom prst="roundRect">
            <a:avLst>
              <a:gd name="adj" fmla="val 13843"/>
            </a:avLst>
          </a:prstGeom>
          <a:solidFill>
            <a:srgbClr val="8cf4ea"/>
          </a:solidFill>
          <a:ln w="12600">
            <a:solidFill>
              <a:srgbClr val="8cf4ea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446880" y="1603440"/>
            <a:ext cx="2508120" cy="844560"/>
          </a:xfrm>
          <a:prstGeom prst="roundRect">
            <a:avLst>
              <a:gd name="adj" fmla="val 13819"/>
            </a:avLst>
          </a:prstGeom>
          <a:solidFill>
            <a:srgbClr val="8cf4ea"/>
          </a:solidFill>
          <a:ln w="12600">
            <a:solidFill>
              <a:srgbClr val="8cf4ea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4622760" y="1603440"/>
            <a:ext cx="1538280" cy="844560"/>
          </a:xfrm>
          <a:prstGeom prst="roundRect">
            <a:avLst>
              <a:gd name="adj" fmla="val 12810"/>
            </a:avLst>
          </a:prstGeom>
          <a:solidFill>
            <a:srgbClr val="8cf4ea"/>
          </a:solidFill>
          <a:ln w="12600">
            <a:solidFill>
              <a:srgbClr val="8cf4ea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021120" y="1616040"/>
            <a:ext cx="1338120" cy="841320"/>
          </a:xfrm>
          <a:prstGeom prst="roundRect">
            <a:avLst>
              <a:gd name="adj" fmla="val 11819"/>
            </a:avLst>
          </a:prstGeom>
          <a:solidFill>
            <a:srgbClr val="8cf4ea"/>
          </a:solidFill>
          <a:ln w="12600">
            <a:solidFill>
              <a:srgbClr val="8cf4ea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204840" y="1616040"/>
            <a:ext cx="2530440" cy="841320"/>
          </a:xfrm>
          <a:prstGeom prst="roundRect">
            <a:avLst>
              <a:gd name="adj" fmla="val 13843"/>
            </a:avLst>
          </a:prstGeom>
          <a:solidFill>
            <a:srgbClr val="8cf4ea"/>
          </a:solidFill>
          <a:ln w="12600">
            <a:solidFill>
              <a:srgbClr val="8cf4ea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2025" name="" descr=""/>
          <p:cNvPicPr/>
          <p:nvPr/>
        </p:nvPicPr>
        <p:blipFill>
          <a:blip r:embed="rId1"/>
          <a:stretch/>
        </p:blipFill>
        <p:spPr>
          <a:xfrm>
            <a:off x="3021120" y="3279600"/>
            <a:ext cx="403200" cy="495360"/>
          </a:xfrm>
          <a:prstGeom prst="rect">
            <a:avLst/>
          </a:prstGeom>
          <a:ln w="0">
            <a:noFill/>
          </a:ln>
        </p:spPr>
      </p:pic>
      <p:pic>
        <p:nvPicPr>
          <p:cNvPr id="2026" name="" descr=""/>
          <p:cNvPicPr/>
          <p:nvPr/>
        </p:nvPicPr>
        <p:blipFill>
          <a:blip r:embed="rId2"/>
          <a:stretch/>
        </p:blipFill>
        <p:spPr>
          <a:xfrm>
            <a:off x="5896080" y="3233880"/>
            <a:ext cx="441360" cy="561960"/>
          </a:xfrm>
          <a:prstGeom prst="rect">
            <a:avLst/>
          </a:prstGeom>
          <a:ln w="0">
            <a:noFill/>
          </a:ln>
        </p:spPr>
      </p:pic>
      <p:pic>
        <p:nvPicPr>
          <p:cNvPr id="2027" name="" descr=""/>
          <p:cNvPicPr/>
          <p:nvPr/>
        </p:nvPicPr>
        <p:blipFill>
          <a:blip r:embed="rId3"/>
          <a:stretch/>
        </p:blipFill>
        <p:spPr>
          <a:xfrm>
            <a:off x="2809800" y="2467080"/>
            <a:ext cx="993960" cy="1319040"/>
          </a:xfrm>
          <a:prstGeom prst="rect">
            <a:avLst/>
          </a:prstGeom>
          <a:ln w="0">
            <a:noFill/>
          </a:ln>
        </p:spPr>
      </p:pic>
      <p:pic>
        <p:nvPicPr>
          <p:cNvPr id="2028" name="" descr=""/>
          <p:cNvPicPr/>
          <p:nvPr/>
        </p:nvPicPr>
        <p:blipFill>
          <a:blip r:embed="rId4"/>
          <a:stretch/>
        </p:blipFill>
        <p:spPr>
          <a:xfrm>
            <a:off x="5524560" y="2468520"/>
            <a:ext cx="839880" cy="1297080"/>
          </a:xfrm>
          <a:prstGeom prst="rect">
            <a:avLst/>
          </a:prstGeom>
          <a:ln w="0">
            <a:noFill/>
          </a:ln>
        </p:spPr>
      </p:pic>
      <p:pic>
        <p:nvPicPr>
          <p:cNvPr id="2029" name="" descr=""/>
          <p:cNvPicPr/>
          <p:nvPr/>
        </p:nvPicPr>
        <p:blipFill>
          <a:blip r:embed="rId5"/>
          <a:stretch/>
        </p:blipFill>
        <p:spPr>
          <a:xfrm>
            <a:off x="4975200" y="2476440"/>
            <a:ext cx="442800" cy="1305000"/>
          </a:xfrm>
          <a:prstGeom prst="rect">
            <a:avLst/>
          </a:prstGeom>
          <a:ln w="0">
            <a:noFill/>
          </a:ln>
        </p:spPr>
      </p:pic>
      <p:pic>
        <p:nvPicPr>
          <p:cNvPr id="2030" name="" descr=""/>
          <p:cNvPicPr/>
          <p:nvPr/>
        </p:nvPicPr>
        <p:blipFill>
          <a:blip r:embed="rId6"/>
          <a:stretch/>
        </p:blipFill>
        <p:spPr>
          <a:xfrm>
            <a:off x="3743280" y="2554200"/>
            <a:ext cx="604800" cy="1309680"/>
          </a:xfrm>
          <a:prstGeom prst="rect">
            <a:avLst/>
          </a:prstGeom>
          <a:ln w="0">
            <a:noFill/>
          </a:ln>
        </p:spPr>
      </p:pic>
      <p:sp>
        <p:nvSpPr>
          <p:cNvPr id="2031" name=""/>
          <p:cNvSpPr/>
          <p:nvPr/>
        </p:nvSpPr>
        <p:spPr>
          <a:xfrm>
            <a:off x="1533960" y="146160"/>
            <a:ext cx="6463080" cy="6451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Storage Manager provides</a:t>
            </a:r>
            <a:endParaRPr b="0" lang="en-US" sz="4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266040" y="725400"/>
            <a:ext cx="8721720" cy="660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en-US" sz="4100" spc="-1" strike="noStrike">
                <a:solidFill>
                  <a:srgbClr val="fafd00"/>
                </a:solidFill>
                <a:latin typeface="Arial"/>
              </a:rPr>
              <a:t>all necessary subsystem functions</a:t>
            </a:r>
            <a:endParaRPr b="0" lang="en-US" sz="41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51440" y="2003400"/>
            <a:ext cx="20480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1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30360" y="1679400"/>
            <a:ext cx="1691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UTOMATIC</a:t>
            </a:r>
            <a:endParaRPr b="0" lang="en-US" sz="21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210840" y="2003400"/>
            <a:ext cx="982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21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335040" y="1679400"/>
            <a:ext cx="7437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AID</a:t>
            </a:r>
            <a:endParaRPr b="0" lang="en-US" sz="21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688080" y="3105000"/>
            <a:ext cx="1944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21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39760" y="3268800"/>
            <a:ext cx="25956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51800" y="2948040"/>
            <a:ext cx="218088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1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UNING</a:t>
            </a:r>
            <a:endParaRPr b="0" lang="en-US" sz="21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735080" y="1990800"/>
            <a:ext cx="135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1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886280" y="1668600"/>
            <a:ext cx="1054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1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6583680" y="1981080"/>
            <a:ext cx="2267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ROADCASTING</a:t>
            </a:r>
            <a:endParaRPr b="0" lang="en-US" sz="21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7222320" y="1684440"/>
            <a:ext cx="982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21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2044" name="" descr=""/>
          <p:cNvPicPr/>
          <p:nvPr/>
        </p:nvPicPr>
        <p:blipFill>
          <a:blip r:embed="rId7"/>
          <a:stretch/>
        </p:blipFill>
        <p:spPr>
          <a:xfrm>
            <a:off x="3446640" y="3852720"/>
            <a:ext cx="2460600" cy="1863720"/>
          </a:xfrm>
          <a:prstGeom prst="rect">
            <a:avLst/>
          </a:prstGeom>
          <a:ln w="0">
            <a:noFill/>
          </a:ln>
        </p:spPr>
      </p:pic>
      <p:sp>
        <p:nvSpPr>
          <p:cNvPr id="2045" name=""/>
          <p:cNvSpPr/>
          <p:nvPr/>
        </p:nvSpPr>
        <p:spPr>
          <a:xfrm>
            <a:off x="4194000" y="4249800"/>
            <a:ext cx="51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2046" name="" descr=""/>
          <p:cNvPicPr/>
          <p:nvPr/>
        </p:nvPicPr>
        <p:blipFill>
          <a:blip r:embed="rId8"/>
          <a:stretch/>
        </p:blipFill>
        <p:spPr>
          <a:xfrm>
            <a:off x="3898800" y="4186080"/>
            <a:ext cx="255600" cy="114480"/>
          </a:xfrm>
          <a:prstGeom prst="rect">
            <a:avLst/>
          </a:prstGeom>
          <a:ln w="0">
            <a:noFill/>
          </a:ln>
        </p:spPr>
      </p:pic>
      <p:sp>
        <p:nvSpPr>
          <p:cNvPr id="2047" name=""/>
          <p:cNvSpPr/>
          <p:nvPr/>
        </p:nvSpPr>
        <p:spPr>
          <a:xfrm>
            <a:off x="4414680" y="426096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2048" name="" descr=""/>
          <p:cNvPicPr/>
          <p:nvPr/>
        </p:nvPicPr>
        <p:blipFill>
          <a:blip r:embed="rId9"/>
          <a:stretch/>
        </p:blipFill>
        <p:spPr>
          <a:xfrm>
            <a:off x="3908520" y="5129280"/>
            <a:ext cx="252360" cy="112680"/>
          </a:xfrm>
          <a:prstGeom prst="rect">
            <a:avLst/>
          </a:prstGeom>
          <a:ln w="0">
            <a:noFill/>
          </a:ln>
        </p:spPr>
      </p:pic>
      <p:sp>
        <p:nvSpPr>
          <p:cNvPr id="2049" name=""/>
          <p:cNvSpPr/>
          <p:nvPr/>
        </p:nvSpPr>
        <p:spPr>
          <a:xfrm>
            <a:off x="4419720" y="448776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4419720" y="471960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419720" y="495468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194000" y="5187960"/>
            <a:ext cx="51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4234680" y="4135320"/>
            <a:ext cx="370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CSI Bus</a:t>
            </a:r>
            <a:endParaRPr b="0" lang="en-US" sz="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234680" y="5078520"/>
            <a:ext cx="370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CSI Bus</a:t>
            </a:r>
            <a:endParaRPr b="0" lang="en-US" sz="5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2055" name="" descr=""/>
          <p:cNvPicPr/>
          <p:nvPr/>
        </p:nvPicPr>
        <p:blipFill>
          <a:blip r:embed="rId10"/>
          <a:stretch/>
        </p:blipFill>
        <p:spPr>
          <a:xfrm>
            <a:off x="4749840" y="5127480"/>
            <a:ext cx="209520" cy="123840"/>
          </a:xfrm>
          <a:prstGeom prst="rect">
            <a:avLst/>
          </a:prstGeom>
          <a:ln w="0">
            <a:noFill/>
          </a:ln>
        </p:spPr>
      </p:pic>
      <p:sp>
        <p:nvSpPr>
          <p:cNvPr id="2056" name=""/>
          <p:cNvSpPr/>
          <p:nvPr/>
        </p:nvSpPr>
        <p:spPr>
          <a:xfrm>
            <a:off x="5038560" y="5187960"/>
            <a:ext cx="51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5265720" y="5429160"/>
            <a:ext cx="28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5265720" y="5654520"/>
            <a:ext cx="28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5077800" y="5078520"/>
            <a:ext cx="370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CSI Bus</a:t>
            </a:r>
            <a:endParaRPr b="0" lang="en-US" sz="5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 flipV="1">
            <a:off x="5261040" y="5178240"/>
            <a:ext cx="0" cy="47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2061" name="" descr=""/>
          <p:cNvPicPr/>
          <p:nvPr/>
        </p:nvPicPr>
        <p:blipFill>
          <a:blip r:embed="rId11"/>
          <a:stretch/>
        </p:blipFill>
        <p:spPr>
          <a:xfrm>
            <a:off x="4756320" y="4206960"/>
            <a:ext cx="153720" cy="87120"/>
          </a:xfrm>
          <a:prstGeom prst="rect">
            <a:avLst/>
          </a:prstGeom>
          <a:ln w="0">
            <a:noFill/>
          </a:ln>
        </p:spPr>
      </p:pic>
      <p:sp>
        <p:nvSpPr>
          <p:cNvPr id="2062" name=""/>
          <p:cNvSpPr/>
          <p:nvPr/>
        </p:nvSpPr>
        <p:spPr>
          <a:xfrm>
            <a:off x="4198320" y="3940200"/>
            <a:ext cx="853200" cy="1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17640" bIns="1764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hysical Configuration</a:t>
            </a:r>
            <a:endParaRPr b="0" lang="en-US" sz="600" spc="-1" strike="noStrike">
              <a:solidFill>
                <a:srgbClr val="d49fff"/>
              </a:solidFill>
              <a:latin typeface="Times New Roman"/>
            </a:endParaRPr>
          </a:p>
        </p:txBody>
      </p:sp>
      <p:pic>
        <p:nvPicPr>
          <p:cNvPr id="2063" name="" descr=""/>
          <p:cNvPicPr/>
          <p:nvPr/>
        </p:nvPicPr>
        <p:blipFill>
          <a:blip r:embed="rId12"/>
          <a:stretch/>
        </p:blipFill>
        <p:spPr>
          <a:xfrm>
            <a:off x="4753080" y="4430880"/>
            <a:ext cx="201600" cy="120600"/>
          </a:xfrm>
          <a:prstGeom prst="rect">
            <a:avLst/>
          </a:prstGeom>
          <a:ln w="0">
            <a:noFill/>
          </a:ln>
        </p:spPr>
      </p:pic>
      <p:pic>
        <p:nvPicPr>
          <p:cNvPr id="2064" name="" descr=""/>
          <p:cNvPicPr/>
          <p:nvPr/>
        </p:nvPicPr>
        <p:blipFill>
          <a:blip r:embed="rId13"/>
          <a:stretch/>
        </p:blipFill>
        <p:spPr>
          <a:xfrm>
            <a:off x="4754520" y="4665600"/>
            <a:ext cx="196920" cy="117360"/>
          </a:xfrm>
          <a:prstGeom prst="rect">
            <a:avLst/>
          </a:prstGeom>
          <a:ln w="0">
            <a:noFill/>
          </a:ln>
        </p:spPr>
      </p:pic>
      <p:pic>
        <p:nvPicPr>
          <p:cNvPr id="2065" name="" descr=""/>
          <p:cNvPicPr/>
          <p:nvPr/>
        </p:nvPicPr>
        <p:blipFill>
          <a:blip r:embed="rId14"/>
          <a:stretch/>
        </p:blipFill>
        <p:spPr>
          <a:xfrm>
            <a:off x="4754520" y="4898880"/>
            <a:ext cx="196920" cy="117720"/>
          </a:xfrm>
          <a:prstGeom prst="rect">
            <a:avLst/>
          </a:prstGeom>
          <a:ln w="0">
            <a:noFill/>
          </a:ln>
        </p:spPr>
      </p:pic>
      <p:pic>
        <p:nvPicPr>
          <p:cNvPr id="2066" name="" descr=""/>
          <p:cNvPicPr/>
          <p:nvPr/>
        </p:nvPicPr>
        <p:blipFill>
          <a:blip r:embed="rId15"/>
          <a:stretch/>
        </p:blipFill>
        <p:spPr>
          <a:xfrm>
            <a:off x="5589720" y="5137200"/>
            <a:ext cx="199800" cy="119160"/>
          </a:xfrm>
          <a:prstGeom prst="rect">
            <a:avLst/>
          </a:prstGeom>
          <a:ln w="0">
            <a:noFill/>
          </a:ln>
        </p:spPr>
      </p:pic>
      <p:pic>
        <p:nvPicPr>
          <p:cNvPr id="2067" name="" descr=""/>
          <p:cNvPicPr/>
          <p:nvPr/>
        </p:nvPicPr>
        <p:blipFill>
          <a:blip r:embed="rId16"/>
          <a:stretch/>
        </p:blipFill>
        <p:spPr>
          <a:xfrm>
            <a:off x="5592600" y="5373720"/>
            <a:ext cx="182880" cy="120600"/>
          </a:xfrm>
          <a:prstGeom prst="rect">
            <a:avLst/>
          </a:prstGeom>
          <a:ln w="0">
            <a:noFill/>
          </a:ln>
        </p:spPr>
      </p:pic>
      <p:pic>
        <p:nvPicPr>
          <p:cNvPr id="2068" name="" descr=""/>
          <p:cNvPicPr/>
          <p:nvPr/>
        </p:nvPicPr>
        <p:blipFill>
          <a:blip r:embed="rId17"/>
          <a:stretch/>
        </p:blipFill>
        <p:spPr>
          <a:xfrm>
            <a:off x="5583240" y="5602320"/>
            <a:ext cx="196920" cy="117360"/>
          </a:xfrm>
          <a:prstGeom prst="rect">
            <a:avLst/>
          </a:prstGeom>
          <a:ln w="0">
            <a:noFill/>
          </a:ln>
        </p:spPr>
      </p:pic>
      <p:sp>
        <p:nvSpPr>
          <p:cNvPr id="2069" name=""/>
          <p:cNvSpPr/>
          <p:nvPr/>
        </p:nvSpPr>
        <p:spPr>
          <a:xfrm>
            <a:off x="239760" y="4586400"/>
            <a:ext cx="25956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979560" y="4262400"/>
            <a:ext cx="1114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879480" y="5167440"/>
            <a:ext cx="10954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7124760" y="4537080"/>
            <a:ext cx="1114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6568920" y="4203720"/>
            <a:ext cx="21812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541440" y="5504040"/>
            <a:ext cx="17809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292400" y="2805120"/>
            <a:ext cx="679716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echnical Training</a:t>
            </a:r>
            <a:endParaRPr b="0" lang="en-US" sz="44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9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Question &amp; Answer Time</a:t>
            </a:r>
            <a:endParaRPr b="0" lang="en-US" sz="4400" spc="-1" strike="noStrike">
              <a:solidFill>
                <a:srgbClr val="d49fff"/>
              </a:solidFill>
              <a:latin typeface="Times New Roman"/>
            </a:endParaRPr>
          </a:p>
        </p:txBody>
      </p:sp>
      <p:graphicFrame>
        <p:nvGraphicFramePr>
          <p:cNvPr id="2082" name=""/>
          <p:cNvGraphicFramePr/>
          <p:nvPr/>
        </p:nvGraphicFramePr>
        <p:xfrm>
          <a:off x="1496880" y="520560"/>
          <a:ext cx="628992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20560"/>
                    <a:ext cx="628992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4" name=""/>
          <p:cNvGraphicFramePr/>
          <p:nvPr/>
        </p:nvGraphicFramePr>
        <p:xfrm>
          <a:off x="2235240" y="1650960"/>
          <a:ext cx="442764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35240" y="1650960"/>
                    <a:ext cx="44276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6" name=""/>
          <p:cNvSpPr/>
          <p:nvPr/>
        </p:nvSpPr>
        <p:spPr>
          <a:xfrm>
            <a:off x="6493680" y="1631880"/>
            <a:ext cx="9237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CG Times (W1)"/>
              </a:rPr>
              <a:t>IV</a:t>
            </a:r>
            <a:endParaRPr b="0" lang="en-US" sz="6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178"/>
            </a:gs>
            <a:gs pos="50000">
              <a:srgbClr val="3d2985"/>
            </a:gs>
            <a:gs pos="100000">
              <a:srgbClr val="2811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03520" y="3289320"/>
            <a:ext cx="4165560" cy="43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03520" y="2755800"/>
            <a:ext cx="4165560" cy="3556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Mixing Wide &amp; Narrow SCSI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5410080"/>
            <a:ext cx="8913960" cy="1067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MEMBER - BOTH LOW ORDER BITS AND HIGH ORDER BITS MUST BE TERMINATED 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34320" y="137160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86600" y="1523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69880" y="1555920"/>
            <a:ext cx="3675960" cy="393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-Terminated HIGH 8-bits !!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08840" y="1994040"/>
            <a:ext cx="583920" cy="8125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067040" y="2666880"/>
            <a:ext cx="1523880" cy="1067040"/>
            <a:chOff x="1067040" y="2666880"/>
            <a:chExt cx="1523880" cy="106704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1168560" y="2666880"/>
              <a:ext cx="142236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067040" y="2911320"/>
              <a:ext cx="134856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840" bIns="42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oller</a:t>
              </a:r>
              <a:endParaRPr b="0" lang="en-US" sz="1800" spc="-1" strike="noStrike">
                <a:solidFill>
                  <a:srgbClr val="d49fff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642000" y="3213000"/>
            <a:ext cx="660600" cy="58428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2196720" y="3339720"/>
            <a:ext cx="939960" cy="12445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02600" y="27748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8-BIT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07520" y="3308400"/>
            <a:ext cx="155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 8-BIT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60920" y="2755800"/>
            <a:ext cx="888840" cy="96516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90720" y="4603680"/>
            <a:ext cx="2031480" cy="393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 DEVICES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66000" y="4680000"/>
            <a:ext cx="2374560" cy="393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RROW DEVICE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137040" y="3416040"/>
            <a:ext cx="1803240" cy="11682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880240" y="3568680"/>
            <a:ext cx="1041120" cy="11685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49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85520" y="635652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age 56</a:t>
            </a:r>
            <a:endParaRPr b="0" lang="en-US" sz="2000" spc="-1" strike="noStrike">
              <a:solidFill>
                <a:srgbClr val="d49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07T13:57:10Z</dcterms:created>
  <dc:creator>JJK</dc:creator>
  <dc:description/>
  <dc:language>en-US</dc:language>
  <cp:lastModifiedBy>John Kearney</cp:lastModifiedBy>
  <cp:lastPrinted>1996-07-18T18:28:24Z</cp:lastPrinted>
  <dcterms:modified xsi:type="dcterms:W3CDTF">1998-02-19T22:28:58Z</dcterms:modified>
  <cp:revision>42</cp:revision>
  <dc:subject>SmartCacheIV &amp; SmartRAIDIV</dc:subject>
  <dc:title>Distributed Processing Technology</dc:title>
</cp:coreProperties>
</file>